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E6A-6020-4EEA-8376-4519F97D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D01-5077-4782-8D91-117DA221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D45-15A9-44DD-9563-D06D51F0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9069-B996-4C14-8A20-E04CB436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31D-E7B4-455B-BA32-05DEB0C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31B-50A1-49A0-83B5-DE69CDB3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2D4-2ACE-4A64-B625-C1ECFBF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BC5-1E6F-41B5-A919-0D5FC4D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07B-ED73-445F-8AF1-3AB7684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6FC-726D-4EFD-8B07-3BEB18B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DF1-2B3F-467D-BB5B-AF777C5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2CB-A1F2-4DF3-9F6D-8EBAF2D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A21-0C49-4B75-8FC7-8B7F499DC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-8280" y="0"/>
            <a:ext cx="57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.1: Solving Two 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lution of an Equation</a:t>
            </a:r>
            <a:r>
              <a:rPr b="0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: The value (or values) of the variable that makes the equation </a:t>
            </a:r>
            <a:r>
              <a:rPr b="0" i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rue</a:t>
            </a:r>
            <a:r>
              <a:rPr b="0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38880" y="1828800"/>
            <a:ext cx="91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1) Show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2 is a solution the equation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 = -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0" y="3962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Strategies to solving two-step equations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Try to get the variable </a:t>
            </a:r>
            <a:r>
              <a:rPr b="0" lang="en-US" sz="28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by itself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04a7b"/>
                </a:solidFill>
                <a:uFillTx/>
                <a:latin typeface="Times New Roman"/>
                <a:ea typeface="Times New Roman"/>
              </a:rPr>
              <a:t>UNDO</a:t>
            </a:r>
            <a:r>
              <a:rPr b="0" lang="en-US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whatever is being done to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97"/>
          <p:cNvGrpSpPr/>
          <p:nvPr/>
        </p:nvGrpSpPr>
        <p:grpSpPr>
          <a:xfrm>
            <a:off x="1158840" y="1569960"/>
            <a:ext cx="6750000" cy="1836720"/>
            <a:chOff x="1158840" y="1569960"/>
            <a:chExt cx="6750000" cy="1836720"/>
          </a:xfrm>
        </p:grpSpPr>
        <p:sp>
          <p:nvSpPr>
            <p:cNvPr id="50" name="SMARTInkAnnotation187"/>
            <p:cNvSpPr/>
            <p:nvPr/>
          </p:nvSpPr>
          <p:spPr>
            <a:xfrm>
              <a:off x="2965320" y="1875240"/>
              <a:ext cx="515880" cy="4719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515957" h="471955">
                  <a:moveTo>
                    <a:pt x="120344" y="464335"/>
                  </a:moveTo>
                  <a:lnTo>
                    <a:pt x="128435" y="464335"/>
                  </a:lnTo>
                  <a:lnTo>
                    <a:pt x="131664" y="465182"/>
                  </a:lnTo>
                  <a:lnTo>
                    <a:pt x="140256" y="469572"/>
                  </a:lnTo>
                  <a:lnTo>
                    <a:pt x="145563" y="470896"/>
                  </a:lnTo>
                  <a:lnTo>
                    <a:pt x="157356" y="471641"/>
                  </a:lnTo>
                  <a:lnTo>
                    <a:pt x="171574" y="471862"/>
                  </a:lnTo>
                  <a:lnTo>
                    <a:pt x="245974" y="471954"/>
                  </a:lnTo>
                  <a:lnTo>
                    <a:pt x="259154" y="469697"/>
                  </a:lnTo>
                  <a:lnTo>
                    <a:pt x="273477" y="466718"/>
                  </a:lnTo>
                  <a:lnTo>
                    <a:pt x="288310" y="465394"/>
                  </a:lnTo>
                  <a:lnTo>
                    <a:pt x="301111" y="464806"/>
                  </a:lnTo>
                  <a:lnTo>
                    <a:pt x="313292" y="463698"/>
                  </a:lnTo>
                  <a:lnTo>
                    <a:pt x="327172" y="460383"/>
                  </a:lnTo>
                  <a:lnTo>
                    <a:pt x="341807" y="458345"/>
                  </a:lnTo>
                  <a:lnTo>
                    <a:pt x="355932" y="456593"/>
                  </a:lnTo>
                  <a:lnTo>
                    <a:pt x="367854" y="452992"/>
                  </a:lnTo>
                  <a:lnTo>
                    <a:pt x="388132" y="446204"/>
                  </a:lnTo>
                  <a:lnTo>
                    <a:pt x="400510" y="441319"/>
                  </a:lnTo>
                  <a:lnTo>
                    <a:pt x="411656" y="435479"/>
                  </a:lnTo>
                  <a:lnTo>
                    <a:pt x="427450" y="423518"/>
                  </a:lnTo>
                  <a:lnTo>
                    <a:pt x="442855" y="413388"/>
                  </a:lnTo>
                  <a:lnTo>
                    <a:pt x="457297" y="400886"/>
                  </a:lnTo>
                  <a:lnTo>
                    <a:pt x="468161" y="389750"/>
                  </a:lnTo>
                  <a:lnTo>
                    <a:pt x="477001" y="377846"/>
                  </a:lnTo>
                  <a:lnTo>
                    <a:pt x="484316" y="366347"/>
                  </a:lnTo>
                  <a:lnTo>
                    <a:pt x="490390" y="355591"/>
                  </a:lnTo>
                  <a:lnTo>
                    <a:pt x="495911" y="345167"/>
                  </a:lnTo>
                  <a:lnTo>
                    <a:pt x="498929" y="332631"/>
                  </a:lnTo>
                  <a:lnTo>
                    <a:pt x="501118" y="318593"/>
                  </a:lnTo>
                  <a:lnTo>
                    <a:pt x="504912" y="303888"/>
                  </a:lnTo>
                  <a:lnTo>
                    <a:pt x="509421" y="291143"/>
                  </a:lnTo>
                  <a:lnTo>
                    <a:pt x="511808" y="285374"/>
                  </a:lnTo>
                  <a:lnTo>
                    <a:pt x="514461" y="272190"/>
                  </a:lnTo>
                  <a:lnTo>
                    <a:pt x="515641" y="257864"/>
                  </a:lnTo>
                  <a:lnTo>
                    <a:pt x="515956" y="250488"/>
                  </a:lnTo>
                  <a:lnTo>
                    <a:pt x="515458" y="236365"/>
                  </a:lnTo>
                  <a:lnTo>
                    <a:pt x="512415" y="224444"/>
                  </a:lnTo>
                  <a:lnTo>
                    <a:pt x="505941" y="204168"/>
                  </a:lnTo>
                  <a:lnTo>
                    <a:pt x="503387" y="189532"/>
                  </a:lnTo>
                  <a:lnTo>
                    <a:pt x="502706" y="182073"/>
                  </a:lnTo>
                  <a:lnTo>
                    <a:pt x="500559" y="174560"/>
                  </a:lnTo>
                  <a:lnTo>
                    <a:pt x="497434" y="167012"/>
                  </a:lnTo>
                  <a:lnTo>
                    <a:pt x="489446" y="152698"/>
                  </a:lnTo>
                  <a:lnTo>
                    <a:pt x="480252" y="140692"/>
                  </a:lnTo>
                  <a:lnTo>
                    <a:pt x="472778" y="127454"/>
                  </a:lnTo>
                  <a:lnTo>
                    <a:pt x="465788" y="113950"/>
                  </a:lnTo>
                  <a:lnTo>
                    <a:pt x="457037" y="102304"/>
                  </a:lnTo>
                  <a:lnTo>
                    <a:pt x="447503" y="91483"/>
                  </a:lnTo>
                  <a:lnTo>
                    <a:pt x="436775" y="81030"/>
                  </a:lnTo>
                  <a:lnTo>
                    <a:pt x="423540" y="70739"/>
                  </a:lnTo>
                  <a:lnTo>
                    <a:pt x="409191" y="60521"/>
                  </a:lnTo>
                  <a:lnTo>
                    <a:pt x="395194" y="50336"/>
                  </a:lnTo>
                  <a:lnTo>
                    <a:pt x="383329" y="40164"/>
                  </a:lnTo>
                  <a:lnTo>
                    <a:pt x="370153" y="29999"/>
                  </a:lnTo>
                  <a:lnTo>
                    <a:pt x="355830" y="20684"/>
                  </a:lnTo>
                  <a:lnTo>
                    <a:pt x="340998" y="13721"/>
                  </a:lnTo>
                  <a:lnTo>
                    <a:pt x="325939" y="7804"/>
                  </a:lnTo>
                  <a:lnTo>
                    <a:pt x="310780" y="3199"/>
                  </a:lnTo>
                  <a:lnTo>
                    <a:pt x="295575" y="1152"/>
                  </a:lnTo>
                  <a:lnTo>
                    <a:pt x="287118" y="607"/>
                  </a:lnTo>
                  <a:lnTo>
                    <a:pt x="278094" y="243"/>
                  </a:lnTo>
                  <a:lnTo>
                    <a:pt x="268691" y="0"/>
                  </a:lnTo>
                  <a:lnTo>
                    <a:pt x="259035" y="685"/>
                  </a:lnTo>
                  <a:lnTo>
                    <a:pt x="249212" y="1988"/>
                  </a:lnTo>
                  <a:lnTo>
                    <a:pt x="239276" y="3704"/>
                  </a:lnTo>
                  <a:lnTo>
                    <a:pt x="230112" y="5694"/>
                  </a:lnTo>
                  <a:lnTo>
                    <a:pt x="221463" y="7868"/>
                  </a:lnTo>
                  <a:lnTo>
                    <a:pt x="204233" y="12541"/>
                  </a:lnTo>
                  <a:lnTo>
                    <a:pt x="185286" y="17440"/>
                  </a:lnTo>
                  <a:lnTo>
                    <a:pt x="175492" y="20778"/>
                  </a:lnTo>
                  <a:lnTo>
                    <a:pt x="165576" y="24697"/>
                  </a:lnTo>
                  <a:lnTo>
                    <a:pt x="155579" y="29003"/>
                  </a:lnTo>
                  <a:lnTo>
                    <a:pt x="135440" y="38303"/>
                  </a:lnTo>
                  <a:lnTo>
                    <a:pt x="125328" y="43154"/>
                  </a:lnTo>
                  <a:lnTo>
                    <a:pt x="116047" y="48081"/>
                  </a:lnTo>
                  <a:lnTo>
                    <a:pt x="107319" y="53059"/>
                  </a:lnTo>
                  <a:lnTo>
                    <a:pt x="98961" y="58071"/>
                  </a:lnTo>
                  <a:lnTo>
                    <a:pt x="82901" y="70413"/>
                  </a:lnTo>
                  <a:lnTo>
                    <a:pt x="68143" y="83519"/>
                  </a:lnTo>
                  <a:lnTo>
                    <a:pt x="55939" y="94988"/>
                  </a:lnTo>
                  <a:lnTo>
                    <a:pt x="49468" y="102110"/>
                  </a:lnTo>
                  <a:lnTo>
                    <a:pt x="42613" y="110245"/>
                  </a:lnTo>
                  <a:lnTo>
                    <a:pt x="35503" y="119055"/>
                  </a:lnTo>
                  <a:lnTo>
                    <a:pt x="29917" y="127468"/>
                  </a:lnTo>
                  <a:lnTo>
                    <a:pt x="25346" y="135617"/>
                  </a:lnTo>
                  <a:lnTo>
                    <a:pt x="21452" y="143590"/>
                  </a:lnTo>
                  <a:lnTo>
                    <a:pt x="18010" y="152292"/>
                  </a:lnTo>
                  <a:lnTo>
                    <a:pt x="14867" y="161480"/>
                  </a:lnTo>
                  <a:lnTo>
                    <a:pt x="6401" y="188334"/>
                  </a:lnTo>
                  <a:lnTo>
                    <a:pt x="3742" y="196514"/>
                  </a:lnTo>
                  <a:lnTo>
                    <a:pt x="1969" y="205354"/>
                  </a:lnTo>
                  <a:lnTo>
                    <a:pt x="788" y="214635"/>
                  </a:lnTo>
                  <a:lnTo>
                    <a:pt x="0" y="224208"/>
                  </a:lnTo>
                  <a:lnTo>
                    <a:pt x="321" y="233977"/>
                  </a:lnTo>
                  <a:lnTo>
                    <a:pt x="1382" y="243876"/>
                  </a:lnTo>
                  <a:lnTo>
                    <a:pt x="2936" y="253863"/>
                  </a:lnTo>
                  <a:lnTo>
                    <a:pt x="4819" y="263060"/>
                  </a:lnTo>
                  <a:lnTo>
                    <a:pt x="6921" y="271732"/>
                  </a:lnTo>
                  <a:lnTo>
                    <a:pt x="9168" y="280053"/>
                  </a:lnTo>
                  <a:lnTo>
                    <a:pt x="13924" y="296072"/>
                  </a:lnTo>
                  <a:lnTo>
                    <a:pt x="16377" y="303900"/>
                  </a:lnTo>
                  <a:lnTo>
                    <a:pt x="19706" y="311658"/>
                  </a:lnTo>
                  <a:lnTo>
                    <a:pt x="23619" y="319370"/>
                  </a:lnTo>
                  <a:lnTo>
                    <a:pt x="27921" y="327052"/>
                  </a:lnTo>
                  <a:lnTo>
                    <a:pt x="33329" y="334713"/>
                  </a:lnTo>
                  <a:lnTo>
                    <a:pt x="39474" y="342360"/>
                  </a:lnTo>
                  <a:lnTo>
                    <a:pt x="52228" y="356784"/>
                  </a:lnTo>
                  <a:lnTo>
                    <a:pt x="63542" y="368839"/>
                  </a:lnTo>
                  <a:lnTo>
                    <a:pt x="78730" y="382099"/>
                  </a:lnTo>
                  <a:lnTo>
                    <a:pt x="87521" y="389191"/>
                  </a:lnTo>
                  <a:lnTo>
                    <a:pt x="95922" y="394766"/>
                  </a:lnTo>
                  <a:lnTo>
                    <a:pt x="112030" y="403218"/>
                  </a:lnTo>
                  <a:lnTo>
                    <a:pt x="139424" y="416781"/>
                  </a:lnTo>
                  <a:lnTo>
                    <a:pt x="152248" y="424291"/>
                  </a:lnTo>
                  <a:lnTo>
                    <a:pt x="166487" y="433279"/>
                  </a:lnTo>
                  <a:lnTo>
                    <a:pt x="181304" y="4414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MARTInkAnnotation188"/>
            <p:cNvSpPr/>
            <p:nvPr/>
          </p:nvSpPr>
          <p:spPr>
            <a:xfrm>
              <a:off x="3413520" y="1569960"/>
              <a:ext cx="4144680" cy="434160"/>
            </a:xfrm>
            <a:custGeom>
              <a:avLst/>
              <a:gdLst>
                <a:gd name="textAreaLeft" fmla="*/ 0 w 4144680"/>
                <a:gd name="textAreaRight" fmla="*/ 4145040 w 4144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4144957" h="434341">
                  <a:moveTo>
                    <a:pt x="0" y="381000"/>
                  </a:moveTo>
                  <a:lnTo>
                    <a:pt x="0" y="374439"/>
                  </a:lnTo>
                  <a:lnTo>
                    <a:pt x="4045" y="369649"/>
                  </a:lnTo>
                  <a:lnTo>
                    <a:pt x="6930" y="368352"/>
                  </a:lnTo>
                  <a:lnTo>
                    <a:pt x="23727" y="364014"/>
                  </a:lnTo>
                  <a:lnTo>
                    <a:pt x="48374" y="352830"/>
                  </a:lnTo>
                  <a:lnTo>
                    <a:pt x="77721" y="340330"/>
                  </a:lnTo>
                  <a:lnTo>
                    <a:pt x="89858" y="333009"/>
                  </a:lnTo>
                  <a:lnTo>
                    <a:pt x="95465" y="328686"/>
                  </a:lnTo>
                  <a:lnTo>
                    <a:pt x="101744" y="325804"/>
                  </a:lnTo>
                  <a:lnTo>
                    <a:pt x="139779" y="314463"/>
                  </a:lnTo>
                  <a:lnTo>
                    <a:pt x="175605" y="302195"/>
                  </a:lnTo>
                  <a:lnTo>
                    <a:pt x="215663" y="289551"/>
                  </a:lnTo>
                  <a:lnTo>
                    <a:pt x="263616" y="276859"/>
                  </a:lnTo>
                  <a:lnTo>
                    <a:pt x="308440" y="264160"/>
                  </a:lnTo>
                  <a:lnTo>
                    <a:pt x="394694" y="250989"/>
                  </a:lnTo>
                  <a:lnTo>
                    <a:pt x="459323" y="238437"/>
                  </a:lnTo>
                  <a:lnTo>
                    <a:pt x="539663" y="225744"/>
                  </a:lnTo>
                  <a:lnTo>
                    <a:pt x="640127" y="212877"/>
                  </a:lnTo>
                  <a:lnTo>
                    <a:pt x="761530" y="199894"/>
                  </a:lnTo>
                  <a:lnTo>
                    <a:pt x="861479" y="187618"/>
                  </a:lnTo>
                  <a:lnTo>
                    <a:pt x="952537" y="172690"/>
                  </a:lnTo>
                  <a:lnTo>
                    <a:pt x="1074422" y="159548"/>
                  </a:lnTo>
                  <a:lnTo>
                    <a:pt x="1234126" y="134612"/>
                  </a:lnTo>
                  <a:lnTo>
                    <a:pt x="1348862" y="123753"/>
                  </a:lnTo>
                  <a:lnTo>
                    <a:pt x="1431405" y="111667"/>
                  </a:lnTo>
                  <a:lnTo>
                    <a:pt x="1546933" y="100888"/>
                  </a:lnTo>
                  <a:lnTo>
                    <a:pt x="1629519" y="88806"/>
                  </a:lnTo>
                  <a:lnTo>
                    <a:pt x="1745053" y="78875"/>
                  </a:lnTo>
                  <a:lnTo>
                    <a:pt x="1861022" y="70325"/>
                  </a:lnTo>
                  <a:lnTo>
                    <a:pt x="1979797" y="62121"/>
                  </a:lnTo>
                  <a:lnTo>
                    <a:pt x="2099949" y="53268"/>
                  </a:lnTo>
                  <a:lnTo>
                    <a:pt x="2235522" y="42019"/>
                  </a:lnTo>
                  <a:lnTo>
                    <a:pt x="2351918" y="33093"/>
                  </a:lnTo>
                  <a:lnTo>
                    <a:pt x="2480441" y="24021"/>
                  </a:lnTo>
                  <a:lnTo>
                    <a:pt x="2597499" y="16014"/>
                  </a:lnTo>
                  <a:lnTo>
                    <a:pt x="2713335" y="9254"/>
                  </a:lnTo>
                  <a:lnTo>
                    <a:pt x="2842834" y="6837"/>
                  </a:lnTo>
                  <a:lnTo>
                    <a:pt x="2964915" y="316"/>
                  </a:lnTo>
                  <a:lnTo>
                    <a:pt x="3510272" y="0"/>
                  </a:lnTo>
                  <a:lnTo>
                    <a:pt x="3636800" y="9738"/>
                  </a:lnTo>
                  <a:lnTo>
                    <a:pt x="3753209" y="22937"/>
                  </a:lnTo>
                  <a:lnTo>
                    <a:pt x="3807314" y="35790"/>
                  </a:lnTo>
                  <a:lnTo>
                    <a:pt x="3832912" y="42401"/>
                  </a:lnTo>
                  <a:lnTo>
                    <a:pt x="3866957" y="47322"/>
                  </a:lnTo>
                  <a:lnTo>
                    <a:pt x="3902762" y="58631"/>
                  </a:lnTo>
                  <a:lnTo>
                    <a:pt x="3935788" y="66364"/>
                  </a:lnTo>
                  <a:lnTo>
                    <a:pt x="3955926" y="70181"/>
                  </a:lnTo>
                  <a:lnTo>
                    <a:pt x="3981442" y="79056"/>
                  </a:lnTo>
                  <a:lnTo>
                    <a:pt x="3997581" y="90499"/>
                  </a:lnTo>
                  <a:lnTo>
                    <a:pt x="4018205" y="103452"/>
                  </a:lnTo>
                  <a:lnTo>
                    <a:pt x="4047716" y="116750"/>
                  </a:lnTo>
                  <a:lnTo>
                    <a:pt x="4053143" y="120166"/>
                  </a:lnTo>
                  <a:lnTo>
                    <a:pt x="4065676" y="132219"/>
                  </a:lnTo>
                  <a:lnTo>
                    <a:pt x="4084651" y="144306"/>
                  </a:lnTo>
                  <a:lnTo>
                    <a:pt x="4089620" y="147004"/>
                  </a:lnTo>
                  <a:lnTo>
                    <a:pt x="4097400" y="154517"/>
                  </a:lnTo>
                  <a:lnTo>
                    <a:pt x="4106540" y="166010"/>
                  </a:lnTo>
                  <a:lnTo>
                    <a:pt x="4109293" y="169093"/>
                  </a:lnTo>
                  <a:lnTo>
                    <a:pt x="4124185" y="180125"/>
                  </a:lnTo>
                  <a:lnTo>
                    <a:pt x="4126137" y="182737"/>
                  </a:lnTo>
                  <a:lnTo>
                    <a:pt x="4133314" y="197057"/>
                  </a:lnTo>
                  <a:lnTo>
                    <a:pt x="4135729" y="204139"/>
                  </a:lnTo>
                  <a:lnTo>
                    <a:pt x="4137088" y="215143"/>
                  </a:lnTo>
                  <a:lnTo>
                    <a:pt x="4137278" y="219629"/>
                  </a:lnTo>
                  <a:lnTo>
                    <a:pt x="4138253" y="223466"/>
                  </a:lnTo>
                  <a:lnTo>
                    <a:pt x="4143641" y="235708"/>
                  </a:lnTo>
                  <a:lnTo>
                    <a:pt x="4144794" y="245946"/>
                  </a:lnTo>
                  <a:lnTo>
                    <a:pt x="4144956" y="250324"/>
                  </a:lnTo>
                  <a:lnTo>
                    <a:pt x="4144217" y="254089"/>
                  </a:lnTo>
                  <a:lnTo>
                    <a:pt x="4139206" y="266216"/>
                  </a:lnTo>
                  <a:lnTo>
                    <a:pt x="4138118" y="276435"/>
                  </a:lnTo>
                  <a:lnTo>
                    <a:pt x="4137796" y="287929"/>
                  </a:lnTo>
                  <a:lnTo>
                    <a:pt x="4137750" y="291013"/>
                  </a:lnTo>
                  <a:lnTo>
                    <a:pt x="4136874" y="293915"/>
                  </a:lnTo>
                  <a:lnTo>
                    <a:pt x="4132441" y="302045"/>
                  </a:lnTo>
                  <a:lnTo>
                    <a:pt x="4128257" y="314635"/>
                  </a:lnTo>
                  <a:lnTo>
                    <a:pt x="4125015" y="322718"/>
                  </a:lnTo>
                  <a:lnTo>
                    <a:pt x="4123574" y="329133"/>
                  </a:lnTo>
                  <a:lnTo>
                    <a:pt x="4120675" y="334806"/>
                  </a:lnTo>
                  <a:lnTo>
                    <a:pt x="4118716" y="337504"/>
                  </a:lnTo>
                  <a:lnTo>
                    <a:pt x="4116541" y="342760"/>
                  </a:lnTo>
                  <a:lnTo>
                    <a:pt x="4115960" y="345346"/>
                  </a:lnTo>
                  <a:lnTo>
                    <a:pt x="4113058" y="350479"/>
                  </a:lnTo>
                  <a:lnTo>
                    <a:pt x="4111099" y="353032"/>
                  </a:lnTo>
                  <a:lnTo>
                    <a:pt x="4108921" y="358128"/>
                  </a:lnTo>
                  <a:lnTo>
                    <a:pt x="4108341" y="360672"/>
                  </a:lnTo>
                  <a:lnTo>
                    <a:pt x="4105438" y="365756"/>
                  </a:lnTo>
                  <a:lnTo>
                    <a:pt x="4093706" y="379166"/>
                  </a:lnTo>
                  <a:lnTo>
                    <a:pt x="4089056" y="383854"/>
                  </a:lnTo>
                  <a:lnTo>
                    <a:pt x="4087477" y="386289"/>
                  </a:lnTo>
                  <a:lnTo>
                    <a:pt x="4084409" y="393762"/>
                  </a:lnTo>
                  <a:lnTo>
                    <a:pt x="4080690" y="398808"/>
                  </a:lnTo>
                  <a:lnTo>
                    <a:pt x="4078514" y="400492"/>
                  </a:lnTo>
                  <a:lnTo>
                    <a:pt x="4076216" y="401615"/>
                  </a:lnTo>
                  <a:lnTo>
                    <a:pt x="4073838" y="402363"/>
                  </a:lnTo>
                  <a:lnTo>
                    <a:pt x="4072252" y="403709"/>
                  </a:lnTo>
                  <a:lnTo>
                    <a:pt x="4071195" y="405452"/>
                  </a:lnTo>
                  <a:lnTo>
                    <a:pt x="4069498" y="410289"/>
                  </a:lnTo>
                  <a:lnTo>
                    <a:pt x="4069117" y="417936"/>
                  </a:lnTo>
                  <a:lnTo>
                    <a:pt x="4063850" y="424954"/>
                  </a:lnTo>
                  <a:lnTo>
                    <a:pt x="4061460" y="4343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MARTInkAnnotation189"/>
            <p:cNvSpPr/>
            <p:nvPr/>
          </p:nvSpPr>
          <p:spPr>
            <a:xfrm>
              <a:off x="1158840" y="2400840"/>
              <a:ext cx="332280" cy="327240"/>
            </a:xfrm>
            <a:custGeom>
              <a:avLst/>
              <a:gdLst>
                <a:gd name="textAreaLeft" fmla="*/ 0 w 332280"/>
                <a:gd name="textAreaRight" fmla="*/ 332640 w 3322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332396" h="327320">
                  <a:moveTo>
                    <a:pt x="22105" y="60762"/>
                  </a:moveTo>
                  <a:lnTo>
                    <a:pt x="26150" y="56717"/>
                  </a:lnTo>
                  <a:lnTo>
                    <a:pt x="28189" y="55525"/>
                  </a:lnTo>
                  <a:lnTo>
                    <a:pt x="35949" y="53002"/>
                  </a:lnTo>
                  <a:lnTo>
                    <a:pt x="44062" y="49411"/>
                  </a:lnTo>
                  <a:lnTo>
                    <a:pt x="53313" y="47250"/>
                  </a:lnTo>
                  <a:lnTo>
                    <a:pt x="58150" y="46674"/>
                  </a:lnTo>
                  <a:lnTo>
                    <a:pt x="63915" y="44597"/>
                  </a:lnTo>
                  <a:lnTo>
                    <a:pt x="70298" y="41519"/>
                  </a:lnTo>
                  <a:lnTo>
                    <a:pt x="77094" y="37773"/>
                  </a:lnTo>
                  <a:lnTo>
                    <a:pt x="85011" y="34430"/>
                  </a:lnTo>
                  <a:lnTo>
                    <a:pt x="93676" y="31354"/>
                  </a:lnTo>
                  <a:lnTo>
                    <a:pt x="102839" y="28456"/>
                  </a:lnTo>
                  <a:lnTo>
                    <a:pt x="113181" y="25678"/>
                  </a:lnTo>
                  <a:lnTo>
                    <a:pt x="124309" y="22980"/>
                  </a:lnTo>
                  <a:lnTo>
                    <a:pt x="135961" y="20334"/>
                  </a:lnTo>
                  <a:lnTo>
                    <a:pt x="147962" y="18570"/>
                  </a:lnTo>
                  <a:lnTo>
                    <a:pt x="160197" y="17394"/>
                  </a:lnTo>
                  <a:lnTo>
                    <a:pt x="172586" y="16610"/>
                  </a:lnTo>
                  <a:lnTo>
                    <a:pt x="184232" y="14394"/>
                  </a:lnTo>
                  <a:lnTo>
                    <a:pt x="195383" y="11223"/>
                  </a:lnTo>
                  <a:lnTo>
                    <a:pt x="206204" y="7416"/>
                  </a:lnTo>
                  <a:lnTo>
                    <a:pt x="216804" y="4878"/>
                  </a:lnTo>
                  <a:lnTo>
                    <a:pt x="227258" y="3186"/>
                  </a:lnTo>
                  <a:lnTo>
                    <a:pt x="237613" y="2058"/>
                  </a:lnTo>
                  <a:lnTo>
                    <a:pt x="247057" y="1306"/>
                  </a:lnTo>
                  <a:lnTo>
                    <a:pt x="255893" y="805"/>
                  </a:lnTo>
                  <a:lnTo>
                    <a:pt x="272484" y="248"/>
                  </a:lnTo>
                  <a:lnTo>
                    <a:pt x="288325" y="0"/>
                  </a:lnTo>
                  <a:lnTo>
                    <a:pt x="294412" y="781"/>
                  </a:lnTo>
                  <a:lnTo>
                    <a:pt x="303432" y="3906"/>
                  </a:lnTo>
                  <a:lnTo>
                    <a:pt x="306177" y="5924"/>
                  </a:lnTo>
                  <a:lnTo>
                    <a:pt x="308006" y="8117"/>
                  </a:lnTo>
                  <a:lnTo>
                    <a:pt x="309226" y="10425"/>
                  </a:lnTo>
                  <a:lnTo>
                    <a:pt x="309192" y="12811"/>
                  </a:lnTo>
                  <a:lnTo>
                    <a:pt x="308323" y="15248"/>
                  </a:lnTo>
                  <a:lnTo>
                    <a:pt x="305100" y="20214"/>
                  </a:lnTo>
                  <a:lnTo>
                    <a:pt x="300845" y="25243"/>
                  </a:lnTo>
                  <a:lnTo>
                    <a:pt x="295985" y="28616"/>
                  </a:lnTo>
                  <a:lnTo>
                    <a:pt x="289359" y="32558"/>
                  </a:lnTo>
                  <a:lnTo>
                    <a:pt x="281554" y="36879"/>
                  </a:lnTo>
                  <a:lnTo>
                    <a:pt x="273811" y="41454"/>
                  </a:lnTo>
                  <a:lnTo>
                    <a:pt x="258434" y="51051"/>
                  </a:lnTo>
                  <a:lnTo>
                    <a:pt x="249085" y="55982"/>
                  </a:lnTo>
                  <a:lnTo>
                    <a:pt x="238618" y="60962"/>
                  </a:lnTo>
                  <a:lnTo>
                    <a:pt x="216547" y="71011"/>
                  </a:lnTo>
                  <a:lnTo>
                    <a:pt x="195448" y="81121"/>
                  </a:lnTo>
                  <a:lnTo>
                    <a:pt x="185081" y="87035"/>
                  </a:lnTo>
                  <a:lnTo>
                    <a:pt x="174782" y="93517"/>
                  </a:lnTo>
                  <a:lnTo>
                    <a:pt x="164530" y="100379"/>
                  </a:lnTo>
                  <a:lnTo>
                    <a:pt x="155155" y="105800"/>
                  </a:lnTo>
                  <a:lnTo>
                    <a:pt x="146365" y="110261"/>
                  </a:lnTo>
                  <a:lnTo>
                    <a:pt x="137965" y="114081"/>
                  </a:lnTo>
                  <a:lnTo>
                    <a:pt x="131518" y="118322"/>
                  </a:lnTo>
                  <a:lnTo>
                    <a:pt x="122098" y="127548"/>
                  </a:lnTo>
                  <a:lnTo>
                    <a:pt x="117346" y="135036"/>
                  </a:lnTo>
                  <a:lnTo>
                    <a:pt x="115235" y="141186"/>
                  </a:lnTo>
                  <a:lnTo>
                    <a:pt x="114296" y="146742"/>
                  </a:lnTo>
                  <a:lnTo>
                    <a:pt x="116586" y="149409"/>
                  </a:lnTo>
                  <a:lnTo>
                    <a:pt x="125903" y="154629"/>
                  </a:lnTo>
                  <a:lnTo>
                    <a:pt x="131944" y="156360"/>
                  </a:lnTo>
                  <a:lnTo>
                    <a:pt x="138511" y="157514"/>
                  </a:lnTo>
                  <a:lnTo>
                    <a:pt x="145429" y="158284"/>
                  </a:lnTo>
                  <a:lnTo>
                    <a:pt x="153428" y="159643"/>
                  </a:lnTo>
                  <a:lnTo>
                    <a:pt x="162147" y="161396"/>
                  </a:lnTo>
                  <a:lnTo>
                    <a:pt x="180866" y="165602"/>
                  </a:lnTo>
                  <a:lnTo>
                    <a:pt x="211291" y="172729"/>
                  </a:lnTo>
                  <a:lnTo>
                    <a:pt x="245894" y="180203"/>
                  </a:lnTo>
                  <a:lnTo>
                    <a:pt x="267476" y="185249"/>
                  </a:lnTo>
                  <a:lnTo>
                    <a:pt x="277126" y="188627"/>
                  </a:lnTo>
                  <a:lnTo>
                    <a:pt x="286099" y="192572"/>
                  </a:lnTo>
                  <a:lnTo>
                    <a:pt x="314705" y="207025"/>
                  </a:lnTo>
                  <a:lnTo>
                    <a:pt x="323741" y="214950"/>
                  </a:lnTo>
                  <a:lnTo>
                    <a:pt x="327336" y="219434"/>
                  </a:lnTo>
                  <a:lnTo>
                    <a:pt x="329732" y="224117"/>
                  </a:lnTo>
                  <a:lnTo>
                    <a:pt x="332395" y="233835"/>
                  </a:lnTo>
                  <a:lnTo>
                    <a:pt x="332258" y="238797"/>
                  </a:lnTo>
                  <a:lnTo>
                    <a:pt x="329849" y="248827"/>
                  </a:lnTo>
                  <a:lnTo>
                    <a:pt x="326328" y="253872"/>
                  </a:lnTo>
                  <a:lnTo>
                    <a:pt x="321440" y="258928"/>
                  </a:lnTo>
                  <a:lnTo>
                    <a:pt x="315642" y="263993"/>
                  </a:lnTo>
                  <a:lnTo>
                    <a:pt x="309236" y="268216"/>
                  </a:lnTo>
                  <a:lnTo>
                    <a:pt x="302426" y="271878"/>
                  </a:lnTo>
                  <a:lnTo>
                    <a:pt x="287239" y="279051"/>
                  </a:lnTo>
                  <a:lnTo>
                    <a:pt x="269200" y="287884"/>
                  </a:lnTo>
                  <a:lnTo>
                    <a:pt x="258802" y="292610"/>
                  </a:lnTo>
                  <a:lnTo>
                    <a:pt x="235959" y="302377"/>
                  </a:lnTo>
                  <a:lnTo>
                    <a:pt x="223941" y="306505"/>
                  </a:lnTo>
                  <a:lnTo>
                    <a:pt x="211696" y="310104"/>
                  </a:lnTo>
                  <a:lnTo>
                    <a:pt x="199299" y="313350"/>
                  </a:lnTo>
                  <a:lnTo>
                    <a:pt x="174236" y="319214"/>
                  </a:lnTo>
                  <a:lnTo>
                    <a:pt x="161626" y="321964"/>
                  </a:lnTo>
                  <a:lnTo>
                    <a:pt x="148139" y="323796"/>
                  </a:lnTo>
                  <a:lnTo>
                    <a:pt x="134068" y="325018"/>
                  </a:lnTo>
                  <a:lnTo>
                    <a:pt x="119607" y="325833"/>
                  </a:lnTo>
                  <a:lnTo>
                    <a:pt x="94508" y="326738"/>
                  </a:lnTo>
                  <a:lnTo>
                    <a:pt x="61338" y="327247"/>
                  </a:lnTo>
                  <a:lnTo>
                    <a:pt x="50800" y="327319"/>
                  </a:lnTo>
                  <a:lnTo>
                    <a:pt x="41235" y="326520"/>
                  </a:lnTo>
                  <a:lnTo>
                    <a:pt x="32318" y="325141"/>
                  </a:lnTo>
                  <a:lnTo>
                    <a:pt x="23834" y="323375"/>
                  </a:lnTo>
                  <a:lnTo>
                    <a:pt x="17331" y="321350"/>
                  </a:lnTo>
                  <a:lnTo>
                    <a:pt x="7848" y="316844"/>
                  </a:lnTo>
                  <a:lnTo>
                    <a:pt x="4980" y="314456"/>
                  </a:lnTo>
                  <a:lnTo>
                    <a:pt x="3069" y="312018"/>
                  </a:lnTo>
                  <a:lnTo>
                    <a:pt x="1794" y="309546"/>
                  </a:lnTo>
                  <a:lnTo>
                    <a:pt x="378" y="302284"/>
                  </a:lnTo>
                  <a:lnTo>
                    <a:pt x="0" y="297977"/>
                  </a:lnTo>
                  <a:lnTo>
                    <a:pt x="595" y="294258"/>
                  </a:lnTo>
                  <a:lnTo>
                    <a:pt x="1839" y="290933"/>
                  </a:lnTo>
                  <a:lnTo>
                    <a:pt x="6865" y="2817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Annotation190"/>
            <p:cNvSpPr/>
            <p:nvPr/>
          </p:nvSpPr>
          <p:spPr>
            <a:xfrm>
              <a:off x="1589040" y="2385360"/>
              <a:ext cx="284760" cy="41148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285100" h="411481">
                  <a:moveTo>
                    <a:pt x="71739" y="0"/>
                  </a:moveTo>
                  <a:lnTo>
                    <a:pt x="75784" y="0"/>
                  </a:lnTo>
                  <a:lnTo>
                    <a:pt x="76976" y="847"/>
                  </a:lnTo>
                  <a:lnTo>
                    <a:pt x="77770" y="2258"/>
                  </a:lnTo>
                  <a:lnTo>
                    <a:pt x="79045" y="6561"/>
                  </a:lnTo>
                  <a:lnTo>
                    <a:pt x="76962" y="9407"/>
                  </a:lnTo>
                  <a:lnTo>
                    <a:pt x="73214" y="14341"/>
                  </a:lnTo>
                  <a:lnTo>
                    <a:pt x="68726" y="22178"/>
                  </a:lnTo>
                  <a:lnTo>
                    <a:pt x="63909" y="33564"/>
                  </a:lnTo>
                  <a:lnTo>
                    <a:pt x="58946" y="47091"/>
                  </a:lnTo>
                  <a:lnTo>
                    <a:pt x="53917" y="61569"/>
                  </a:lnTo>
                  <a:lnTo>
                    <a:pt x="50545" y="69833"/>
                  </a:lnTo>
                  <a:lnTo>
                    <a:pt x="46603" y="78729"/>
                  </a:lnTo>
                  <a:lnTo>
                    <a:pt x="42282" y="88046"/>
                  </a:lnTo>
                  <a:lnTo>
                    <a:pt x="38554" y="98491"/>
                  </a:lnTo>
                  <a:lnTo>
                    <a:pt x="35222" y="109687"/>
                  </a:lnTo>
                  <a:lnTo>
                    <a:pt x="32155" y="121385"/>
                  </a:lnTo>
                  <a:lnTo>
                    <a:pt x="28416" y="132570"/>
                  </a:lnTo>
                  <a:lnTo>
                    <a:pt x="24230" y="143414"/>
                  </a:lnTo>
                  <a:lnTo>
                    <a:pt x="19747" y="154029"/>
                  </a:lnTo>
                  <a:lnTo>
                    <a:pt x="15911" y="165339"/>
                  </a:lnTo>
                  <a:lnTo>
                    <a:pt x="12507" y="177113"/>
                  </a:lnTo>
                  <a:lnTo>
                    <a:pt x="9391" y="189195"/>
                  </a:lnTo>
                  <a:lnTo>
                    <a:pt x="3671" y="213909"/>
                  </a:lnTo>
                  <a:lnTo>
                    <a:pt x="960" y="226426"/>
                  </a:lnTo>
                  <a:lnTo>
                    <a:pt x="0" y="239004"/>
                  </a:lnTo>
                  <a:lnTo>
                    <a:pt x="206" y="251623"/>
                  </a:lnTo>
                  <a:lnTo>
                    <a:pt x="1191" y="264269"/>
                  </a:lnTo>
                  <a:lnTo>
                    <a:pt x="3540" y="276086"/>
                  </a:lnTo>
                  <a:lnTo>
                    <a:pt x="6800" y="287351"/>
                  </a:lnTo>
                  <a:lnTo>
                    <a:pt x="10666" y="298247"/>
                  </a:lnTo>
                  <a:lnTo>
                    <a:pt x="14937" y="308898"/>
                  </a:lnTo>
                  <a:lnTo>
                    <a:pt x="19478" y="319385"/>
                  </a:lnTo>
                  <a:lnTo>
                    <a:pt x="24198" y="329764"/>
                  </a:lnTo>
                  <a:lnTo>
                    <a:pt x="30732" y="339222"/>
                  </a:lnTo>
                  <a:lnTo>
                    <a:pt x="38474" y="348068"/>
                  </a:lnTo>
                  <a:lnTo>
                    <a:pt x="47023" y="356506"/>
                  </a:lnTo>
                  <a:lnTo>
                    <a:pt x="56108" y="363823"/>
                  </a:lnTo>
                  <a:lnTo>
                    <a:pt x="65552" y="370396"/>
                  </a:lnTo>
                  <a:lnTo>
                    <a:pt x="75234" y="376470"/>
                  </a:lnTo>
                  <a:lnTo>
                    <a:pt x="86769" y="382214"/>
                  </a:lnTo>
                  <a:lnTo>
                    <a:pt x="99539" y="387736"/>
                  </a:lnTo>
                  <a:lnTo>
                    <a:pt x="113132" y="393110"/>
                  </a:lnTo>
                  <a:lnTo>
                    <a:pt x="127275" y="397540"/>
                  </a:lnTo>
                  <a:lnTo>
                    <a:pt x="141783" y="401340"/>
                  </a:lnTo>
                  <a:lnTo>
                    <a:pt x="156535" y="404720"/>
                  </a:lnTo>
                  <a:lnTo>
                    <a:pt x="172296" y="406974"/>
                  </a:lnTo>
                  <a:lnTo>
                    <a:pt x="188731" y="408475"/>
                  </a:lnTo>
                  <a:lnTo>
                    <a:pt x="219409" y="410145"/>
                  </a:lnTo>
                  <a:lnTo>
                    <a:pt x="241510" y="410887"/>
                  </a:lnTo>
                  <a:lnTo>
                    <a:pt x="285099" y="4114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InkAnnotation191"/>
            <p:cNvSpPr/>
            <p:nvPr/>
          </p:nvSpPr>
          <p:spPr>
            <a:xfrm>
              <a:off x="1706400" y="2514960"/>
              <a:ext cx="198000" cy="2268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98121" h="22861">
                  <a:moveTo>
                    <a:pt x="0" y="22860"/>
                  </a:moveTo>
                  <a:lnTo>
                    <a:pt x="39124" y="22860"/>
                  </a:lnTo>
                  <a:lnTo>
                    <a:pt x="47250" y="22013"/>
                  </a:lnTo>
                  <a:lnTo>
                    <a:pt x="56053" y="20602"/>
                  </a:lnTo>
                  <a:lnTo>
                    <a:pt x="65309" y="18815"/>
                  </a:lnTo>
                  <a:lnTo>
                    <a:pt x="75713" y="17623"/>
                  </a:lnTo>
                  <a:lnTo>
                    <a:pt x="86882" y="16829"/>
                  </a:lnTo>
                  <a:lnTo>
                    <a:pt x="98561" y="16299"/>
                  </a:lnTo>
                  <a:lnTo>
                    <a:pt x="109734" y="15100"/>
                  </a:lnTo>
                  <a:lnTo>
                    <a:pt x="120570" y="13453"/>
                  </a:lnTo>
                  <a:lnTo>
                    <a:pt x="131180" y="11509"/>
                  </a:lnTo>
                  <a:lnTo>
                    <a:pt x="140793" y="10212"/>
                  </a:lnTo>
                  <a:lnTo>
                    <a:pt x="149742" y="9348"/>
                  </a:lnTo>
                  <a:lnTo>
                    <a:pt x="158248" y="8772"/>
                  </a:lnTo>
                  <a:lnTo>
                    <a:pt x="166459" y="7541"/>
                  </a:lnTo>
                  <a:lnTo>
                    <a:pt x="174472" y="5874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InkAnnotation192"/>
            <p:cNvSpPr/>
            <p:nvPr/>
          </p:nvSpPr>
          <p:spPr>
            <a:xfrm>
              <a:off x="1967760" y="2446560"/>
              <a:ext cx="241560" cy="22032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241730" h="220466">
                  <a:moveTo>
                    <a:pt x="5509" y="22830"/>
                  </a:moveTo>
                  <a:lnTo>
                    <a:pt x="12070" y="16269"/>
                  </a:lnTo>
                  <a:lnTo>
                    <a:pt x="14916" y="15681"/>
                  </a:lnTo>
                  <a:lnTo>
                    <a:pt x="16860" y="15524"/>
                  </a:lnTo>
                  <a:lnTo>
                    <a:pt x="23536" y="13092"/>
                  </a:lnTo>
                  <a:lnTo>
                    <a:pt x="27687" y="11258"/>
                  </a:lnTo>
                  <a:lnTo>
                    <a:pt x="32148" y="10035"/>
                  </a:lnTo>
                  <a:lnTo>
                    <a:pt x="36815" y="9220"/>
                  </a:lnTo>
                  <a:lnTo>
                    <a:pt x="41620" y="8677"/>
                  </a:lnTo>
                  <a:lnTo>
                    <a:pt x="47363" y="7468"/>
                  </a:lnTo>
                  <a:lnTo>
                    <a:pt x="53732" y="5815"/>
                  </a:lnTo>
                  <a:lnTo>
                    <a:pt x="60517" y="3867"/>
                  </a:lnTo>
                  <a:lnTo>
                    <a:pt x="66735" y="2568"/>
                  </a:lnTo>
                  <a:lnTo>
                    <a:pt x="72573" y="1702"/>
                  </a:lnTo>
                  <a:lnTo>
                    <a:pt x="78158" y="1125"/>
                  </a:lnTo>
                  <a:lnTo>
                    <a:pt x="85269" y="740"/>
                  </a:lnTo>
                  <a:lnTo>
                    <a:pt x="102200" y="312"/>
                  </a:lnTo>
                  <a:lnTo>
                    <a:pt x="143520" y="0"/>
                  </a:lnTo>
                  <a:lnTo>
                    <a:pt x="149163" y="837"/>
                  </a:lnTo>
                  <a:lnTo>
                    <a:pt x="153772" y="2241"/>
                  </a:lnTo>
                  <a:lnTo>
                    <a:pt x="161150" y="5213"/>
                  </a:lnTo>
                  <a:lnTo>
                    <a:pt x="167252" y="6534"/>
                  </a:lnTo>
                  <a:lnTo>
                    <a:pt x="169218" y="8579"/>
                  </a:lnTo>
                  <a:lnTo>
                    <a:pt x="170528" y="11636"/>
                  </a:lnTo>
                  <a:lnTo>
                    <a:pt x="171402" y="15368"/>
                  </a:lnTo>
                  <a:lnTo>
                    <a:pt x="171138" y="18702"/>
                  </a:lnTo>
                  <a:lnTo>
                    <a:pt x="170115" y="21771"/>
                  </a:lnTo>
                  <a:lnTo>
                    <a:pt x="168586" y="24664"/>
                  </a:lnTo>
                  <a:lnTo>
                    <a:pt x="166720" y="29133"/>
                  </a:lnTo>
                  <a:lnTo>
                    <a:pt x="164630" y="34652"/>
                  </a:lnTo>
                  <a:lnTo>
                    <a:pt x="162390" y="40871"/>
                  </a:lnTo>
                  <a:lnTo>
                    <a:pt x="159203" y="46711"/>
                  </a:lnTo>
                  <a:lnTo>
                    <a:pt x="155385" y="52297"/>
                  </a:lnTo>
                  <a:lnTo>
                    <a:pt x="151146" y="57715"/>
                  </a:lnTo>
                  <a:lnTo>
                    <a:pt x="145780" y="63020"/>
                  </a:lnTo>
                  <a:lnTo>
                    <a:pt x="139664" y="68250"/>
                  </a:lnTo>
                  <a:lnTo>
                    <a:pt x="133045" y="73430"/>
                  </a:lnTo>
                  <a:lnTo>
                    <a:pt x="126093" y="79423"/>
                  </a:lnTo>
                  <a:lnTo>
                    <a:pt x="118919" y="85959"/>
                  </a:lnTo>
                  <a:lnTo>
                    <a:pt x="111595" y="92856"/>
                  </a:lnTo>
                  <a:lnTo>
                    <a:pt x="104173" y="99147"/>
                  </a:lnTo>
                  <a:lnTo>
                    <a:pt x="96686" y="105035"/>
                  </a:lnTo>
                  <a:lnTo>
                    <a:pt x="53578" y="137074"/>
                  </a:lnTo>
                  <a:lnTo>
                    <a:pt x="37033" y="148677"/>
                  </a:lnTo>
                  <a:lnTo>
                    <a:pt x="29912" y="154141"/>
                  </a:lnTo>
                  <a:lnTo>
                    <a:pt x="23471" y="159477"/>
                  </a:lnTo>
                  <a:lnTo>
                    <a:pt x="17484" y="164728"/>
                  </a:lnTo>
                  <a:lnTo>
                    <a:pt x="12645" y="169922"/>
                  </a:lnTo>
                  <a:lnTo>
                    <a:pt x="8573" y="175078"/>
                  </a:lnTo>
                  <a:lnTo>
                    <a:pt x="5012" y="180209"/>
                  </a:lnTo>
                  <a:lnTo>
                    <a:pt x="2638" y="185323"/>
                  </a:lnTo>
                  <a:lnTo>
                    <a:pt x="1055" y="190425"/>
                  </a:lnTo>
                  <a:lnTo>
                    <a:pt x="0" y="195520"/>
                  </a:lnTo>
                  <a:lnTo>
                    <a:pt x="989" y="199763"/>
                  </a:lnTo>
                  <a:lnTo>
                    <a:pt x="3343" y="203439"/>
                  </a:lnTo>
                  <a:lnTo>
                    <a:pt x="6605" y="206736"/>
                  </a:lnTo>
                  <a:lnTo>
                    <a:pt x="11320" y="209781"/>
                  </a:lnTo>
                  <a:lnTo>
                    <a:pt x="17003" y="212657"/>
                  </a:lnTo>
                  <a:lnTo>
                    <a:pt x="23331" y="215421"/>
                  </a:lnTo>
                  <a:lnTo>
                    <a:pt x="30091" y="217265"/>
                  </a:lnTo>
                  <a:lnTo>
                    <a:pt x="37137" y="218493"/>
                  </a:lnTo>
                  <a:lnTo>
                    <a:pt x="44374" y="219312"/>
                  </a:lnTo>
                  <a:lnTo>
                    <a:pt x="52586" y="219858"/>
                  </a:lnTo>
                  <a:lnTo>
                    <a:pt x="61447" y="220222"/>
                  </a:lnTo>
                  <a:lnTo>
                    <a:pt x="70741" y="220465"/>
                  </a:lnTo>
                  <a:lnTo>
                    <a:pt x="81170" y="219780"/>
                  </a:lnTo>
                  <a:lnTo>
                    <a:pt x="92357" y="218477"/>
                  </a:lnTo>
                  <a:lnTo>
                    <a:pt x="104047" y="216761"/>
                  </a:lnTo>
                  <a:lnTo>
                    <a:pt x="128326" y="212597"/>
                  </a:lnTo>
                  <a:lnTo>
                    <a:pt x="140727" y="210302"/>
                  </a:lnTo>
                  <a:lnTo>
                    <a:pt x="153228" y="207078"/>
                  </a:lnTo>
                  <a:lnTo>
                    <a:pt x="165795" y="203235"/>
                  </a:lnTo>
                  <a:lnTo>
                    <a:pt x="178406" y="198980"/>
                  </a:lnTo>
                  <a:lnTo>
                    <a:pt x="188507" y="195297"/>
                  </a:lnTo>
                  <a:lnTo>
                    <a:pt x="196934" y="191995"/>
                  </a:lnTo>
                  <a:lnTo>
                    <a:pt x="204246" y="188946"/>
                  </a:lnTo>
                  <a:lnTo>
                    <a:pt x="211660" y="186067"/>
                  </a:lnTo>
                  <a:lnTo>
                    <a:pt x="241729" y="1752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InkAnnotation193"/>
            <p:cNvSpPr/>
            <p:nvPr/>
          </p:nvSpPr>
          <p:spPr>
            <a:xfrm>
              <a:off x="2216880" y="2347200"/>
              <a:ext cx="163080" cy="39636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63250" h="396241">
                  <a:moveTo>
                    <a:pt x="0" y="0"/>
                  </a:moveTo>
                  <a:lnTo>
                    <a:pt x="4046" y="8090"/>
                  </a:lnTo>
                  <a:lnTo>
                    <a:pt x="6930" y="12167"/>
                  </a:lnTo>
                  <a:lnTo>
                    <a:pt x="10547" y="16578"/>
                  </a:lnTo>
                  <a:lnTo>
                    <a:pt x="14652" y="21212"/>
                  </a:lnTo>
                  <a:lnTo>
                    <a:pt x="23727" y="30877"/>
                  </a:lnTo>
                  <a:lnTo>
                    <a:pt x="54458" y="62016"/>
                  </a:lnTo>
                  <a:lnTo>
                    <a:pt x="69077" y="76669"/>
                  </a:lnTo>
                  <a:lnTo>
                    <a:pt x="76531" y="84980"/>
                  </a:lnTo>
                  <a:lnTo>
                    <a:pt x="84041" y="93907"/>
                  </a:lnTo>
                  <a:lnTo>
                    <a:pt x="91587" y="103244"/>
                  </a:lnTo>
                  <a:lnTo>
                    <a:pt x="98312" y="112856"/>
                  </a:lnTo>
                  <a:lnTo>
                    <a:pt x="104488" y="122651"/>
                  </a:lnTo>
                  <a:lnTo>
                    <a:pt x="130612" y="166750"/>
                  </a:lnTo>
                  <a:lnTo>
                    <a:pt x="136182" y="178053"/>
                  </a:lnTo>
                  <a:lnTo>
                    <a:pt x="140741" y="188976"/>
                  </a:lnTo>
                  <a:lnTo>
                    <a:pt x="144628" y="199644"/>
                  </a:lnTo>
                  <a:lnTo>
                    <a:pt x="148065" y="210989"/>
                  </a:lnTo>
                  <a:lnTo>
                    <a:pt x="151203" y="222786"/>
                  </a:lnTo>
                  <a:lnTo>
                    <a:pt x="162324" y="268092"/>
                  </a:lnTo>
                  <a:lnTo>
                    <a:pt x="163249" y="278634"/>
                  </a:lnTo>
                  <a:lnTo>
                    <a:pt x="163020" y="289050"/>
                  </a:lnTo>
                  <a:lnTo>
                    <a:pt x="162020" y="299380"/>
                  </a:lnTo>
                  <a:lnTo>
                    <a:pt x="159660" y="308807"/>
                  </a:lnTo>
                  <a:lnTo>
                    <a:pt x="156394" y="317631"/>
                  </a:lnTo>
                  <a:lnTo>
                    <a:pt x="152523" y="326054"/>
                  </a:lnTo>
                  <a:lnTo>
                    <a:pt x="147402" y="335056"/>
                  </a:lnTo>
                  <a:lnTo>
                    <a:pt x="141448" y="344444"/>
                  </a:lnTo>
                  <a:lnTo>
                    <a:pt x="134939" y="354089"/>
                  </a:lnTo>
                  <a:lnTo>
                    <a:pt x="128059" y="362213"/>
                  </a:lnTo>
                  <a:lnTo>
                    <a:pt x="120933" y="369322"/>
                  </a:lnTo>
                  <a:lnTo>
                    <a:pt x="107935" y="380890"/>
                  </a:lnTo>
                  <a:lnTo>
                    <a:pt x="91440" y="396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InkAnnotation194"/>
            <p:cNvSpPr/>
            <p:nvPr/>
          </p:nvSpPr>
          <p:spPr>
            <a:xfrm>
              <a:off x="2552400" y="2568240"/>
              <a:ext cx="258840" cy="75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59081" h="7621">
                  <a:moveTo>
                    <a:pt x="0" y="7620"/>
                  </a:moveTo>
                  <a:lnTo>
                    <a:pt x="221689" y="7620"/>
                  </a:lnTo>
                  <a:lnTo>
                    <a:pt x="229072" y="6773"/>
                  </a:lnTo>
                  <a:lnTo>
                    <a:pt x="236535" y="5362"/>
                  </a:lnTo>
                  <a:lnTo>
                    <a:pt x="2590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InkAnnotation195"/>
            <p:cNvSpPr/>
            <p:nvPr/>
          </p:nvSpPr>
          <p:spPr>
            <a:xfrm>
              <a:off x="2864880" y="2438640"/>
              <a:ext cx="310320" cy="28800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310664" h="287920">
                  <a:moveTo>
                    <a:pt x="30468" y="0"/>
                  </a:moveTo>
                  <a:lnTo>
                    <a:pt x="34513" y="0"/>
                  </a:lnTo>
                  <a:lnTo>
                    <a:pt x="35705" y="847"/>
                  </a:lnTo>
                  <a:lnTo>
                    <a:pt x="36499" y="2258"/>
                  </a:lnTo>
                  <a:lnTo>
                    <a:pt x="37029" y="4045"/>
                  </a:lnTo>
                  <a:lnTo>
                    <a:pt x="38228" y="5237"/>
                  </a:lnTo>
                  <a:lnTo>
                    <a:pt x="39875" y="6031"/>
                  </a:lnTo>
                  <a:lnTo>
                    <a:pt x="41820" y="6561"/>
                  </a:lnTo>
                  <a:lnTo>
                    <a:pt x="43116" y="7761"/>
                  </a:lnTo>
                  <a:lnTo>
                    <a:pt x="43980" y="9407"/>
                  </a:lnTo>
                  <a:lnTo>
                    <a:pt x="44556" y="11352"/>
                  </a:lnTo>
                  <a:lnTo>
                    <a:pt x="45196" y="18027"/>
                  </a:lnTo>
                  <a:lnTo>
                    <a:pt x="45367" y="22178"/>
                  </a:lnTo>
                  <a:lnTo>
                    <a:pt x="44634" y="26639"/>
                  </a:lnTo>
                  <a:lnTo>
                    <a:pt x="43299" y="31306"/>
                  </a:lnTo>
                  <a:lnTo>
                    <a:pt x="41562" y="36111"/>
                  </a:lnTo>
                  <a:lnTo>
                    <a:pt x="39557" y="41007"/>
                  </a:lnTo>
                  <a:lnTo>
                    <a:pt x="37374" y="45965"/>
                  </a:lnTo>
                  <a:lnTo>
                    <a:pt x="35072" y="50963"/>
                  </a:lnTo>
                  <a:lnTo>
                    <a:pt x="33537" y="55989"/>
                  </a:lnTo>
                  <a:lnTo>
                    <a:pt x="32515" y="61033"/>
                  </a:lnTo>
                  <a:lnTo>
                    <a:pt x="31832" y="66088"/>
                  </a:lnTo>
                  <a:lnTo>
                    <a:pt x="29684" y="71999"/>
                  </a:lnTo>
                  <a:lnTo>
                    <a:pt x="26559" y="78480"/>
                  </a:lnTo>
                  <a:lnTo>
                    <a:pt x="22782" y="85340"/>
                  </a:lnTo>
                  <a:lnTo>
                    <a:pt x="19417" y="90760"/>
                  </a:lnTo>
                  <a:lnTo>
                    <a:pt x="13421" y="99040"/>
                  </a:lnTo>
                  <a:lnTo>
                    <a:pt x="7934" y="105542"/>
                  </a:lnTo>
                  <a:lnTo>
                    <a:pt x="5285" y="108461"/>
                  </a:lnTo>
                  <a:lnTo>
                    <a:pt x="3520" y="112101"/>
                  </a:lnTo>
                  <a:lnTo>
                    <a:pt x="1558" y="120661"/>
                  </a:lnTo>
                  <a:lnTo>
                    <a:pt x="298" y="128633"/>
                  </a:lnTo>
                  <a:lnTo>
                    <a:pt x="29" y="135870"/>
                  </a:lnTo>
                  <a:lnTo>
                    <a:pt x="0" y="132733"/>
                  </a:lnTo>
                  <a:lnTo>
                    <a:pt x="843" y="131668"/>
                  </a:lnTo>
                  <a:lnTo>
                    <a:pt x="2251" y="130959"/>
                  </a:lnTo>
                  <a:lnTo>
                    <a:pt x="7767" y="129324"/>
                  </a:lnTo>
                  <a:lnTo>
                    <a:pt x="61252" y="111652"/>
                  </a:lnTo>
                  <a:lnTo>
                    <a:pt x="69617" y="109149"/>
                  </a:lnTo>
                  <a:lnTo>
                    <a:pt x="87943" y="104108"/>
                  </a:lnTo>
                  <a:lnTo>
                    <a:pt x="98418" y="102425"/>
                  </a:lnTo>
                  <a:lnTo>
                    <a:pt x="109635" y="101304"/>
                  </a:lnTo>
                  <a:lnTo>
                    <a:pt x="121346" y="100556"/>
                  </a:lnTo>
                  <a:lnTo>
                    <a:pt x="132540" y="100904"/>
                  </a:lnTo>
                  <a:lnTo>
                    <a:pt x="143389" y="101983"/>
                  </a:lnTo>
                  <a:lnTo>
                    <a:pt x="154009" y="103548"/>
                  </a:lnTo>
                  <a:lnTo>
                    <a:pt x="164475" y="104592"/>
                  </a:lnTo>
                  <a:lnTo>
                    <a:pt x="174840" y="105288"/>
                  </a:lnTo>
                  <a:lnTo>
                    <a:pt x="185136" y="105752"/>
                  </a:lnTo>
                  <a:lnTo>
                    <a:pt x="195386" y="107755"/>
                  </a:lnTo>
                  <a:lnTo>
                    <a:pt x="205607" y="110783"/>
                  </a:lnTo>
                  <a:lnTo>
                    <a:pt x="233914" y="120878"/>
                  </a:lnTo>
                  <a:lnTo>
                    <a:pt x="242299" y="123765"/>
                  </a:lnTo>
                  <a:lnTo>
                    <a:pt x="249582" y="127384"/>
                  </a:lnTo>
                  <a:lnTo>
                    <a:pt x="256131" y="131489"/>
                  </a:lnTo>
                  <a:lnTo>
                    <a:pt x="262190" y="135919"/>
                  </a:lnTo>
                  <a:lnTo>
                    <a:pt x="268770" y="141413"/>
                  </a:lnTo>
                  <a:lnTo>
                    <a:pt x="275695" y="147615"/>
                  </a:lnTo>
                  <a:lnTo>
                    <a:pt x="282853" y="154290"/>
                  </a:lnTo>
                  <a:lnTo>
                    <a:pt x="288471" y="160433"/>
                  </a:lnTo>
                  <a:lnTo>
                    <a:pt x="293064" y="166222"/>
                  </a:lnTo>
                  <a:lnTo>
                    <a:pt x="296972" y="171775"/>
                  </a:lnTo>
                  <a:lnTo>
                    <a:pt x="300424" y="178017"/>
                  </a:lnTo>
                  <a:lnTo>
                    <a:pt x="303572" y="184718"/>
                  </a:lnTo>
                  <a:lnTo>
                    <a:pt x="306517" y="191725"/>
                  </a:lnTo>
                  <a:lnTo>
                    <a:pt x="308481" y="198937"/>
                  </a:lnTo>
                  <a:lnTo>
                    <a:pt x="309790" y="206285"/>
                  </a:lnTo>
                  <a:lnTo>
                    <a:pt x="310663" y="213723"/>
                  </a:lnTo>
                  <a:lnTo>
                    <a:pt x="310398" y="220375"/>
                  </a:lnTo>
                  <a:lnTo>
                    <a:pt x="309374" y="226504"/>
                  </a:lnTo>
                  <a:lnTo>
                    <a:pt x="307845" y="232282"/>
                  </a:lnTo>
                  <a:lnTo>
                    <a:pt x="305979" y="237829"/>
                  </a:lnTo>
                  <a:lnTo>
                    <a:pt x="303890" y="243219"/>
                  </a:lnTo>
                  <a:lnTo>
                    <a:pt x="301649" y="248506"/>
                  </a:lnTo>
                  <a:lnTo>
                    <a:pt x="298462" y="253724"/>
                  </a:lnTo>
                  <a:lnTo>
                    <a:pt x="294644" y="258896"/>
                  </a:lnTo>
                  <a:lnTo>
                    <a:pt x="290406" y="264037"/>
                  </a:lnTo>
                  <a:lnTo>
                    <a:pt x="285040" y="268312"/>
                  </a:lnTo>
                  <a:lnTo>
                    <a:pt x="278923" y="272008"/>
                  </a:lnTo>
                  <a:lnTo>
                    <a:pt x="272305" y="275318"/>
                  </a:lnTo>
                  <a:lnTo>
                    <a:pt x="264505" y="278373"/>
                  </a:lnTo>
                  <a:lnTo>
                    <a:pt x="255920" y="281255"/>
                  </a:lnTo>
                  <a:lnTo>
                    <a:pt x="246809" y="284023"/>
                  </a:lnTo>
                  <a:lnTo>
                    <a:pt x="237349" y="285869"/>
                  </a:lnTo>
                  <a:lnTo>
                    <a:pt x="227656" y="287099"/>
                  </a:lnTo>
                  <a:lnTo>
                    <a:pt x="217807" y="287919"/>
                  </a:lnTo>
                  <a:lnTo>
                    <a:pt x="207854" y="287620"/>
                  </a:lnTo>
                  <a:lnTo>
                    <a:pt x="197832" y="286573"/>
                  </a:lnTo>
                  <a:lnTo>
                    <a:pt x="187764" y="285029"/>
                  </a:lnTo>
                  <a:lnTo>
                    <a:pt x="178512" y="283999"/>
                  </a:lnTo>
                  <a:lnTo>
                    <a:pt x="169804" y="283313"/>
                  </a:lnTo>
                  <a:lnTo>
                    <a:pt x="161459" y="282855"/>
                  </a:lnTo>
                  <a:lnTo>
                    <a:pt x="154202" y="281704"/>
                  </a:lnTo>
                  <a:lnTo>
                    <a:pt x="147671" y="280089"/>
                  </a:lnTo>
                  <a:lnTo>
                    <a:pt x="129528" y="2743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MARTInkAnnotation196"/>
            <p:cNvSpPr/>
            <p:nvPr/>
          </p:nvSpPr>
          <p:spPr>
            <a:xfrm>
              <a:off x="2971440" y="2454120"/>
              <a:ext cx="243720" cy="75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43841" h="7621">
                  <a:moveTo>
                    <a:pt x="0" y="0"/>
                  </a:moveTo>
                  <a:lnTo>
                    <a:pt x="129726" y="0"/>
                  </a:lnTo>
                  <a:lnTo>
                    <a:pt x="140671" y="847"/>
                  </a:lnTo>
                  <a:lnTo>
                    <a:pt x="151354" y="2258"/>
                  </a:lnTo>
                  <a:lnTo>
                    <a:pt x="161863" y="4046"/>
                  </a:lnTo>
                  <a:lnTo>
                    <a:pt x="173949" y="5237"/>
                  </a:lnTo>
                  <a:lnTo>
                    <a:pt x="187086" y="6032"/>
                  </a:lnTo>
                  <a:lnTo>
                    <a:pt x="220815" y="7150"/>
                  </a:lnTo>
                  <a:lnTo>
                    <a:pt x="24384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SMARTInkAnnotation197"/>
            <p:cNvSpPr/>
            <p:nvPr/>
          </p:nvSpPr>
          <p:spPr>
            <a:xfrm>
              <a:off x="3413520" y="2560680"/>
              <a:ext cx="243720" cy="22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43841" h="22861">
                  <a:moveTo>
                    <a:pt x="0" y="22860"/>
                  </a:moveTo>
                  <a:lnTo>
                    <a:pt x="6561" y="22860"/>
                  </a:lnTo>
                  <a:lnTo>
                    <a:pt x="7761" y="22013"/>
                  </a:lnTo>
                  <a:lnTo>
                    <a:pt x="9407" y="20603"/>
                  </a:lnTo>
                  <a:lnTo>
                    <a:pt x="11351" y="18815"/>
                  </a:lnTo>
                  <a:lnTo>
                    <a:pt x="15188" y="17623"/>
                  </a:lnTo>
                  <a:lnTo>
                    <a:pt x="20285" y="16829"/>
                  </a:lnTo>
                  <a:lnTo>
                    <a:pt x="26224" y="16299"/>
                  </a:lnTo>
                  <a:lnTo>
                    <a:pt x="31876" y="15946"/>
                  </a:lnTo>
                  <a:lnTo>
                    <a:pt x="42672" y="15554"/>
                  </a:lnTo>
                  <a:lnTo>
                    <a:pt x="48768" y="14603"/>
                  </a:lnTo>
                  <a:lnTo>
                    <a:pt x="55372" y="13122"/>
                  </a:lnTo>
                  <a:lnTo>
                    <a:pt x="62315" y="11288"/>
                  </a:lnTo>
                  <a:lnTo>
                    <a:pt x="70330" y="10066"/>
                  </a:lnTo>
                  <a:lnTo>
                    <a:pt x="79060" y="9250"/>
                  </a:lnTo>
                  <a:lnTo>
                    <a:pt x="88267" y="8707"/>
                  </a:lnTo>
                  <a:lnTo>
                    <a:pt x="107527" y="8103"/>
                  </a:lnTo>
                  <a:lnTo>
                    <a:pt x="117405" y="7942"/>
                  </a:lnTo>
                  <a:lnTo>
                    <a:pt x="127377" y="6988"/>
                  </a:lnTo>
                  <a:lnTo>
                    <a:pt x="137411" y="5506"/>
                  </a:lnTo>
                  <a:lnTo>
                    <a:pt x="147487" y="3671"/>
                  </a:lnTo>
                  <a:lnTo>
                    <a:pt x="158438" y="2447"/>
                  </a:lnTo>
                  <a:lnTo>
                    <a:pt x="169972" y="1632"/>
                  </a:lnTo>
                  <a:lnTo>
                    <a:pt x="191537" y="725"/>
                  </a:lnTo>
                  <a:lnTo>
                    <a:pt x="206765" y="323"/>
                  </a:lnTo>
                  <a:lnTo>
                    <a:pt x="2438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MARTInkAnnotation198"/>
            <p:cNvSpPr/>
            <p:nvPr/>
          </p:nvSpPr>
          <p:spPr>
            <a:xfrm>
              <a:off x="3451320" y="259884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1">
                  <a:moveTo>
                    <a:pt x="0" y="22860"/>
                  </a:moveTo>
                  <a:lnTo>
                    <a:pt x="87008" y="22860"/>
                  </a:lnTo>
                  <a:lnTo>
                    <a:pt x="97799" y="22013"/>
                  </a:lnTo>
                  <a:lnTo>
                    <a:pt x="109226" y="20602"/>
                  </a:lnTo>
                  <a:lnTo>
                    <a:pt x="121077" y="18815"/>
                  </a:lnTo>
                  <a:lnTo>
                    <a:pt x="145534" y="14571"/>
                  </a:lnTo>
                  <a:lnTo>
                    <a:pt x="157983" y="12254"/>
                  </a:lnTo>
                  <a:lnTo>
                    <a:pt x="180846" y="7422"/>
                  </a:lnTo>
                  <a:lnTo>
                    <a:pt x="191684" y="4948"/>
                  </a:lnTo>
                  <a:lnTo>
                    <a:pt x="201449" y="3299"/>
                  </a:lnTo>
                  <a:lnTo>
                    <a:pt x="210500" y="2199"/>
                  </a:lnTo>
                  <a:lnTo>
                    <a:pt x="219074" y="1466"/>
                  </a:lnTo>
                  <a:lnTo>
                    <a:pt x="226483" y="978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MARTInkAnnotation199"/>
            <p:cNvSpPr/>
            <p:nvPr/>
          </p:nvSpPr>
          <p:spPr>
            <a:xfrm>
              <a:off x="3893400" y="2469240"/>
              <a:ext cx="220680" cy="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20981" h="1">
                  <a:moveTo>
                    <a:pt x="0" y="0"/>
                  </a:move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MARTInkAnnotation200"/>
            <p:cNvSpPr/>
            <p:nvPr/>
          </p:nvSpPr>
          <p:spPr>
            <a:xfrm>
              <a:off x="4239360" y="2354760"/>
              <a:ext cx="19440" cy="236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9612" h="236221">
                  <a:moveTo>
                    <a:pt x="19611" y="0"/>
                  </a:moveTo>
                  <a:lnTo>
                    <a:pt x="19611" y="4045"/>
                  </a:lnTo>
                  <a:lnTo>
                    <a:pt x="18764" y="6084"/>
                  </a:lnTo>
                  <a:lnTo>
                    <a:pt x="17354" y="8289"/>
                  </a:lnTo>
                  <a:lnTo>
                    <a:pt x="15566" y="10606"/>
                  </a:lnTo>
                  <a:lnTo>
                    <a:pt x="14374" y="12998"/>
                  </a:lnTo>
                  <a:lnTo>
                    <a:pt x="13580" y="15438"/>
                  </a:lnTo>
                  <a:lnTo>
                    <a:pt x="13050" y="17912"/>
                  </a:lnTo>
                  <a:lnTo>
                    <a:pt x="12462" y="25177"/>
                  </a:lnTo>
                  <a:lnTo>
                    <a:pt x="12201" y="34050"/>
                  </a:lnTo>
                  <a:lnTo>
                    <a:pt x="12085" y="43638"/>
                  </a:lnTo>
                  <a:lnTo>
                    <a:pt x="11207" y="48565"/>
                  </a:lnTo>
                  <a:lnTo>
                    <a:pt x="9775" y="53544"/>
                  </a:lnTo>
                  <a:lnTo>
                    <a:pt x="7974" y="58556"/>
                  </a:lnTo>
                  <a:lnTo>
                    <a:pt x="6773" y="63590"/>
                  </a:lnTo>
                  <a:lnTo>
                    <a:pt x="5973" y="68641"/>
                  </a:lnTo>
                  <a:lnTo>
                    <a:pt x="5439" y="73700"/>
                  </a:lnTo>
                  <a:lnTo>
                    <a:pt x="5083" y="78767"/>
                  </a:lnTo>
                  <a:lnTo>
                    <a:pt x="4846" y="83838"/>
                  </a:lnTo>
                  <a:lnTo>
                    <a:pt x="4583" y="94835"/>
                  </a:lnTo>
                  <a:lnTo>
                    <a:pt x="4465" y="108189"/>
                  </a:lnTo>
                  <a:lnTo>
                    <a:pt x="3587" y="114459"/>
                  </a:lnTo>
                  <a:lnTo>
                    <a:pt x="2155" y="120333"/>
                  </a:lnTo>
                  <a:lnTo>
                    <a:pt x="354" y="125942"/>
                  </a:lnTo>
                  <a:lnTo>
                    <a:pt x="0" y="132221"/>
                  </a:lnTo>
                  <a:lnTo>
                    <a:pt x="610" y="138947"/>
                  </a:lnTo>
                  <a:lnTo>
                    <a:pt x="1864" y="145972"/>
                  </a:lnTo>
                  <a:lnTo>
                    <a:pt x="2700" y="152348"/>
                  </a:lnTo>
                  <a:lnTo>
                    <a:pt x="3257" y="158292"/>
                  </a:lnTo>
                  <a:lnTo>
                    <a:pt x="3628" y="163948"/>
                  </a:lnTo>
                  <a:lnTo>
                    <a:pt x="3876" y="169412"/>
                  </a:lnTo>
                  <a:lnTo>
                    <a:pt x="4151" y="179999"/>
                  </a:lnTo>
                  <a:lnTo>
                    <a:pt x="4366" y="215445"/>
                  </a:lnTo>
                  <a:lnTo>
                    <a:pt x="5214" y="218137"/>
                  </a:lnTo>
                  <a:lnTo>
                    <a:pt x="6626" y="220778"/>
                  </a:lnTo>
                  <a:lnTo>
                    <a:pt x="8415" y="223385"/>
                  </a:lnTo>
                  <a:lnTo>
                    <a:pt x="9607" y="225970"/>
                  </a:lnTo>
                  <a:lnTo>
                    <a:pt x="10402" y="228540"/>
                  </a:lnTo>
                  <a:lnTo>
                    <a:pt x="11992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SMARTInkAnnotation201"/>
            <p:cNvSpPr/>
            <p:nvPr/>
          </p:nvSpPr>
          <p:spPr>
            <a:xfrm>
              <a:off x="4396320" y="2316960"/>
              <a:ext cx="30240" cy="3200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0453" h="320041">
                  <a:moveTo>
                    <a:pt x="30452" y="0"/>
                  </a:moveTo>
                  <a:lnTo>
                    <a:pt x="30452" y="65116"/>
                  </a:lnTo>
                  <a:lnTo>
                    <a:pt x="29606" y="71351"/>
                  </a:lnTo>
                  <a:lnTo>
                    <a:pt x="28194" y="78047"/>
                  </a:lnTo>
                  <a:lnTo>
                    <a:pt x="19846" y="111090"/>
                  </a:lnTo>
                  <a:lnTo>
                    <a:pt x="18302" y="119780"/>
                  </a:lnTo>
                  <a:lnTo>
                    <a:pt x="17272" y="128114"/>
                  </a:lnTo>
                  <a:lnTo>
                    <a:pt x="16585" y="136209"/>
                  </a:lnTo>
                  <a:lnTo>
                    <a:pt x="15281" y="144146"/>
                  </a:lnTo>
                  <a:lnTo>
                    <a:pt x="13565" y="151977"/>
                  </a:lnTo>
                  <a:lnTo>
                    <a:pt x="11574" y="159738"/>
                  </a:lnTo>
                  <a:lnTo>
                    <a:pt x="10246" y="167452"/>
                  </a:lnTo>
                  <a:lnTo>
                    <a:pt x="9362" y="175135"/>
                  </a:lnTo>
                  <a:lnTo>
                    <a:pt x="8772" y="182797"/>
                  </a:lnTo>
                  <a:lnTo>
                    <a:pt x="8379" y="190445"/>
                  </a:lnTo>
                  <a:lnTo>
                    <a:pt x="7941" y="205715"/>
                  </a:lnTo>
                  <a:lnTo>
                    <a:pt x="6978" y="213344"/>
                  </a:lnTo>
                  <a:lnTo>
                    <a:pt x="5490" y="220969"/>
                  </a:lnTo>
                  <a:lnTo>
                    <a:pt x="3651" y="228593"/>
                  </a:lnTo>
                  <a:lnTo>
                    <a:pt x="2424" y="236215"/>
                  </a:lnTo>
                  <a:lnTo>
                    <a:pt x="1607" y="243837"/>
                  </a:lnTo>
                  <a:lnTo>
                    <a:pt x="1061" y="251458"/>
                  </a:lnTo>
                  <a:lnTo>
                    <a:pt x="698" y="258232"/>
                  </a:lnTo>
                  <a:lnTo>
                    <a:pt x="295" y="270275"/>
                  </a:lnTo>
                  <a:lnTo>
                    <a:pt x="15" y="294724"/>
                  </a:lnTo>
                  <a:lnTo>
                    <a:pt x="0" y="298083"/>
                  </a:lnTo>
                  <a:lnTo>
                    <a:pt x="838" y="301169"/>
                  </a:lnTo>
                  <a:lnTo>
                    <a:pt x="2243" y="304072"/>
                  </a:lnTo>
                  <a:lnTo>
                    <a:pt x="4026" y="306855"/>
                  </a:lnTo>
                  <a:lnTo>
                    <a:pt x="5214" y="309557"/>
                  </a:lnTo>
                  <a:lnTo>
                    <a:pt x="6007" y="312205"/>
                  </a:lnTo>
                  <a:lnTo>
                    <a:pt x="7592" y="3200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MARTInkAnnotation202"/>
            <p:cNvSpPr/>
            <p:nvPr/>
          </p:nvSpPr>
          <p:spPr>
            <a:xfrm>
              <a:off x="3817800" y="2194920"/>
              <a:ext cx="1132920" cy="571320"/>
            </a:xfrm>
            <a:custGeom>
              <a:avLst/>
              <a:gdLst>
                <a:gd name="textAreaLeft" fmla="*/ 0 w 1132920"/>
                <a:gd name="textAreaRight" fmla="*/ 1133280 w 11329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132971" h="571357">
                  <a:moveTo>
                    <a:pt x="395641" y="571356"/>
                  </a:moveTo>
                  <a:lnTo>
                    <a:pt x="451892" y="571356"/>
                  </a:lnTo>
                  <a:lnTo>
                    <a:pt x="498286" y="566119"/>
                  </a:lnTo>
                  <a:lnTo>
                    <a:pt x="526773" y="564795"/>
                  </a:lnTo>
                  <a:lnTo>
                    <a:pt x="558627" y="561949"/>
                  </a:lnTo>
                  <a:lnTo>
                    <a:pt x="592538" y="557862"/>
                  </a:lnTo>
                  <a:lnTo>
                    <a:pt x="680294" y="545851"/>
                  </a:lnTo>
                  <a:lnTo>
                    <a:pt x="698016" y="542499"/>
                  </a:lnTo>
                  <a:lnTo>
                    <a:pt x="715757" y="538572"/>
                  </a:lnTo>
                  <a:lnTo>
                    <a:pt x="733511" y="534260"/>
                  </a:lnTo>
                  <a:lnTo>
                    <a:pt x="751275" y="530538"/>
                  </a:lnTo>
                  <a:lnTo>
                    <a:pt x="769043" y="527211"/>
                  </a:lnTo>
                  <a:lnTo>
                    <a:pt x="803744" y="520409"/>
                  </a:lnTo>
                  <a:lnTo>
                    <a:pt x="836099" y="511742"/>
                  </a:lnTo>
                  <a:lnTo>
                    <a:pt x="867413" y="502245"/>
                  </a:lnTo>
                  <a:lnTo>
                    <a:pt x="898264" y="491533"/>
                  </a:lnTo>
                  <a:lnTo>
                    <a:pt x="928908" y="478306"/>
                  </a:lnTo>
                  <a:lnTo>
                    <a:pt x="959462" y="463960"/>
                  </a:lnTo>
                  <a:lnTo>
                    <a:pt x="1012378" y="438100"/>
                  </a:lnTo>
                  <a:lnTo>
                    <a:pt x="1034377" y="422666"/>
                  </a:lnTo>
                  <a:lnTo>
                    <a:pt x="1044985" y="413810"/>
                  </a:lnTo>
                  <a:lnTo>
                    <a:pt x="1055443" y="404519"/>
                  </a:lnTo>
                  <a:lnTo>
                    <a:pt x="1076095" y="385164"/>
                  </a:lnTo>
                  <a:lnTo>
                    <a:pt x="1102716" y="359272"/>
                  </a:lnTo>
                  <a:lnTo>
                    <a:pt x="1109171" y="349534"/>
                  </a:lnTo>
                  <a:lnTo>
                    <a:pt x="1114321" y="338808"/>
                  </a:lnTo>
                  <a:lnTo>
                    <a:pt x="1122301" y="317295"/>
                  </a:lnTo>
                  <a:lnTo>
                    <a:pt x="1128669" y="299267"/>
                  </a:lnTo>
                  <a:lnTo>
                    <a:pt x="1130706" y="290056"/>
                  </a:lnTo>
                  <a:lnTo>
                    <a:pt x="1132064" y="280530"/>
                  </a:lnTo>
                  <a:lnTo>
                    <a:pt x="1132970" y="270792"/>
                  </a:lnTo>
                  <a:lnTo>
                    <a:pt x="1132727" y="260066"/>
                  </a:lnTo>
                  <a:lnTo>
                    <a:pt x="1131718" y="248683"/>
                  </a:lnTo>
                  <a:lnTo>
                    <a:pt x="1130198" y="236861"/>
                  </a:lnTo>
                  <a:lnTo>
                    <a:pt x="1127492" y="226439"/>
                  </a:lnTo>
                  <a:lnTo>
                    <a:pt x="1123995" y="216951"/>
                  </a:lnTo>
                  <a:lnTo>
                    <a:pt x="1115593" y="198789"/>
                  </a:lnTo>
                  <a:lnTo>
                    <a:pt x="1106215" y="179429"/>
                  </a:lnTo>
                  <a:lnTo>
                    <a:pt x="1091886" y="161793"/>
                  </a:lnTo>
                  <a:lnTo>
                    <a:pt x="1055093" y="125730"/>
                  </a:lnTo>
                  <a:lnTo>
                    <a:pt x="1035299" y="108293"/>
                  </a:lnTo>
                  <a:lnTo>
                    <a:pt x="1014367" y="92077"/>
                  </a:lnTo>
                  <a:lnTo>
                    <a:pt x="990952" y="76403"/>
                  </a:lnTo>
                  <a:lnTo>
                    <a:pt x="966434" y="63228"/>
                  </a:lnTo>
                  <a:lnTo>
                    <a:pt x="940579" y="51728"/>
                  </a:lnTo>
                  <a:lnTo>
                    <a:pt x="912156" y="40972"/>
                  </a:lnTo>
                  <a:lnTo>
                    <a:pt x="867592" y="25397"/>
                  </a:lnTo>
                  <a:lnTo>
                    <a:pt x="835126" y="17417"/>
                  </a:lnTo>
                  <a:lnTo>
                    <a:pt x="800941" y="11047"/>
                  </a:lnTo>
                  <a:lnTo>
                    <a:pt x="765991" y="5394"/>
                  </a:lnTo>
                  <a:lnTo>
                    <a:pt x="730703" y="2318"/>
                  </a:lnTo>
                  <a:lnTo>
                    <a:pt x="712996" y="1497"/>
                  </a:lnTo>
                  <a:lnTo>
                    <a:pt x="677516" y="585"/>
                  </a:lnTo>
                  <a:lnTo>
                    <a:pt x="606448" y="0"/>
                  </a:lnTo>
                  <a:lnTo>
                    <a:pt x="587825" y="799"/>
                  </a:lnTo>
                  <a:lnTo>
                    <a:pt x="568637" y="2178"/>
                  </a:lnTo>
                  <a:lnTo>
                    <a:pt x="549071" y="3944"/>
                  </a:lnTo>
                  <a:lnTo>
                    <a:pt x="511527" y="8164"/>
                  </a:lnTo>
                  <a:lnTo>
                    <a:pt x="493219" y="10475"/>
                  </a:lnTo>
                  <a:lnTo>
                    <a:pt x="474239" y="13708"/>
                  </a:lnTo>
                  <a:lnTo>
                    <a:pt x="454812" y="17558"/>
                  </a:lnTo>
                  <a:lnTo>
                    <a:pt x="435089" y="21817"/>
                  </a:lnTo>
                  <a:lnTo>
                    <a:pt x="416013" y="25504"/>
                  </a:lnTo>
                  <a:lnTo>
                    <a:pt x="379012" y="31857"/>
                  </a:lnTo>
                  <a:lnTo>
                    <a:pt x="345070" y="42019"/>
                  </a:lnTo>
                  <a:lnTo>
                    <a:pt x="313051" y="54155"/>
                  </a:lnTo>
                  <a:lnTo>
                    <a:pt x="266465" y="70508"/>
                  </a:lnTo>
                  <a:lnTo>
                    <a:pt x="235782" y="80928"/>
                  </a:lnTo>
                  <a:lnTo>
                    <a:pt x="207471" y="93461"/>
                  </a:lnTo>
                  <a:lnTo>
                    <a:pt x="180776" y="108345"/>
                  </a:lnTo>
                  <a:lnTo>
                    <a:pt x="167730" y="117055"/>
                  </a:lnTo>
                  <a:lnTo>
                    <a:pt x="154801" y="126249"/>
                  </a:lnTo>
                  <a:lnTo>
                    <a:pt x="129145" y="143237"/>
                  </a:lnTo>
                  <a:lnTo>
                    <a:pt x="105325" y="160101"/>
                  </a:lnTo>
                  <a:lnTo>
                    <a:pt x="95416" y="169339"/>
                  </a:lnTo>
                  <a:lnTo>
                    <a:pt x="67078" y="198522"/>
                  </a:lnTo>
                  <a:lnTo>
                    <a:pt x="57219" y="208500"/>
                  </a:lnTo>
                  <a:lnTo>
                    <a:pt x="48953" y="218539"/>
                  </a:lnTo>
                  <a:lnTo>
                    <a:pt x="41749" y="228618"/>
                  </a:lnTo>
                  <a:lnTo>
                    <a:pt x="18020" y="265083"/>
                  </a:lnTo>
                  <a:lnTo>
                    <a:pt x="13506" y="274040"/>
                  </a:lnTo>
                  <a:lnTo>
                    <a:pt x="9651" y="283399"/>
                  </a:lnTo>
                  <a:lnTo>
                    <a:pt x="6235" y="293025"/>
                  </a:lnTo>
                  <a:lnTo>
                    <a:pt x="3956" y="302828"/>
                  </a:lnTo>
                  <a:lnTo>
                    <a:pt x="2438" y="312751"/>
                  </a:lnTo>
                  <a:lnTo>
                    <a:pt x="1426" y="322753"/>
                  </a:lnTo>
                  <a:lnTo>
                    <a:pt x="750" y="332807"/>
                  </a:lnTo>
                  <a:lnTo>
                    <a:pt x="300" y="342897"/>
                  </a:lnTo>
                  <a:lnTo>
                    <a:pt x="0" y="353010"/>
                  </a:lnTo>
                  <a:lnTo>
                    <a:pt x="647" y="362292"/>
                  </a:lnTo>
                  <a:lnTo>
                    <a:pt x="3623" y="379379"/>
                  </a:lnTo>
                  <a:lnTo>
                    <a:pt x="6448" y="388338"/>
                  </a:lnTo>
                  <a:lnTo>
                    <a:pt x="10026" y="397697"/>
                  </a:lnTo>
                  <a:lnTo>
                    <a:pt x="14104" y="407323"/>
                  </a:lnTo>
                  <a:lnTo>
                    <a:pt x="25409" y="424793"/>
                  </a:lnTo>
                  <a:lnTo>
                    <a:pt x="38900" y="441023"/>
                  </a:lnTo>
                  <a:lnTo>
                    <a:pt x="53362" y="456704"/>
                  </a:lnTo>
                  <a:lnTo>
                    <a:pt x="70514" y="469882"/>
                  </a:lnTo>
                  <a:lnTo>
                    <a:pt x="90273" y="482230"/>
                  </a:lnTo>
                  <a:lnTo>
                    <a:pt x="113166" y="496184"/>
                  </a:lnTo>
                  <a:lnTo>
                    <a:pt x="139710" y="508595"/>
                  </a:lnTo>
                  <a:lnTo>
                    <a:pt x="168441" y="518909"/>
                  </a:lnTo>
                  <a:lnTo>
                    <a:pt x="198142" y="526315"/>
                  </a:lnTo>
                  <a:lnTo>
                    <a:pt x="228277" y="532429"/>
                  </a:lnTo>
                  <a:lnTo>
                    <a:pt x="260297" y="537969"/>
                  </a:lnTo>
                  <a:lnTo>
                    <a:pt x="351863" y="550988"/>
                  </a:lnTo>
                  <a:lnTo>
                    <a:pt x="369842" y="552697"/>
                  </a:lnTo>
                  <a:lnTo>
                    <a:pt x="387755" y="553837"/>
                  </a:lnTo>
                  <a:lnTo>
                    <a:pt x="405623" y="554596"/>
                  </a:lnTo>
                  <a:lnTo>
                    <a:pt x="423462" y="555950"/>
                  </a:lnTo>
                  <a:lnTo>
                    <a:pt x="441282" y="557698"/>
                  </a:lnTo>
                  <a:lnTo>
                    <a:pt x="459088" y="559711"/>
                  </a:lnTo>
                  <a:lnTo>
                    <a:pt x="476885" y="561053"/>
                  </a:lnTo>
                  <a:lnTo>
                    <a:pt x="494677" y="561947"/>
                  </a:lnTo>
                  <a:lnTo>
                    <a:pt x="541260" y="563206"/>
                  </a:lnTo>
                  <a:lnTo>
                    <a:pt x="609000" y="5637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MARTInkAnnotation203"/>
            <p:cNvSpPr/>
            <p:nvPr/>
          </p:nvSpPr>
          <p:spPr>
            <a:xfrm>
              <a:off x="5090040" y="2278800"/>
              <a:ext cx="250920" cy="28152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51011" h="281475">
                  <a:moveTo>
                    <a:pt x="121471" y="7612"/>
                  </a:moveTo>
                  <a:lnTo>
                    <a:pt x="121471" y="0"/>
                  </a:lnTo>
                  <a:lnTo>
                    <a:pt x="121471" y="10599"/>
                  </a:lnTo>
                  <a:lnTo>
                    <a:pt x="119213" y="17689"/>
                  </a:lnTo>
                  <a:lnTo>
                    <a:pt x="115387" y="26484"/>
                  </a:lnTo>
                  <a:lnTo>
                    <a:pt x="110865" y="36037"/>
                  </a:lnTo>
                  <a:lnTo>
                    <a:pt x="108473" y="41802"/>
                  </a:lnTo>
                  <a:lnTo>
                    <a:pt x="106032" y="48185"/>
                  </a:lnTo>
                  <a:lnTo>
                    <a:pt x="103559" y="54981"/>
                  </a:lnTo>
                  <a:lnTo>
                    <a:pt x="100216" y="62051"/>
                  </a:lnTo>
                  <a:lnTo>
                    <a:pt x="96294" y="69305"/>
                  </a:lnTo>
                  <a:lnTo>
                    <a:pt x="91986" y="76681"/>
                  </a:lnTo>
                  <a:lnTo>
                    <a:pt x="88268" y="84138"/>
                  </a:lnTo>
                  <a:lnTo>
                    <a:pt x="84942" y="91649"/>
                  </a:lnTo>
                  <a:lnTo>
                    <a:pt x="81878" y="99197"/>
                  </a:lnTo>
                  <a:lnTo>
                    <a:pt x="78142" y="106769"/>
                  </a:lnTo>
                  <a:lnTo>
                    <a:pt x="73958" y="114356"/>
                  </a:lnTo>
                  <a:lnTo>
                    <a:pt x="69476" y="121955"/>
                  </a:lnTo>
                  <a:lnTo>
                    <a:pt x="59980" y="137171"/>
                  </a:lnTo>
                  <a:lnTo>
                    <a:pt x="40086" y="167636"/>
                  </a:lnTo>
                  <a:lnTo>
                    <a:pt x="35887" y="175255"/>
                  </a:lnTo>
                  <a:lnTo>
                    <a:pt x="32242" y="182874"/>
                  </a:lnTo>
                  <a:lnTo>
                    <a:pt x="28965" y="190493"/>
                  </a:lnTo>
                  <a:lnTo>
                    <a:pt x="25934" y="198113"/>
                  </a:lnTo>
                  <a:lnTo>
                    <a:pt x="20307" y="213352"/>
                  </a:lnTo>
                  <a:lnTo>
                    <a:pt x="17622" y="220126"/>
                  </a:lnTo>
                  <a:lnTo>
                    <a:pt x="14985" y="226335"/>
                  </a:lnTo>
                  <a:lnTo>
                    <a:pt x="9797" y="237749"/>
                  </a:lnTo>
                  <a:lnTo>
                    <a:pt x="4669" y="248466"/>
                  </a:lnTo>
                  <a:lnTo>
                    <a:pt x="1826" y="256616"/>
                  </a:lnTo>
                  <a:lnTo>
                    <a:pt x="562" y="263061"/>
                  </a:lnTo>
                  <a:lnTo>
                    <a:pt x="0" y="268747"/>
                  </a:lnTo>
                  <a:lnTo>
                    <a:pt x="697" y="271449"/>
                  </a:lnTo>
                  <a:lnTo>
                    <a:pt x="3729" y="276709"/>
                  </a:lnTo>
                  <a:lnTo>
                    <a:pt x="6570" y="278450"/>
                  </a:lnTo>
                  <a:lnTo>
                    <a:pt x="14241" y="280384"/>
                  </a:lnTo>
                  <a:lnTo>
                    <a:pt x="18658" y="280900"/>
                  </a:lnTo>
                  <a:lnTo>
                    <a:pt x="23295" y="281244"/>
                  </a:lnTo>
                  <a:lnTo>
                    <a:pt x="28080" y="281474"/>
                  </a:lnTo>
                  <a:lnTo>
                    <a:pt x="33810" y="280780"/>
                  </a:lnTo>
                  <a:lnTo>
                    <a:pt x="40171" y="279470"/>
                  </a:lnTo>
                  <a:lnTo>
                    <a:pt x="46950" y="277751"/>
                  </a:lnTo>
                  <a:lnTo>
                    <a:pt x="65773" y="273583"/>
                  </a:lnTo>
                  <a:lnTo>
                    <a:pt x="87403" y="268908"/>
                  </a:lnTo>
                  <a:lnTo>
                    <a:pt x="119466" y="261516"/>
                  </a:lnTo>
                  <a:lnTo>
                    <a:pt x="154555" y="253964"/>
                  </a:lnTo>
                  <a:lnTo>
                    <a:pt x="187624" y="246364"/>
                  </a:lnTo>
                  <a:lnTo>
                    <a:pt x="211550" y="241288"/>
                  </a:lnTo>
                  <a:lnTo>
                    <a:pt x="221317" y="238750"/>
                  </a:lnTo>
                  <a:lnTo>
                    <a:pt x="229521" y="236211"/>
                  </a:lnTo>
                  <a:lnTo>
                    <a:pt x="251010" y="2285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SMARTInkAnnotation204"/>
            <p:cNvSpPr/>
            <p:nvPr/>
          </p:nvSpPr>
          <p:spPr>
            <a:xfrm>
              <a:off x="5375520" y="2431080"/>
              <a:ext cx="140760" cy="11412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40970" h="114197">
                  <a:moveTo>
                    <a:pt x="95249" y="0"/>
                  </a:moveTo>
                  <a:lnTo>
                    <a:pt x="91204" y="4045"/>
                  </a:lnTo>
                  <a:lnTo>
                    <a:pt x="89165" y="5237"/>
                  </a:lnTo>
                  <a:lnTo>
                    <a:pt x="86960" y="6031"/>
                  </a:lnTo>
                  <a:lnTo>
                    <a:pt x="84644" y="6561"/>
                  </a:lnTo>
                  <a:lnTo>
                    <a:pt x="81405" y="6914"/>
                  </a:lnTo>
                  <a:lnTo>
                    <a:pt x="77553" y="7149"/>
                  </a:lnTo>
                  <a:lnTo>
                    <a:pt x="73292" y="7306"/>
                  </a:lnTo>
                  <a:lnTo>
                    <a:pt x="67911" y="8258"/>
                  </a:lnTo>
                  <a:lnTo>
                    <a:pt x="61783" y="9738"/>
                  </a:lnTo>
                  <a:lnTo>
                    <a:pt x="55158" y="11572"/>
                  </a:lnTo>
                  <a:lnTo>
                    <a:pt x="49895" y="12795"/>
                  </a:lnTo>
                  <a:lnTo>
                    <a:pt x="45540" y="13610"/>
                  </a:lnTo>
                  <a:lnTo>
                    <a:pt x="41790" y="14153"/>
                  </a:lnTo>
                  <a:lnTo>
                    <a:pt x="37597" y="15362"/>
                  </a:lnTo>
                  <a:lnTo>
                    <a:pt x="33107" y="17015"/>
                  </a:lnTo>
                  <a:lnTo>
                    <a:pt x="28421" y="18963"/>
                  </a:lnTo>
                  <a:lnTo>
                    <a:pt x="23604" y="21109"/>
                  </a:lnTo>
                  <a:lnTo>
                    <a:pt x="6751" y="29079"/>
                  </a:lnTo>
                  <a:lnTo>
                    <a:pt x="2858" y="32115"/>
                  </a:lnTo>
                  <a:lnTo>
                    <a:pt x="635" y="34110"/>
                  </a:lnTo>
                  <a:lnTo>
                    <a:pt x="0" y="35440"/>
                  </a:lnTo>
                  <a:lnTo>
                    <a:pt x="423" y="36327"/>
                  </a:lnTo>
                  <a:lnTo>
                    <a:pt x="1551" y="36918"/>
                  </a:lnTo>
                  <a:lnTo>
                    <a:pt x="2305" y="38159"/>
                  </a:lnTo>
                  <a:lnTo>
                    <a:pt x="2806" y="39833"/>
                  </a:lnTo>
                  <a:lnTo>
                    <a:pt x="3140" y="41795"/>
                  </a:lnTo>
                  <a:lnTo>
                    <a:pt x="4210" y="43103"/>
                  </a:lnTo>
                  <a:lnTo>
                    <a:pt x="5769" y="43976"/>
                  </a:lnTo>
                  <a:lnTo>
                    <a:pt x="7656" y="44557"/>
                  </a:lnTo>
                  <a:lnTo>
                    <a:pt x="10607" y="45792"/>
                  </a:lnTo>
                  <a:lnTo>
                    <a:pt x="14268" y="47461"/>
                  </a:lnTo>
                  <a:lnTo>
                    <a:pt x="18401" y="49421"/>
                  </a:lnTo>
                  <a:lnTo>
                    <a:pt x="22851" y="50727"/>
                  </a:lnTo>
                  <a:lnTo>
                    <a:pt x="27510" y="51598"/>
                  </a:lnTo>
                  <a:lnTo>
                    <a:pt x="32310" y="52179"/>
                  </a:lnTo>
                  <a:lnTo>
                    <a:pt x="36356" y="53413"/>
                  </a:lnTo>
                  <a:lnTo>
                    <a:pt x="39901" y="55082"/>
                  </a:lnTo>
                  <a:lnTo>
                    <a:pt x="43110" y="57041"/>
                  </a:lnTo>
                  <a:lnTo>
                    <a:pt x="46096" y="58347"/>
                  </a:lnTo>
                  <a:lnTo>
                    <a:pt x="48934" y="59218"/>
                  </a:lnTo>
                  <a:lnTo>
                    <a:pt x="51672" y="59799"/>
                  </a:lnTo>
                  <a:lnTo>
                    <a:pt x="54344" y="61033"/>
                  </a:lnTo>
                  <a:lnTo>
                    <a:pt x="56972" y="62702"/>
                  </a:lnTo>
                  <a:lnTo>
                    <a:pt x="64313" y="68236"/>
                  </a:lnTo>
                  <a:lnTo>
                    <a:pt x="62309" y="70685"/>
                  </a:lnTo>
                  <a:lnTo>
                    <a:pt x="60589" y="72523"/>
                  </a:lnTo>
                  <a:lnTo>
                    <a:pt x="59442" y="74596"/>
                  </a:lnTo>
                  <a:lnTo>
                    <a:pt x="58678" y="76824"/>
                  </a:lnTo>
                  <a:lnTo>
                    <a:pt x="58168" y="79156"/>
                  </a:lnTo>
                  <a:lnTo>
                    <a:pt x="56981" y="80710"/>
                  </a:lnTo>
                  <a:lnTo>
                    <a:pt x="55344" y="81747"/>
                  </a:lnTo>
                  <a:lnTo>
                    <a:pt x="53406" y="82438"/>
                  </a:lnTo>
                  <a:lnTo>
                    <a:pt x="52114" y="83745"/>
                  </a:lnTo>
                  <a:lnTo>
                    <a:pt x="51252" y="85464"/>
                  </a:lnTo>
                  <a:lnTo>
                    <a:pt x="50678" y="87456"/>
                  </a:lnTo>
                  <a:lnTo>
                    <a:pt x="50295" y="89630"/>
                  </a:lnTo>
                  <a:lnTo>
                    <a:pt x="50040" y="91927"/>
                  </a:lnTo>
                  <a:lnTo>
                    <a:pt x="49869" y="94305"/>
                  </a:lnTo>
                  <a:lnTo>
                    <a:pt x="49756" y="96736"/>
                  </a:lnTo>
                  <a:lnTo>
                    <a:pt x="49630" y="101696"/>
                  </a:lnTo>
                  <a:lnTo>
                    <a:pt x="50443" y="103357"/>
                  </a:lnTo>
                  <a:lnTo>
                    <a:pt x="51832" y="104465"/>
                  </a:lnTo>
                  <a:lnTo>
                    <a:pt x="53604" y="105203"/>
                  </a:lnTo>
                  <a:lnTo>
                    <a:pt x="60090" y="108281"/>
                  </a:lnTo>
                  <a:lnTo>
                    <a:pt x="64189" y="110288"/>
                  </a:lnTo>
                  <a:lnTo>
                    <a:pt x="69462" y="111625"/>
                  </a:lnTo>
                  <a:lnTo>
                    <a:pt x="75519" y="112517"/>
                  </a:lnTo>
                  <a:lnTo>
                    <a:pt x="82095" y="113111"/>
                  </a:lnTo>
                  <a:lnTo>
                    <a:pt x="88174" y="113508"/>
                  </a:lnTo>
                  <a:lnTo>
                    <a:pt x="99442" y="113948"/>
                  </a:lnTo>
                  <a:lnTo>
                    <a:pt x="115306" y="114196"/>
                  </a:lnTo>
                  <a:lnTo>
                    <a:pt x="120473" y="113384"/>
                  </a:lnTo>
                  <a:lnTo>
                    <a:pt x="125612" y="111996"/>
                  </a:lnTo>
                  <a:lnTo>
                    <a:pt x="140969" y="1066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MARTInkAnnotation205"/>
            <p:cNvSpPr/>
            <p:nvPr/>
          </p:nvSpPr>
          <p:spPr>
            <a:xfrm>
              <a:off x="5562360" y="2416320"/>
              <a:ext cx="220320" cy="1209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20667" h="121180">
                  <a:moveTo>
                    <a:pt x="7306" y="30157"/>
                  </a:moveTo>
                  <a:lnTo>
                    <a:pt x="7306" y="26112"/>
                  </a:lnTo>
                  <a:lnTo>
                    <a:pt x="6459" y="24920"/>
                  </a:lnTo>
                  <a:lnTo>
                    <a:pt x="5048" y="24126"/>
                  </a:lnTo>
                  <a:lnTo>
                    <a:pt x="0" y="22630"/>
                  </a:lnTo>
                  <a:lnTo>
                    <a:pt x="2084" y="20320"/>
                  </a:lnTo>
                  <a:lnTo>
                    <a:pt x="3824" y="18519"/>
                  </a:lnTo>
                  <a:lnTo>
                    <a:pt x="5831" y="17319"/>
                  </a:lnTo>
                  <a:lnTo>
                    <a:pt x="12701" y="14782"/>
                  </a:lnTo>
                  <a:lnTo>
                    <a:pt x="17606" y="11188"/>
                  </a:lnTo>
                  <a:lnTo>
                    <a:pt x="20946" y="9891"/>
                  </a:lnTo>
                  <a:lnTo>
                    <a:pt x="24866" y="9026"/>
                  </a:lnTo>
                  <a:lnTo>
                    <a:pt x="29173" y="8450"/>
                  </a:lnTo>
                  <a:lnTo>
                    <a:pt x="33737" y="8066"/>
                  </a:lnTo>
                  <a:lnTo>
                    <a:pt x="38473" y="7810"/>
                  </a:lnTo>
                  <a:lnTo>
                    <a:pt x="43324" y="7639"/>
                  </a:lnTo>
                  <a:lnTo>
                    <a:pt x="48251" y="6678"/>
                  </a:lnTo>
                  <a:lnTo>
                    <a:pt x="53230" y="5191"/>
                  </a:lnTo>
                  <a:lnTo>
                    <a:pt x="58242" y="3353"/>
                  </a:lnTo>
                  <a:lnTo>
                    <a:pt x="64124" y="2128"/>
                  </a:lnTo>
                  <a:lnTo>
                    <a:pt x="70584" y="1311"/>
                  </a:lnTo>
                  <a:lnTo>
                    <a:pt x="77432" y="766"/>
                  </a:lnTo>
                  <a:lnTo>
                    <a:pt x="83690" y="403"/>
                  </a:lnTo>
                  <a:lnTo>
                    <a:pt x="95159" y="0"/>
                  </a:lnTo>
                  <a:lnTo>
                    <a:pt x="100588" y="739"/>
                  </a:lnTo>
                  <a:lnTo>
                    <a:pt x="105900" y="2078"/>
                  </a:lnTo>
                  <a:lnTo>
                    <a:pt x="111135" y="3818"/>
                  </a:lnTo>
                  <a:lnTo>
                    <a:pt x="115472" y="4978"/>
                  </a:lnTo>
                  <a:lnTo>
                    <a:pt x="119210" y="5751"/>
                  </a:lnTo>
                  <a:lnTo>
                    <a:pt x="122548" y="6266"/>
                  </a:lnTo>
                  <a:lnTo>
                    <a:pt x="126468" y="7457"/>
                  </a:lnTo>
                  <a:lnTo>
                    <a:pt x="130774" y="9097"/>
                  </a:lnTo>
                  <a:lnTo>
                    <a:pt x="135338" y="11037"/>
                  </a:lnTo>
                  <a:lnTo>
                    <a:pt x="139227" y="12330"/>
                  </a:lnTo>
                  <a:lnTo>
                    <a:pt x="145806" y="13767"/>
                  </a:lnTo>
                  <a:lnTo>
                    <a:pt x="148746" y="15844"/>
                  </a:lnTo>
                  <a:lnTo>
                    <a:pt x="151553" y="18922"/>
                  </a:lnTo>
                  <a:lnTo>
                    <a:pt x="154271" y="22667"/>
                  </a:lnTo>
                  <a:lnTo>
                    <a:pt x="156083" y="26010"/>
                  </a:lnTo>
                  <a:lnTo>
                    <a:pt x="157291" y="29086"/>
                  </a:lnTo>
                  <a:lnTo>
                    <a:pt x="158095" y="31983"/>
                  </a:lnTo>
                  <a:lnTo>
                    <a:pt x="157786" y="34761"/>
                  </a:lnTo>
                  <a:lnTo>
                    <a:pt x="156733" y="37460"/>
                  </a:lnTo>
                  <a:lnTo>
                    <a:pt x="155184" y="40105"/>
                  </a:lnTo>
                  <a:lnTo>
                    <a:pt x="154151" y="43562"/>
                  </a:lnTo>
                  <a:lnTo>
                    <a:pt x="153463" y="47561"/>
                  </a:lnTo>
                  <a:lnTo>
                    <a:pt x="153004" y="51920"/>
                  </a:lnTo>
                  <a:lnTo>
                    <a:pt x="151005" y="55672"/>
                  </a:lnTo>
                  <a:lnTo>
                    <a:pt x="147978" y="59020"/>
                  </a:lnTo>
                  <a:lnTo>
                    <a:pt x="144267" y="62099"/>
                  </a:lnTo>
                  <a:lnTo>
                    <a:pt x="140948" y="65845"/>
                  </a:lnTo>
                  <a:lnTo>
                    <a:pt x="137886" y="70036"/>
                  </a:lnTo>
                  <a:lnTo>
                    <a:pt x="134999" y="74523"/>
                  </a:lnTo>
                  <a:lnTo>
                    <a:pt x="132228" y="77514"/>
                  </a:lnTo>
                  <a:lnTo>
                    <a:pt x="129534" y="79508"/>
                  </a:lnTo>
                  <a:lnTo>
                    <a:pt x="115082" y="86754"/>
                  </a:lnTo>
                  <a:lnTo>
                    <a:pt x="110484" y="88209"/>
                  </a:lnTo>
                  <a:lnTo>
                    <a:pt x="105724" y="89178"/>
                  </a:lnTo>
                  <a:lnTo>
                    <a:pt x="100858" y="89824"/>
                  </a:lnTo>
                  <a:lnTo>
                    <a:pt x="95921" y="91102"/>
                  </a:lnTo>
                  <a:lnTo>
                    <a:pt x="90936" y="92800"/>
                  </a:lnTo>
                  <a:lnTo>
                    <a:pt x="85919" y="94779"/>
                  </a:lnTo>
                  <a:lnTo>
                    <a:pt x="80881" y="95252"/>
                  </a:lnTo>
                  <a:lnTo>
                    <a:pt x="75830" y="94720"/>
                  </a:lnTo>
                  <a:lnTo>
                    <a:pt x="70769" y="93519"/>
                  </a:lnTo>
                  <a:lnTo>
                    <a:pt x="65701" y="92718"/>
                  </a:lnTo>
                  <a:lnTo>
                    <a:pt x="60629" y="92184"/>
                  </a:lnTo>
                  <a:lnTo>
                    <a:pt x="55555" y="91829"/>
                  </a:lnTo>
                  <a:lnTo>
                    <a:pt x="50478" y="91591"/>
                  </a:lnTo>
                  <a:lnTo>
                    <a:pt x="40322" y="91328"/>
                  </a:lnTo>
                  <a:lnTo>
                    <a:pt x="35244" y="90411"/>
                  </a:lnTo>
                  <a:lnTo>
                    <a:pt x="30164" y="88953"/>
                  </a:lnTo>
                  <a:lnTo>
                    <a:pt x="25084" y="87134"/>
                  </a:lnTo>
                  <a:lnTo>
                    <a:pt x="20852" y="85922"/>
                  </a:lnTo>
                  <a:lnTo>
                    <a:pt x="17183" y="85114"/>
                  </a:lnTo>
                  <a:lnTo>
                    <a:pt x="7884" y="83592"/>
                  </a:lnTo>
                  <a:lnTo>
                    <a:pt x="11522" y="83525"/>
                  </a:lnTo>
                  <a:lnTo>
                    <a:pt x="17929" y="85767"/>
                  </a:lnTo>
                  <a:lnTo>
                    <a:pt x="22008" y="87550"/>
                  </a:lnTo>
                  <a:lnTo>
                    <a:pt x="27267" y="89586"/>
                  </a:lnTo>
                  <a:lnTo>
                    <a:pt x="39884" y="94105"/>
                  </a:lnTo>
                  <a:lnTo>
                    <a:pt x="61268" y="101410"/>
                  </a:lnTo>
                  <a:lnTo>
                    <a:pt x="68680" y="103059"/>
                  </a:lnTo>
                  <a:lnTo>
                    <a:pt x="76162" y="104158"/>
                  </a:lnTo>
                  <a:lnTo>
                    <a:pt x="83690" y="104891"/>
                  </a:lnTo>
                  <a:lnTo>
                    <a:pt x="92095" y="106226"/>
                  </a:lnTo>
                  <a:lnTo>
                    <a:pt x="101085" y="107963"/>
                  </a:lnTo>
                  <a:lnTo>
                    <a:pt x="120105" y="112151"/>
                  </a:lnTo>
                  <a:lnTo>
                    <a:pt x="139848" y="116834"/>
                  </a:lnTo>
                  <a:lnTo>
                    <a:pt x="149854" y="118422"/>
                  </a:lnTo>
                  <a:lnTo>
                    <a:pt x="159911" y="119480"/>
                  </a:lnTo>
                  <a:lnTo>
                    <a:pt x="170004" y="120186"/>
                  </a:lnTo>
                  <a:lnTo>
                    <a:pt x="179271" y="120656"/>
                  </a:lnTo>
                  <a:lnTo>
                    <a:pt x="196341" y="121179"/>
                  </a:lnTo>
                  <a:lnTo>
                    <a:pt x="202756" y="120471"/>
                  </a:lnTo>
                  <a:lnTo>
                    <a:pt x="207880" y="119153"/>
                  </a:lnTo>
                  <a:lnTo>
                    <a:pt x="220666" y="1139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SMARTInkAnnotation206"/>
            <p:cNvSpPr/>
            <p:nvPr/>
          </p:nvSpPr>
          <p:spPr>
            <a:xfrm>
              <a:off x="5821200" y="241596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20981" h="136676">
                  <a:moveTo>
                    <a:pt x="0" y="15240"/>
                  </a:moveTo>
                  <a:lnTo>
                    <a:pt x="11352" y="15240"/>
                  </a:lnTo>
                  <a:lnTo>
                    <a:pt x="18028" y="17498"/>
                  </a:lnTo>
                  <a:lnTo>
                    <a:pt x="22178" y="19286"/>
                  </a:lnTo>
                  <a:lnTo>
                    <a:pt x="24945" y="21324"/>
                  </a:lnTo>
                  <a:lnTo>
                    <a:pt x="26791" y="23529"/>
                  </a:lnTo>
                  <a:lnTo>
                    <a:pt x="28020" y="25846"/>
                  </a:lnTo>
                  <a:lnTo>
                    <a:pt x="29687" y="28238"/>
                  </a:lnTo>
                  <a:lnTo>
                    <a:pt x="31645" y="30678"/>
                  </a:lnTo>
                  <a:lnTo>
                    <a:pt x="33797" y="33152"/>
                  </a:lnTo>
                  <a:lnTo>
                    <a:pt x="36078" y="35648"/>
                  </a:lnTo>
                  <a:lnTo>
                    <a:pt x="40870" y="40679"/>
                  </a:lnTo>
                  <a:lnTo>
                    <a:pt x="43334" y="44053"/>
                  </a:lnTo>
                  <a:lnTo>
                    <a:pt x="45823" y="47995"/>
                  </a:lnTo>
                  <a:lnTo>
                    <a:pt x="48328" y="52317"/>
                  </a:lnTo>
                  <a:lnTo>
                    <a:pt x="53370" y="61634"/>
                  </a:lnTo>
                  <a:lnTo>
                    <a:pt x="55900" y="66490"/>
                  </a:lnTo>
                  <a:lnTo>
                    <a:pt x="57587" y="71420"/>
                  </a:lnTo>
                  <a:lnTo>
                    <a:pt x="58711" y="76400"/>
                  </a:lnTo>
                  <a:lnTo>
                    <a:pt x="59461" y="81413"/>
                  </a:lnTo>
                  <a:lnTo>
                    <a:pt x="60807" y="86449"/>
                  </a:lnTo>
                  <a:lnTo>
                    <a:pt x="62551" y="91499"/>
                  </a:lnTo>
                  <a:lnTo>
                    <a:pt x="64561" y="96560"/>
                  </a:lnTo>
                  <a:lnTo>
                    <a:pt x="66747" y="101627"/>
                  </a:lnTo>
                  <a:lnTo>
                    <a:pt x="71434" y="111772"/>
                  </a:lnTo>
                  <a:lnTo>
                    <a:pt x="73869" y="116002"/>
                  </a:lnTo>
                  <a:lnTo>
                    <a:pt x="76339" y="119668"/>
                  </a:lnTo>
                  <a:lnTo>
                    <a:pt x="78833" y="122959"/>
                  </a:lnTo>
                  <a:lnTo>
                    <a:pt x="81342" y="125999"/>
                  </a:lnTo>
                  <a:lnTo>
                    <a:pt x="83861" y="128873"/>
                  </a:lnTo>
                  <a:lnTo>
                    <a:pt x="86388" y="131636"/>
                  </a:lnTo>
                  <a:lnTo>
                    <a:pt x="89765" y="133477"/>
                  </a:lnTo>
                  <a:lnTo>
                    <a:pt x="93710" y="134705"/>
                  </a:lnTo>
                  <a:lnTo>
                    <a:pt x="98033" y="135524"/>
                  </a:lnTo>
                  <a:lnTo>
                    <a:pt x="102609" y="136069"/>
                  </a:lnTo>
                  <a:lnTo>
                    <a:pt x="107352" y="136433"/>
                  </a:lnTo>
                  <a:lnTo>
                    <a:pt x="112209" y="136675"/>
                  </a:lnTo>
                  <a:lnTo>
                    <a:pt x="116293" y="135990"/>
                  </a:lnTo>
                  <a:lnTo>
                    <a:pt x="123088" y="132971"/>
                  </a:lnTo>
                  <a:lnTo>
                    <a:pt x="128930" y="128808"/>
                  </a:lnTo>
                  <a:lnTo>
                    <a:pt x="131673" y="126512"/>
                  </a:lnTo>
                  <a:lnTo>
                    <a:pt x="134349" y="122441"/>
                  </a:lnTo>
                  <a:lnTo>
                    <a:pt x="136980" y="117188"/>
                  </a:lnTo>
                  <a:lnTo>
                    <a:pt x="139580" y="111145"/>
                  </a:lnTo>
                  <a:lnTo>
                    <a:pt x="143006" y="105424"/>
                  </a:lnTo>
                  <a:lnTo>
                    <a:pt x="146984" y="99916"/>
                  </a:lnTo>
                  <a:lnTo>
                    <a:pt x="151329" y="94551"/>
                  </a:lnTo>
                  <a:lnTo>
                    <a:pt x="155919" y="88434"/>
                  </a:lnTo>
                  <a:lnTo>
                    <a:pt x="165536" y="74864"/>
                  </a:lnTo>
                  <a:lnTo>
                    <a:pt x="169624" y="67689"/>
                  </a:lnTo>
                  <a:lnTo>
                    <a:pt x="173196" y="60366"/>
                  </a:lnTo>
                  <a:lnTo>
                    <a:pt x="179422" y="46303"/>
                  </a:lnTo>
                  <a:lnTo>
                    <a:pt x="185013" y="34408"/>
                  </a:lnTo>
                  <a:lnTo>
                    <a:pt x="187688" y="29712"/>
                  </a:lnTo>
                  <a:lnTo>
                    <a:pt x="190319" y="25735"/>
                  </a:lnTo>
                  <a:lnTo>
                    <a:pt x="192919" y="22237"/>
                  </a:lnTo>
                  <a:lnTo>
                    <a:pt x="195500" y="19058"/>
                  </a:lnTo>
                  <a:lnTo>
                    <a:pt x="198066" y="16092"/>
                  </a:lnTo>
                  <a:lnTo>
                    <a:pt x="200624" y="13268"/>
                  </a:lnTo>
                  <a:lnTo>
                    <a:pt x="202329" y="10539"/>
                  </a:lnTo>
                  <a:lnTo>
                    <a:pt x="203466" y="7873"/>
                  </a:lnTo>
                  <a:lnTo>
                    <a:pt x="204224" y="5248"/>
                  </a:lnTo>
                  <a:lnTo>
                    <a:pt x="205576" y="3499"/>
                  </a:lnTo>
                  <a:lnTo>
                    <a:pt x="207324" y="2333"/>
                  </a:lnTo>
                  <a:lnTo>
                    <a:pt x="211524" y="1037"/>
                  </a:lnTo>
                  <a:lnTo>
                    <a:pt x="213830" y="691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MARTInkAnnotation207"/>
            <p:cNvSpPr/>
            <p:nvPr/>
          </p:nvSpPr>
          <p:spPr>
            <a:xfrm>
              <a:off x="6127560" y="2423520"/>
              <a:ext cx="181080" cy="1292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81377" h="129343">
                  <a:moveTo>
                    <a:pt x="89936" y="0"/>
                  </a:moveTo>
                  <a:lnTo>
                    <a:pt x="50324" y="0"/>
                  </a:lnTo>
                  <a:lnTo>
                    <a:pt x="46595" y="847"/>
                  </a:lnTo>
                  <a:lnTo>
                    <a:pt x="42416" y="2258"/>
                  </a:lnTo>
                  <a:lnTo>
                    <a:pt x="37935" y="4045"/>
                  </a:lnTo>
                  <a:lnTo>
                    <a:pt x="34103" y="5237"/>
                  </a:lnTo>
                  <a:lnTo>
                    <a:pt x="30700" y="6031"/>
                  </a:lnTo>
                  <a:lnTo>
                    <a:pt x="27585" y="6561"/>
                  </a:lnTo>
                  <a:lnTo>
                    <a:pt x="24663" y="7761"/>
                  </a:lnTo>
                  <a:lnTo>
                    <a:pt x="19157" y="11352"/>
                  </a:lnTo>
                  <a:lnTo>
                    <a:pt x="16504" y="13495"/>
                  </a:lnTo>
                  <a:lnTo>
                    <a:pt x="13887" y="15769"/>
                  </a:lnTo>
                  <a:lnTo>
                    <a:pt x="11297" y="18133"/>
                  </a:lnTo>
                  <a:lnTo>
                    <a:pt x="6161" y="23017"/>
                  </a:lnTo>
                  <a:lnTo>
                    <a:pt x="3606" y="25504"/>
                  </a:lnTo>
                  <a:lnTo>
                    <a:pt x="1903" y="28010"/>
                  </a:lnTo>
                  <a:lnTo>
                    <a:pt x="768" y="30527"/>
                  </a:lnTo>
                  <a:lnTo>
                    <a:pt x="10" y="33051"/>
                  </a:lnTo>
                  <a:lnTo>
                    <a:pt x="352" y="35581"/>
                  </a:lnTo>
                  <a:lnTo>
                    <a:pt x="1428" y="38114"/>
                  </a:lnTo>
                  <a:lnTo>
                    <a:pt x="2990" y="40649"/>
                  </a:lnTo>
                  <a:lnTo>
                    <a:pt x="4879" y="43186"/>
                  </a:lnTo>
                  <a:lnTo>
                    <a:pt x="6985" y="45724"/>
                  </a:lnTo>
                  <a:lnTo>
                    <a:pt x="9235" y="48263"/>
                  </a:lnTo>
                  <a:lnTo>
                    <a:pt x="13993" y="53341"/>
                  </a:lnTo>
                  <a:lnTo>
                    <a:pt x="16448" y="55881"/>
                  </a:lnTo>
                  <a:lnTo>
                    <a:pt x="18930" y="57574"/>
                  </a:lnTo>
                  <a:lnTo>
                    <a:pt x="23947" y="59455"/>
                  </a:lnTo>
                  <a:lnTo>
                    <a:pt x="28999" y="60291"/>
                  </a:lnTo>
                  <a:lnTo>
                    <a:pt x="34066" y="60663"/>
                  </a:lnTo>
                  <a:lnTo>
                    <a:pt x="39141" y="60828"/>
                  </a:lnTo>
                  <a:lnTo>
                    <a:pt x="40832" y="61719"/>
                  </a:lnTo>
                  <a:lnTo>
                    <a:pt x="41961" y="63159"/>
                  </a:lnTo>
                  <a:lnTo>
                    <a:pt x="44085" y="68263"/>
                  </a:lnTo>
                  <a:lnTo>
                    <a:pt x="40132" y="68486"/>
                  </a:lnTo>
                  <a:lnTo>
                    <a:pt x="33599" y="68552"/>
                  </a:lnTo>
                  <a:lnTo>
                    <a:pt x="31212" y="69408"/>
                  </a:lnTo>
                  <a:lnTo>
                    <a:pt x="26300" y="72617"/>
                  </a:lnTo>
                  <a:lnTo>
                    <a:pt x="23806" y="74658"/>
                  </a:lnTo>
                  <a:lnTo>
                    <a:pt x="21296" y="76865"/>
                  </a:lnTo>
                  <a:lnTo>
                    <a:pt x="18776" y="79184"/>
                  </a:lnTo>
                  <a:lnTo>
                    <a:pt x="13718" y="84017"/>
                  </a:lnTo>
                  <a:lnTo>
                    <a:pt x="3572" y="94019"/>
                  </a:lnTo>
                  <a:lnTo>
                    <a:pt x="1880" y="96546"/>
                  </a:lnTo>
                  <a:lnTo>
                    <a:pt x="753" y="99078"/>
                  </a:lnTo>
                  <a:lnTo>
                    <a:pt x="0" y="101611"/>
                  </a:lnTo>
                  <a:lnTo>
                    <a:pt x="1192" y="104148"/>
                  </a:lnTo>
                  <a:lnTo>
                    <a:pt x="3680" y="106685"/>
                  </a:lnTo>
                  <a:lnTo>
                    <a:pt x="7033" y="109223"/>
                  </a:lnTo>
                  <a:lnTo>
                    <a:pt x="10113" y="110916"/>
                  </a:lnTo>
                  <a:lnTo>
                    <a:pt x="13014" y="112044"/>
                  </a:lnTo>
                  <a:lnTo>
                    <a:pt x="15795" y="112796"/>
                  </a:lnTo>
                  <a:lnTo>
                    <a:pt x="20189" y="114991"/>
                  </a:lnTo>
                  <a:lnTo>
                    <a:pt x="25659" y="118147"/>
                  </a:lnTo>
                  <a:lnTo>
                    <a:pt x="31844" y="121945"/>
                  </a:lnTo>
                  <a:lnTo>
                    <a:pt x="38508" y="124476"/>
                  </a:lnTo>
                  <a:lnTo>
                    <a:pt x="45491" y="126165"/>
                  </a:lnTo>
                  <a:lnTo>
                    <a:pt x="52686" y="127290"/>
                  </a:lnTo>
                  <a:lnTo>
                    <a:pt x="60870" y="128040"/>
                  </a:lnTo>
                  <a:lnTo>
                    <a:pt x="69713" y="128540"/>
                  </a:lnTo>
                  <a:lnTo>
                    <a:pt x="88568" y="129095"/>
                  </a:lnTo>
                  <a:lnTo>
                    <a:pt x="108237" y="129342"/>
                  </a:lnTo>
                  <a:lnTo>
                    <a:pt x="118223" y="128562"/>
                  </a:lnTo>
                  <a:lnTo>
                    <a:pt x="128267" y="127194"/>
                  </a:lnTo>
                  <a:lnTo>
                    <a:pt x="138350" y="125436"/>
                  </a:lnTo>
                  <a:lnTo>
                    <a:pt x="146766" y="124264"/>
                  </a:lnTo>
                  <a:lnTo>
                    <a:pt x="154069" y="123483"/>
                  </a:lnTo>
                  <a:lnTo>
                    <a:pt x="160632" y="122962"/>
                  </a:lnTo>
                  <a:lnTo>
                    <a:pt x="165853" y="121768"/>
                  </a:lnTo>
                  <a:lnTo>
                    <a:pt x="170181" y="120125"/>
                  </a:lnTo>
                  <a:lnTo>
                    <a:pt x="181376" y="114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MARTInkAnnotation208"/>
            <p:cNvSpPr/>
            <p:nvPr/>
          </p:nvSpPr>
          <p:spPr>
            <a:xfrm>
              <a:off x="6625080" y="2385360"/>
              <a:ext cx="300600" cy="1522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0864" h="152358">
                  <a:moveTo>
                    <a:pt x="26543" y="53309"/>
                  </a:moveTo>
                  <a:lnTo>
                    <a:pt x="26543" y="41736"/>
                  </a:lnTo>
                  <a:lnTo>
                    <a:pt x="27389" y="39667"/>
                  </a:lnTo>
                  <a:lnTo>
                    <a:pt x="30588" y="35110"/>
                  </a:lnTo>
                  <a:lnTo>
                    <a:pt x="32626" y="33557"/>
                  </a:lnTo>
                  <a:lnTo>
                    <a:pt x="34832" y="32521"/>
                  </a:lnTo>
                  <a:lnTo>
                    <a:pt x="37149" y="31830"/>
                  </a:lnTo>
                  <a:lnTo>
                    <a:pt x="40387" y="29676"/>
                  </a:lnTo>
                  <a:lnTo>
                    <a:pt x="44239" y="26547"/>
                  </a:lnTo>
                  <a:lnTo>
                    <a:pt x="48500" y="22768"/>
                  </a:lnTo>
                  <a:lnTo>
                    <a:pt x="53034" y="19401"/>
                  </a:lnTo>
                  <a:lnTo>
                    <a:pt x="57750" y="16311"/>
                  </a:lnTo>
                  <a:lnTo>
                    <a:pt x="62589" y="13403"/>
                  </a:lnTo>
                  <a:lnTo>
                    <a:pt x="67506" y="11465"/>
                  </a:lnTo>
                  <a:lnTo>
                    <a:pt x="72479" y="10173"/>
                  </a:lnTo>
                  <a:lnTo>
                    <a:pt x="77487" y="9312"/>
                  </a:lnTo>
                  <a:lnTo>
                    <a:pt x="83366" y="7891"/>
                  </a:lnTo>
                  <a:lnTo>
                    <a:pt x="89825" y="6097"/>
                  </a:lnTo>
                  <a:lnTo>
                    <a:pt x="96671" y="4054"/>
                  </a:lnTo>
                  <a:lnTo>
                    <a:pt x="103775" y="2692"/>
                  </a:lnTo>
                  <a:lnTo>
                    <a:pt x="111051" y="1784"/>
                  </a:lnTo>
                  <a:lnTo>
                    <a:pt x="118442" y="1179"/>
                  </a:lnTo>
                  <a:lnTo>
                    <a:pt x="125909" y="776"/>
                  </a:lnTo>
                  <a:lnTo>
                    <a:pt x="140979" y="328"/>
                  </a:lnTo>
                  <a:lnTo>
                    <a:pt x="182530" y="0"/>
                  </a:lnTo>
                  <a:lnTo>
                    <a:pt x="188108" y="836"/>
                  </a:lnTo>
                  <a:lnTo>
                    <a:pt x="193519" y="2241"/>
                  </a:lnTo>
                  <a:lnTo>
                    <a:pt x="198821" y="4023"/>
                  </a:lnTo>
                  <a:lnTo>
                    <a:pt x="206968" y="8262"/>
                  </a:lnTo>
                  <a:lnTo>
                    <a:pt x="215053" y="13837"/>
                  </a:lnTo>
                  <a:lnTo>
                    <a:pt x="218416" y="16857"/>
                  </a:lnTo>
                  <a:lnTo>
                    <a:pt x="220498" y="18847"/>
                  </a:lnTo>
                  <a:lnTo>
                    <a:pt x="221888" y="21868"/>
                  </a:lnTo>
                  <a:lnTo>
                    <a:pt x="222812" y="25575"/>
                  </a:lnTo>
                  <a:lnTo>
                    <a:pt x="223429" y="29740"/>
                  </a:lnTo>
                  <a:lnTo>
                    <a:pt x="222994" y="33363"/>
                  </a:lnTo>
                  <a:lnTo>
                    <a:pt x="221857" y="36625"/>
                  </a:lnTo>
                  <a:lnTo>
                    <a:pt x="220252" y="39646"/>
                  </a:lnTo>
                  <a:lnTo>
                    <a:pt x="218336" y="42507"/>
                  </a:lnTo>
                  <a:lnTo>
                    <a:pt x="216212" y="45261"/>
                  </a:lnTo>
                  <a:lnTo>
                    <a:pt x="213948" y="47943"/>
                  </a:lnTo>
                  <a:lnTo>
                    <a:pt x="211594" y="50579"/>
                  </a:lnTo>
                  <a:lnTo>
                    <a:pt x="206719" y="55764"/>
                  </a:lnTo>
                  <a:lnTo>
                    <a:pt x="203386" y="58332"/>
                  </a:lnTo>
                  <a:lnTo>
                    <a:pt x="199472" y="60891"/>
                  </a:lnTo>
                  <a:lnTo>
                    <a:pt x="195169" y="63444"/>
                  </a:lnTo>
                  <a:lnTo>
                    <a:pt x="185873" y="66280"/>
                  </a:lnTo>
                  <a:lnTo>
                    <a:pt x="181023" y="67036"/>
                  </a:lnTo>
                  <a:lnTo>
                    <a:pt x="175249" y="68387"/>
                  </a:lnTo>
                  <a:lnTo>
                    <a:pt x="168861" y="70134"/>
                  </a:lnTo>
                  <a:lnTo>
                    <a:pt x="154989" y="74333"/>
                  </a:lnTo>
                  <a:lnTo>
                    <a:pt x="117840" y="86421"/>
                  </a:lnTo>
                  <a:lnTo>
                    <a:pt x="109420" y="88930"/>
                  </a:lnTo>
                  <a:lnTo>
                    <a:pt x="91035" y="93976"/>
                  </a:lnTo>
                  <a:lnTo>
                    <a:pt x="61645" y="101577"/>
                  </a:lnTo>
                  <a:lnTo>
                    <a:pt x="52484" y="103268"/>
                  </a:lnTo>
                  <a:lnTo>
                    <a:pt x="43837" y="104395"/>
                  </a:lnTo>
                  <a:lnTo>
                    <a:pt x="35532" y="105146"/>
                  </a:lnTo>
                  <a:lnTo>
                    <a:pt x="28302" y="106494"/>
                  </a:lnTo>
                  <a:lnTo>
                    <a:pt x="21790" y="108239"/>
                  </a:lnTo>
                  <a:lnTo>
                    <a:pt x="15754" y="110249"/>
                  </a:lnTo>
                  <a:lnTo>
                    <a:pt x="11731" y="112435"/>
                  </a:lnTo>
                  <a:lnTo>
                    <a:pt x="9049" y="114740"/>
                  </a:lnTo>
                  <a:lnTo>
                    <a:pt x="7260" y="117123"/>
                  </a:lnTo>
                  <a:lnTo>
                    <a:pt x="5222" y="119558"/>
                  </a:lnTo>
                  <a:lnTo>
                    <a:pt x="3016" y="122028"/>
                  </a:lnTo>
                  <a:lnTo>
                    <a:pt x="698" y="124522"/>
                  </a:lnTo>
                  <a:lnTo>
                    <a:pt x="0" y="126184"/>
                  </a:lnTo>
                  <a:lnTo>
                    <a:pt x="381" y="127292"/>
                  </a:lnTo>
                  <a:lnTo>
                    <a:pt x="7220" y="131110"/>
                  </a:lnTo>
                  <a:lnTo>
                    <a:pt x="11121" y="133116"/>
                  </a:lnTo>
                  <a:lnTo>
                    <a:pt x="17109" y="135300"/>
                  </a:lnTo>
                  <a:lnTo>
                    <a:pt x="24487" y="137603"/>
                  </a:lnTo>
                  <a:lnTo>
                    <a:pt x="41716" y="142420"/>
                  </a:lnTo>
                  <a:lnTo>
                    <a:pt x="60662" y="147383"/>
                  </a:lnTo>
                  <a:lnTo>
                    <a:pt x="71303" y="149045"/>
                  </a:lnTo>
                  <a:lnTo>
                    <a:pt x="82629" y="150153"/>
                  </a:lnTo>
                  <a:lnTo>
                    <a:pt x="94414" y="150891"/>
                  </a:lnTo>
                  <a:lnTo>
                    <a:pt x="121055" y="151712"/>
                  </a:lnTo>
                  <a:lnTo>
                    <a:pt x="216753" y="152330"/>
                  </a:lnTo>
                  <a:lnTo>
                    <a:pt x="249225" y="152357"/>
                  </a:lnTo>
                  <a:lnTo>
                    <a:pt x="258817" y="151514"/>
                  </a:lnTo>
                  <a:lnTo>
                    <a:pt x="267753" y="150106"/>
                  </a:lnTo>
                  <a:lnTo>
                    <a:pt x="276250" y="148320"/>
                  </a:lnTo>
                  <a:lnTo>
                    <a:pt x="282761" y="146283"/>
                  </a:lnTo>
                  <a:lnTo>
                    <a:pt x="287949" y="144078"/>
                  </a:lnTo>
                  <a:lnTo>
                    <a:pt x="300863" y="137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MARTInkAnnotation209"/>
            <p:cNvSpPr/>
            <p:nvPr/>
          </p:nvSpPr>
          <p:spPr>
            <a:xfrm>
              <a:off x="7010280" y="2278800"/>
              <a:ext cx="98280" cy="2818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98607" h="281941">
                  <a:moveTo>
                    <a:pt x="60506" y="0"/>
                  </a:moveTo>
                  <a:lnTo>
                    <a:pt x="60506" y="11352"/>
                  </a:lnTo>
                  <a:lnTo>
                    <a:pt x="58248" y="18028"/>
                  </a:lnTo>
                  <a:lnTo>
                    <a:pt x="55269" y="26639"/>
                  </a:lnTo>
                  <a:lnTo>
                    <a:pt x="54474" y="31306"/>
                  </a:lnTo>
                  <a:lnTo>
                    <a:pt x="53944" y="36111"/>
                  </a:lnTo>
                  <a:lnTo>
                    <a:pt x="52746" y="41854"/>
                  </a:lnTo>
                  <a:lnTo>
                    <a:pt x="51099" y="48223"/>
                  </a:lnTo>
                  <a:lnTo>
                    <a:pt x="49155" y="55008"/>
                  </a:lnTo>
                  <a:lnTo>
                    <a:pt x="42374" y="80740"/>
                  </a:lnTo>
                  <a:lnTo>
                    <a:pt x="39105" y="89387"/>
                  </a:lnTo>
                  <a:lnTo>
                    <a:pt x="35231" y="97691"/>
                  </a:lnTo>
                  <a:lnTo>
                    <a:pt x="30956" y="105767"/>
                  </a:lnTo>
                  <a:lnTo>
                    <a:pt x="27260" y="114538"/>
                  </a:lnTo>
                  <a:lnTo>
                    <a:pt x="23948" y="123772"/>
                  </a:lnTo>
                  <a:lnTo>
                    <a:pt x="12551" y="158881"/>
                  </a:lnTo>
                  <a:lnTo>
                    <a:pt x="9909" y="167727"/>
                  </a:lnTo>
                  <a:lnTo>
                    <a:pt x="4717" y="186588"/>
                  </a:lnTo>
                  <a:lnTo>
                    <a:pt x="2993" y="195512"/>
                  </a:lnTo>
                  <a:lnTo>
                    <a:pt x="1844" y="204001"/>
                  </a:lnTo>
                  <a:lnTo>
                    <a:pt x="1078" y="212201"/>
                  </a:lnTo>
                  <a:lnTo>
                    <a:pt x="568" y="220207"/>
                  </a:lnTo>
                  <a:lnTo>
                    <a:pt x="0" y="235877"/>
                  </a:lnTo>
                  <a:lnTo>
                    <a:pt x="1542" y="242765"/>
                  </a:lnTo>
                  <a:lnTo>
                    <a:pt x="4263" y="249050"/>
                  </a:lnTo>
                  <a:lnTo>
                    <a:pt x="7771" y="254933"/>
                  </a:lnTo>
                  <a:lnTo>
                    <a:pt x="10955" y="259702"/>
                  </a:lnTo>
                  <a:lnTo>
                    <a:pt x="13927" y="263728"/>
                  </a:lnTo>
                  <a:lnTo>
                    <a:pt x="16753" y="267259"/>
                  </a:lnTo>
                  <a:lnTo>
                    <a:pt x="21177" y="270459"/>
                  </a:lnTo>
                  <a:lnTo>
                    <a:pt x="26666" y="273439"/>
                  </a:lnTo>
                  <a:lnTo>
                    <a:pt x="32867" y="276273"/>
                  </a:lnTo>
                  <a:lnTo>
                    <a:pt x="39540" y="278162"/>
                  </a:lnTo>
                  <a:lnTo>
                    <a:pt x="46528" y="279421"/>
                  </a:lnTo>
                  <a:lnTo>
                    <a:pt x="53728" y="280261"/>
                  </a:lnTo>
                  <a:lnTo>
                    <a:pt x="60221" y="280821"/>
                  </a:lnTo>
                  <a:lnTo>
                    <a:pt x="66243" y="281194"/>
                  </a:lnTo>
                  <a:lnTo>
                    <a:pt x="77449" y="281609"/>
                  </a:lnTo>
                  <a:lnTo>
                    <a:pt x="98606" y="2819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MARTInkAnnotation210"/>
            <p:cNvSpPr/>
            <p:nvPr/>
          </p:nvSpPr>
          <p:spPr>
            <a:xfrm>
              <a:off x="7133400" y="2423520"/>
              <a:ext cx="161280" cy="9756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61644" h="97774">
                  <a:moveTo>
                    <a:pt x="143112" y="0"/>
                  </a:moveTo>
                  <a:lnTo>
                    <a:pt x="113342" y="0"/>
                  </a:lnTo>
                  <a:lnTo>
                    <a:pt x="108871" y="847"/>
                  </a:lnTo>
                  <a:lnTo>
                    <a:pt x="104198" y="2258"/>
                  </a:lnTo>
                  <a:lnTo>
                    <a:pt x="99391" y="4045"/>
                  </a:lnTo>
                  <a:lnTo>
                    <a:pt x="80486" y="10606"/>
                  </a:lnTo>
                  <a:lnTo>
                    <a:pt x="74268" y="12998"/>
                  </a:lnTo>
                  <a:lnTo>
                    <a:pt x="68429" y="15438"/>
                  </a:lnTo>
                  <a:lnTo>
                    <a:pt x="62843" y="17912"/>
                  </a:lnTo>
                  <a:lnTo>
                    <a:pt x="56580" y="20408"/>
                  </a:lnTo>
                  <a:lnTo>
                    <a:pt x="42847" y="25439"/>
                  </a:lnTo>
                  <a:lnTo>
                    <a:pt x="36475" y="28813"/>
                  </a:lnTo>
                  <a:lnTo>
                    <a:pt x="30535" y="32755"/>
                  </a:lnTo>
                  <a:lnTo>
                    <a:pt x="24880" y="37077"/>
                  </a:lnTo>
                  <a:lnTo>
                    <a:pt x="20264" y="41651"/>
                  </a:lnTo>
                  <a:lnTo>
                    <a:pt x="16341" y="46394"/>
                  </a:lnTo>
                  <a:lnTo>
                    <a:pt x="12877" y="51249"/>
                  </a:lnTo>
                  <a:lnTo>
                    <a:pt x="9722" y="55333"/>
                  </a:lnTo>
                  <a:lnTo>
                    <a:pt x="6772" y="58902"/>
                  </a:lnTo>
                  <a:lnTo>
                    <a:pt x="3958" y="62128"/>
                  </a:lnTo>
                  <a:lnTo>
                    <a:pt x="2083" y="65126"/>
                  </a:lnTo>
                  <a:lnTo>
                    <a:pt x="833" y="67971"/>
                  </a:lnTo>
                  <a:lnTo>
                    <a:pt x="0" y="70714"/>
                  </a:lnTo>
                  <a:lnTo>
                    <a:pt x="290" y="74236"/>
                  </a:lnTo>
                  <a:lnTo>
                    <a:pt x="1331" y="78277"/>
                  </a:lnTo>
                  <a:lnTo>
                    <a:pt x="2872" y="82665"/>
                  </a:lnTo>
                  <a:lnTo>
                    <a:pt x="5591" y="85590"/>
                  </a:lnTo>
                  <a:lnTo>
                    <a:pt x="9098" y="87540"/>
                  </a:lnTo>
                  <a:lnTo>
                    <a:pt x="30938" y="94715"/>
                  </a:lnTo>
                  <a:lnTo>
                    <a:pt x="37849" y="96163"/>
                  </a:lnTo>
                  <a:lnTo>
                    <a:pt x="44997" y="97129"/>
                  </a:lnTo>
                  <a:lnTo>
                    <a:pt x="52302" y="97773"/>
                  </a:lnTo>
                  <a:lnTo>
                    <a:pt x="59712" y="97355"/>
                  </a:lnTo>
                  <a:lnTo>
                    <a:pt x="67192" y="96230"/>
                  </a:lnTo>
                  <a:lnTo>
                    <a:pt x="74719" y="94633"/>
                  </a:lnTo>
                  <a:lnTo>
                    <a:pt x="82277" y="93569"/>
                  </a:lnTo>
                  <a:lnTo>
                    <a:pt x="89855" y="92859"/>
                  </a:lnTo>
                  <a:lnTo>
                    <a:pt x="97447" y="92386"/>
                  </a:lnTo>
                  <a:lnTo>
                    <a:pt x="104202" y="90378"/>
                  </a:lnTo>
                  <a:lnTo>
                    <a:pt x="110399" y="87345"/>
                  </a:lnTo>
                  <a:lnTo>
                    <a:pt x="116224" y="83630"/>
                  </a:lnTo>
                  <a:lnTo>
                    <a:pt x="121800" y="79460"/>
                  </a:lnTo>
                  <a:lnTo>
                    <a:pt x="127211" y="74987"/>
                  </a:lnTo>
                  <a:lnTo>
                    <a:pt x="136891" y="66348"/>
                  </a:lnTo>
                  <a:lnTo>
                    <a:pt x="144017" y="59686"/>
                  </a:lnTo>
                  <a:lnTo>
                    <a:pt x="147102" y="55877"/>
                  </a:lnTo>
                  <a:lnTo>
                    <a:pt x="150006" y="51645"/>
                  </a:lnTo>
                  <a:lnTo>
                    <a:pt x="152788" y="47130"/>
                  </a:lnTo>
                  <a:lnTo>
                    <a:pt x="155490" y="43273"/>
                  </a:lnTo>
                  <a:lnTo>
                    <a:pt x="158137" y="39855"/>
                  </a:lnTo>
                  <a:lnTo>
                    <a:pt x="160750" y="36731"/>
                  </a:lnTo>
                  <a:lnTo>
                    <a:pt x="161643" y="33800"/>
                  </a:lnTo>
                  <a:lnTo>
                    <a:pt x="161393" y="31000"/>
                  </a:lnTo>
                  <a:lnTo>
                    <a:pt x="158530" y="23337"/>
                  </a:lnTo>
                  <a:lnTo>
                    <a:pt x="156174" y="23072"/>
                  </a:lnTo>
                  <a:lnTo>
                    <a:pt x="150732" y="228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MARTInkAnnotation211"/>
            <p:cNvSpPr/>
            <p:nvPr/>
          </p:nvSpPr>
          <p:spPr>
            <a:xfrm>
              <a:off x="7428960" y="241596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1" h="137161">
                  <a:moveTo>
                    <a:pt x="0" y="0"/>
                  </a:moveTo>
                  <a:lnTo>
                    <a:pt x="0" y="10606"/>
                  </a:lnTo>
                  <a:lnTo>
                    <a:pt x="846" y="13844"/>
                  </a:lnTo>
                  <a:lnTo>
                    <a:pt x="2259" y="17696"/>
                  </a:lnTo>
                  <a:lnTo>
                    <a:pt x="4045" y="21958"/>
                  </a:lnTo>
                  <a:lnTo>
                    <a:pt x="4390" y="26492"/>
                  </a:lnTo>
                  <a:lnTo>
                    <a:pt x="3774" y="31208"/>
                  </a:lnTo>
                  <a:lnTo>
                    <a:pt x="2516" y="36045"/>
                  </a:lnTo>
                  <a:lnTo>
                    <a:pt x="1677" y="40964"/>
                  </a:lnTo>
                  <a:lnTo>
                    <a:pt x="1119" y="45936"/>
                  </a:lnTo>
                  <a:lnTo>
                    <a:pt x="745" y="50944"/>
                  </a:lnTo>
                  <a:lnTo>
                    <a:pt x="497" y="56823"/>
                  </a:lnTo>
                  <a:lnTo>
                    <a:pt x="147" y="76385"/>
                  </a:lnTo>
                  <a:lnTo>
                    <a:pt x="66" y="87854"/>
                  </a:lnTo>
                  <a:lnTo>
                    <a:pt x="891" y="93282"/>
                  </a:lnTo>
                  <a:lnTo>
                    <a:pt x="2287" y="98595"/>
                  </a:lnTo>
                  <a:lnTo>
                    <a:pt x="4065" y="103830"/>
                  </a:lnTo>
                  <a:lnTo>
                    <a:pt x="5250" y="108167"/>
                  </a:lnTo>
                  <a:lnTo>
                    <a:pt x="6040" y="111905"/>
                  </a:lnTo>
                  <a:lnTo>
                    <a:pt x="7593" y="121747"/>
                  </a:lnTo>
                  <a:lnTo>
                    <a:pt x="7612" y="117824"/>
                  </a:lnTo>
                  <a:lnTo>
                    <a:pt x="8461" y="114956"/>
                  </a:lnTo>
                  <a:lnTo>
                    <a:pt x="9874" y="111351"/>
                  </a:lnTo>
                  <a:lnTo>
                    <a:pt x="11663" y="107254"/>
                  </a:lnTo>
                  <a:lnTo>
                    <a:pt x="15908" y="98186"/>
                  </a:lnTo>
                  <a:lnTo>
                    <a:pt x="25532" y="78567"/>
                  </a:lnTo>
                  <a:lnTo>
                    <a:pt x="28875" y="72698"/>
                  </a:lnTo>
                  <a:lnTo>
                    <a:pt x="32796" y="66246"/>
                  </a:lnTo>
                  <a:lnTo>
                    <a:pt x="37104" y="59404"/>
                  </a:lnTo>
                  <a:lnTo>
                    <a:pt x="42516" y="53149"/>
                  </a:lnTo>
                  <a:lnTo>
                    <a:pt x="48664" y="47286"/>
                  </a:lnTo>
                  <a:lnTo>
                    <a:pt x="55303" y="41684"/>
                  </a:lnTo>
                  <a:lnTo>
                    <a:pt x="61423" y="36256"/>
                  </a:lnTo>
                  <a:lnTo>
                    <a:pt x="72737" y="25710"/>
                  </a:lnTo>
                  <a:lnTo>
                    <a:pt x="78971" y="21373"/>
                  </a:lnTo>
                  <a:lnTo>
                    <a:pt x="85668" y="17635"/>
                  </a:lnTo>
                  <a:lnTo>
                    <a:pt x="92672" y="14297"/>
                  </a:lnTo>
                  <a:lnTo>
                    <a:pt x="98188" y="11225"/>
                  </a:lnTo>
                  <a:lnTo>
                    <a:pt x="102712" y="8330"/>
                  </a:lnTo>
                  <a:lnTo>
                    <a:pt x="106575" y="5553"/>
                  </a:lnTo>
                  <a:lnTo>
                    <a:pt x="111690" y="4549"/>
                  </a:lnTo>
                  <a:lnTo>
                    <a:pt x="117639" y="4726"/>
                  </a:lnTo>
                  <a:lnTo>
                    <a:pt x="124146" y="5691"/>
                  </a:lnTo>
                  <a:lnTo>
                    <a:pt x="129331" y="6334"/>
                  </a:lnTo>
                  <a:lnTo>
                    <a:pt x="133634" y="6763"/>
                  </a:lnTo>
                  <a:lnTo>
                    <a:pt x="137349" y="7049"/>
                  </a:lnTo>
                  <a:lnTo>
                    <a:pt x="141520" y="8086"/>
                  </a:lnTo>
                  <a:lnTo>
                    <a:pt x="145993" y="9624"/>
                  </a:lnTo>
                  <a:lnTo>
                    <a:pt x="150669" y="11496"/>
                  </a:lnTo>
                  <a:lnTo>
                    <a:pt x="154632" y="14437"/>
                  </a:lnTo>
                  <a:lnTo>
                    <a:pt x="158122" y="18092"/>
                  </a:lnTo>
                  <a:lnTo>
                    <a:pt x="161295" y="22221"/>
                  </a:lnTo>
                  <a:lnTo>
                    <a:pt x="164257" y="25821"/>
                  </a:lnTo>
                  <a:lnTo>
                    <a:pt x="167078" y="29067"/>
                  </a:lnTo>
                  <a:lnTo>
                    <a:pt x="169806" y="32078"/>
                  </a:lnTo>
                  <a:lnTo>
                    <a:pt x="172471" y="35779"/>
                  </a:lnTo>
                  <a:lnTo>
                    <a:pt x="175094" y="39939"/>
                  </a:lnTo>
                  <a:lnTo>
                    <a:pt x="177691" y="44406"/>
                  </a:lnTo>
                  <a:lnTo>
                    <a:pt x="179421" y="49924"/>
                  </a:lnTo>
                  <a:lnTo>
                    <a:pt x="180574" y="56143"/>
                  </a:lnTo>
                  <a:lnTo>
                    <a:pt x="181342" y="62829"/>
                  </a:lnTo>
                  <a:lnTo>
                    <a:pt x="182702" y="68979"/>
                  </a:lnTo>
                  <a:lnTo>
                    <a:pt x="184454" y="74773"/>
                  </a:lnTo>
                  <a:lnTo>
                    <a:pt x="186470" y="80329"/>
                  </a:lnTo>
                  <a:lnTo>
                    <a:pt x="188661" y="85726"/>
                  </a:lnTo>
                  <a:lnTo>
                    <a:pt x="190967" y="91017"/>
                  </a:lnTo>
                  <a:lnTo>
                    <a:pt x="195787" y="101412"/>
                  </a:lnTo>
                  <a:lnTo>
                    <a:pt x="200753" y="111677"/>
                  </a:lnTo>
                  <a:lnTo>
                    <a:pt x="204108" y="115938"/>
                  </a:lnTo>
                  <a:lnTo>
                    <a:pt x="208038" y="119625"/>
                  </a:lnTo>
                  <a:lnTo>
                    <a:pt x="212354" y="122930"/>
                  </a:lnTo>
                  <a:lnTo>
                    <a:pt x="216075" y="125980"/>
                  </a:lnTo>
                  <a:lnTo>
                    <a:pt x="219404" y="128860"/>
                  </a:lnTo>
                  <a:lnTo>
                    <a:pt x="222469" y="131627"/>
                  </a:lnTo>
                  <a:lnTo>
                    <a:pt x="225360" y="133471"/>
                  </a:lnTo>
                  <a:lnTo>
                    <a:pt x="230829" y="135521"/>
                  </a:lnTo>
                  <a:lnTo>
                    <a:pt x="236082" y="136432"/>
                  </a:lnTo>
                  <a:lnTo>
                    <a:pt x="243840" y="137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MARTInkAnnotation212"/>
            <p:cNvSpPr/>
            <p:nvPr/>
          </p:nvSpPr>
          <p:spPr>
            <a:xfrm>
              <a:off x="7773840" y="2408400"/>
              <a:ext cx="135000" cy="1904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35128" h="190501">
                  <a:moveTo>
                    <a:pt x="112267" y="0"/>
                  </a:moveTo>
                  <a:lnTo>
                    <a:pt x="108221" y="0"/>
                  </a:lnTo>
                  <a:lnTo>
                    <a:pt x="106183" y="847"/>
                  </a:lnTo>
                  <a:lnTo>
                    <a:pt x="103977" y="2258"/>
                  </a:lnTo>
                  <a:lnTo>
                    <a:pt x="101661" y="4045"/>
                  </a:lnTo>
                  <a:lnTo>
                    <a:pt x="98423" y="6084"/>
                  </a:lnTo>
                  <a:lnTo>
                    <a:pt x="94571" y="8289"/>
                  </a:lnTo>
                  <a:lnTo>
                    <a:pt x="85775" y="12997"/>
                  </a:lnTo>
                  <a:lnTo>
                    <a:pt x="76221" y="17912"/>
                  </a:lnTo>
                  <a:lnTo>
                    <a:pt x="71303" y="19561"/>
                  </a:lnTo>
                  <a:lnTo>
                    <a:pt x="66331" y="20661"/>
                  </a:lnTo>
                  <a:lnTo>
                    <a:pt x="61323" y="21394"/>
                  </a:lnTo>
                  <a:lnTo>
                    <a:pt x="56290" y="22729"/>
                  </a:lnTo>
                  <a:lnTo>
                    <a:pt x="51243" y="24466"/>
                  </a:lnTo>
                  <a:lnTo>
                    <a:pt x="46184" y="26471"/>
                  </a:lnTo>
                  <a:lnTo>
                    <a:pt x="41118" y="28654"/>
                  </a:lnTo>
                  <a:lnTo>
                    <a:pt x="30974" y="33337"/>
                  </a:lnTo>
                  <a:lnTo>
                    <a:pt x="26745" y="35772"/>
                  </a:lnTo>
                  <a:lnTo>
                    <a:pt x="23078" y="38241"/>
                  </a:lnTo>
                  <a:lnTo>
                    <a:pt x="19789" y="40734"/>
                  </a:lnTo>
                  <a:lnTo>
                    <a:pt x="16748" y="43243"/>
                  </a:lnTo>
                  <a:lnTo>
                    <a:pt x="13874" y="45762"/>
                  </a:lnTo>
                  <a:lnTo>
                    <a:pt x="11112" y="48288"/>
                  </a:lnTo>
                  <a:lnTo>
                    <a:pt x="10116" y="50818"/>
                  </a:lnTo>
                  <a:lnTo>
                    <a:pt x="10299" y="53352"/>
                  </a:lnTo>
                  <a:lnTo>
                    <a:pt x="11268" y="55888"/>
                  </a:lnTo>
                  <a:lnTo>
                    <a:pt x="14603" y="60964"/>
                  </a:lnTo>
                  <a:lnTo>
                    <a:pt x="16678" y="63502"/>
                  </a:lnTo>
                  <a:lnTo>
                    <a:pt x="18908" y="66042"/>
                  </a:lnTo>
                  <a:lnTo>
                    <a:pt x="21240" y="68581"/>
                  </a:lnTo>
                  <a:lnTo>
                    <a:pt x="23643" y="71121"/>
                  </a:lnTo>
                  <a:lnTo>
                    <a:pt x="26937" y="73661"/>
                  </a:lnTo>
                  <a:lnTo>
                    <a:pt x="30827" y="76200"/>
                  </a:lnTo>
                  <a:lnTo>
                    <a:pt x="35113" y="78740"/>
                  </a:lnTo>
                  <a:lnTo>
                    <a:pt x="38819" y="81280"/>
                  </a:lnTo>
                  <a:lnTo>
                    <a:pt x="42135" y="83820"/>
                  </a:lnTo>
                  <a:lnTo>
                    <a:pt x="45192" y="86360"/>
                  </a:lnTo>
                  <a:lnTo>
                    <a:pt x="48923" y="88053"/>
                  </a:lnTo>
                  <a:lnTo>
                    <a:pt x="53104" y="89182"/>
                  </a:lnTo>
                  <a:lnTo>
                    <a:pt x="57585" y="89935"/>
                  </a:lnTo>
                  <a:lnTo>
                    <a:pt x="61419" y="90437"/>
                  </a:lnTo>
                  <a:lnTo>
                    <a:pt x="64822" y="90771"/>
                  </a:lnTo>
                  <a:lnTo>
                    <a:pt x="67936" y="90994"/>
                  </a:lnTo>
                  <a:lnTo>
                    <a:pt x="70860" y="91143"/>
                  </a:lnTo>
                  <a:lnTo>
                    <a:pt x="80180" y="91401"/>
                  </a:lnTo>
                  <a:lnTo>
                    <a:pt x="76557" y="93681"/>
                  </a:lnTo>
                  <a:lnTo>
                    <a:pt x="73221" y="95474"/>
                  </a:lnTo>
                  <a:lnTo>
                    <a:pt x="70149" y="96669"/>
                  </a:lnTo>
                  <a:lnTo>
                    <a:pt x="67256" y="97466"/>
                  </a:lnTo>
                  <a:lnTo>
                    <a:pt x="64479" y="97998"/>
                  </a:lnTo>
                  <a:lnTo>
                    <a:pt x="60935" y="99198"/>
                  </a:lnTo>
                  <a:lnTo>
                    <a:pt x="56878" y="100845"/>
                  </a:lnTo>
                  <a:lnTo>
                    <a:pt x="52481" y="102790"/>
                  </a:lnTo>
                  <a:lnTo>
                    <a:pt x="47010" y="104087"/>
                  </a:lnTo>
                  <a:lnTo>
                    <a:pt x="40822" y="104951"/>
                  </a:lnTo>
                  <a:lnTo>
                    <a:pt x="34157" y="105528"/>
                  </a:lnTo>
                  <a:lnTo>
                    <a:pt x="28019" y="106758"/>
                  </a:lnTo>
                  <a:lnTo>
                    <a:pt x="22236" y="108426"/>
                  </a:lnTo>
                  <a:lnTo>
                    <a:pt x="16685" y="110384"/>
                  </a:lnTo>
                  <a:lnTo>
                    <a:pt x="12140" y="112536"/>
                  </a:lnTo>
                  <a:lnTo>
                    <a:pt x="8262" y="114817"/>
                  </a:lnTo>
                  <a:lnTo>
                    <a:pt x="4830" y="117185"/>
                  </a:lnTo>
                  <a:lnTo>
                    <a:pt x="2542" y="119610"/>
                  </a:lnTo>
                  <a:lnTo>
                    <a:pt x="1016" y="122073"/>
                  </a:lnTo>
                  <a:lnTo>
                    <a:pt x="0" y="124562"/>
                  </a:lnTo>
                  <a:lnTo>
                    <a:pt x="170" y="127068"/>
                  </a:lnTo>
                  <a:lnTo>
                    <a:pt x="1128" y="129586"/>
                  </a:lnTo>
                  <a:lnTo>
                    <a:pt x="4452" y="135487"/>
                  </a:lnTo>
                  <a:lnTo>
                    <a:pt x="8751" y="143754"/>
                  </a:lnTo>
                  <a:lnTo>
                    <a:pt x="12776" y="147483"/>
                  </a:lnTo>
                  <a:lnTo>
                    <a:pt x="18000" y="150815"/>
                  </a:lnTo>
                  <a:lnTo>
                    <a:pt x="24022" y="153884"/>
                  </a:lnTo>
                  <a:lnTo>
                    <a:pt x="30577" y="157622"/>
                  </a:lnTo>
                  <a:lnTo>
                    <a:pt x="37487" y="161808"/>
                  </a:lnTo>
                  <a:lnTo>
                    <a:pt x="44634" y="166292"/>
                  </a:lnTo>
                  <a:lnTo>
                    <a:pt x="52785" y="170128"/>
                  </a:lnTo>
                  <a:lnTo>
                    <a:pt x="61606" y="173532"/>
                  </a:lnTo>
                  <a:lnTo>
                    <a:pt x="70872" y="176648"/>
                  </a:lnTo>
                  <a:lnTo>
                    <a:pt x="80437" y="179572"/>
                  </a:lnTo>
                  <a:lnTo>
                    <a:pt x="100096" y="185079"/>
                  </a:lnTo>
                  <a:lnTo>
                    <a:pt x="108386" y="186886"/>
                  </a:lnTo>
                  <a:lnTo>
                    <a:pt x="115606" y="188090"/>
                  </a:lnTo>
                  <a:lnTo>
                    <a:pt x="135127" y="190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MARTInkAnnotation213"/>
            <p:cNvSpPr/>
            <p:nvPr/>
          </p:nvSpPr>
          <p:spPr>
            <a:xfrm>
              <a:off x="1500840" y="298008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14">
                  <a:moveTo>
                    <a:pt x="0" y="7620"/>
                  </a:moveTo>
                  <a:lnTo>
                    <a:pt x="4045" y="7620"/>
                  </a:lnTo>
                  <a:lnTo>
                    <a:pt x="6084" y="8467"/>
                  </a:lnTo>
                  <a:lnTo>
                    <a:pt x="8289" y="9878"/>
                  </a:lnTo>
                  <a:lnTo>
                    <a:pt x="10606" y="11666"/>
                  </a:lnTo>
                  <a:lnTo>
                    <a:pt x="12997" y="12857"/>
                  </a:lnTo>
                  <a:lnTo>
                    <a:pt x="15438" y="13652"/>
                  </a:lnTo>
                  <a:lnTo>
                    <a:pt x="17912" y="14181"/>
                  </a:lnTo>
                  <a:lnTo>
                    <a:pt x="21255" y="14534"/>
                  </a:lnTo>
                  <a:lnTo>
                    <a:pt x="25177" y="14770"/>
                  </a:lnTo>
                  <a:lnTo>
                    <a:pt x="29485" y="14926"/>
                  </a:lnTo>
                  <a:lnTo>
                    <a:pt x="47683" y="15147"/>
                  </a:lnTo>
                  <a:lnTo>
                    <a:pt x="69162" y="15213"/>
                  </a:lnTo>
                  <a:lnTo>
                    <a:pt x="78281" y="14375"/>
                  </a:lnTo>
                  <a:lnTo>
                    <a:pt x="88594" y="12970"/>
                  </a:lnTo>
                  <a:lnTo>
                    <a:pt x="99703" y="11187"/>
                  </a:lnTo>
                  <a:lnTo>
                    <a:pt x="110495" y="9998"/>
                  </a:lnTo>
                  <a:lnTo>
                    <a:pt x="121077" y="9205"/>
                  </a:lnTo>
                  <a:lnTo>
                    <a:pt x="131518" y="8677"/>
                  </a:lnTo>
                  <a:lnTo>
                    <a:pt x="143559" y="7478"/>
                  </a:lnTo>
                  <a:lnTo>
                    <a:pt x="156666" y="5832"/>
                  </a:lnTo>
                  <a:lnTo>
                    <a:pt x="170484" y="3888"/>
                  </a:lnTo>
                  <a:lnTo>
                    <a:pt x="181389" y="2592"/>
                  </a:lnTo>
                  <a:lnTo>
                    <a:pt x="190353" y="1728"/>
                  </a:lnTo>
                  <a:lnTo>
                    <a:pt x="198022" y="1152"/>
                  </a:lnTo>
                  <a:lnTo>
                    <a:pt x="205675" y="768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MARTInkAnnotation214"/>
            <p:cNvSpPr/>
            <p:nvPr/>
          </p:nvSpPr>
          <p:spPr>
            <a:xfrm>
              <a:off x="1905120" y="2865600"/>
              <a:ext cx="225360" cy="198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5560" h="198121">
                  <a:moveTo>
                    <a:pt x="90843" y="0"/>
                  </a:moveTo>
                  <a:lnTo>
                    <a:pt x="75447" y="15397"/>
                  </a:lnTo>
                  <a:lnTo>
                    <a:pt x="71265" y="18731"/>
                  </a:lnTo>
                  <a:lnTo>
                    <a:pt x="66785" y="21801"/>
                  </a:lnTo>
                  <a:lnTo>
                    <a:pt x="62104" y="24694"/>
                  </a:lnTo>
                  <a:lnTo>
                    <a:pt x="58137" y="28316"/>
                  </a:lnTo>
                  <a:lnTo>
                    <a:pt x="54646" y="32424"/>
                  </a:lnTo>
                  <a:lnTo>
                    <a:pt x="51472" y="36856"/>
                  </a:lnTo>
                  <a:lnTo>
                    <a:pt x="46815" y="42351"/>
                  </a:lnTo>
                  <a:lnTo>
                    <a:pt x="41171" y="48554"/>
                  </a:lnTo>
                  <a:lnTo>
                    <a:pt x="34869" y="55229"/>
                  </a:lnTo>
                  <a:lnTo>
                    <a:pt x="28973" y="62220"/>
                  </a:lnTo>
                  <a:lnTo>
                    <a:pt x="23350" y="69420"/>
                  </a:lnTo>
                  <a:lnTo>
                    <a:pt x="17908" y="76760"/>
                  </a:lnTo>
                  <a:lnTo>
                    <a:pt x="13433" y="84193"/>
                  </a:lnTo>
                  <a:lnTo>
                    <a:pt x="9603" y="91689"/>
                  </a:lnTo>
                  <a:lnTo>
                    <a:pt x="6203" y="99226"/>
                  </a:lnTo>
                  <a:lnTo>
                    <a:pt x="3936" y="106791"/>
                  </a:lnTo>
                  <a:lnTo>
                    <a:pt x="2425" y="114374"/>
                  </a:lnTo>
                  <a:lnTo>
                    <a:pt x="1418" y="121970"/>
                  </a:lnTo>
                  <a:lnTo>
                    <a:pt x="746" y="128726"/>
                  </a:lnTo>
                  <a:lnTo>
                    <a:pt x="299" y="134924"/>
                  </a:lnTo>
                  <a:lnTo>
                    <a:pt x="0" y="140749"/>
                  </a:lnTo>
                  <a:lnTo>
                    <a:pt x="647" y="146326"/>
                  </a:lnTo>
                  <a:lnTo>
                    <a:pt x="1926" y="151738"/>
                  </a:lnTo>
                  <a:lnTo>
                    <a:pt x="3625" y="157039"/>
                  </a:lnTo>
                  <a:lnTo>
                    <a:pt x="7298" y="162265"/>
                  </a:lnTo>
                  <a:lnTo>
                    <a:pt x="12286" y="167444"/>
                  </a:lnTo>
                  <a:lnTo>
                    <a:pt x="18152" y="172589"/>
                  </a:lnTo>
                  <a:lnTo>
                    <a:pt x="23755" y="176866"/>
                  </a:lnTo>
                  <a:lnTo>
                    <a:pt x="29185" y="180564"/>
                  </a:lnTo>
                  <a:lnTo>
                    <a:pt x="34498" y="183876"/>
                  </a:lnTo>
                  <a:lnTo>
                    <a:pt x="41426" y="186084"/>
                  </a:lnTo>
                  <a:lnTo>
                    <a:pt x="49432" y="187556"/>
                  </a:lnTo>
                  <a:lnTo>
                    <a:pt x="58156" y="188537"/>
                  </a:lnTo>
                  <a:lnTo>
                    <a:pt x="67358" y="189192"/>
                  </a:lnTo>
                  <a:lnTo>
                    <a:pt x="76880" y="189628"/>
                  </a:lnTo>
                  <a:lnTo>
                    <a:pt x="86614" y="189919"/>
                  </a:lnTo>
                  <a:lnTo>
                    <a:pt x="97337" y="189266"/>
                  </a:lnTo>
                  <a:lnTo>
                    <a:pt x="108719" y="187984"/>
                  </a:lnTo>
                  <a:lnTo>
                    <a:pt x="120541" y="186283"/>
                  </a:lnTo>
                  <a:lnTo>
                    <a:pt x="131808" y="184302"/>
                  </a:lnTo>
                  <a:lnTo>
                    <a:pt x="142706" y="182135"/>
                  </a:lnTo>
                  <a:lnTo>
                    <a:pt x="153359" y="179843"/>
                  </a:lnTo>
                  <a:lnTo>
                    <a:pt x="163000" y="176622"/>
                  </a:lnTo>
                  <a:lnTo>
                    <a:pt x="171968" y="172781"/>
                  </a:lnTo>
                  <a:lnTo>
                    <a:pt x="180486" y="168528"/>
                  </a:lnTo>
                  <a:lnTo>
                    <a:pt x="188705" y="163999"/>
                  </a:lnTo>
                  <a:lnTo>
                    <a:pt x="196725" y="159286"/>
                  </a:lnTo>
                  <a:lnTo>
                    <a:pt x="204611" y="154450"/>
                  </a:lnTo>
                  <a:lnTo>
                    <a:pt x="210715" y="149534"/>
                  </a:lnTo>
                  <a:lnTo>
                    <a:pt x="215631" y="144563"/>
                  </a:lnTo>
                  <a:lnTo>
                    <a:pt x="219755" y="139555"/>
                  </a:lnTo>
                  <a:lnTo>
                    <a:pt x="222504" y="134523"/>
                  </a:lnTo>
                  <a:lnTo>
                    <a:pt x="224337" y="129476"/>
                  </a:lnTo>
                  <a:lnTo>
                    <a:pt x="225559" y="124417"/>
                  </a:lnTo>
                  <a:lnTo>
                    <a:pt x="225527" y="120198"/>
                  </a:lnTo>
                  <a:lnTo>
                    <a:pt x="224659" y="116539"/>
                  </a:lnTo>
                  <a:lnTo>
                    <a:pt x="223234" y="113252"/>
                  </a:lnTo>
                  <a:lnTo>
                    <a:pt x="220590" y="110215"/>
                  </a:lnTo>
                  <a:lnTo>
                    <a:pt x="217134" y="107343"/>
                  </a:lnTo>
                  <a:lnTo>
                    <a:pt x="213137" y="104582"/>
                  </a:lnTo>
                  <a:lnTo>
                    <a:pt x="208779" y="102741"/>
                  </a:lnTo>
                  <a:lnTo>
                    <a:pt x="204180" y="101514"/>
                  </a:lnTo>
                  <a:lnTo>
                    <a:pt x="199421" y="100696"/>
                  </a:lnTo>
                  <a:lnTo>
                    <a:pt x="194555" y="100151"/>
                  </a:lnTo>
                  <a:lnTo>
                    <a:pt x="189618" y="99787"/>
                  </a:lnTo>
                  <a:lnTo>
                    <a:pt x="184633" y="99545"/>
                  </a:lnTo>
                  <a:lnTo>
                    <a:pt x="179616" y="100230"/>
                  </a:lnTo>
                  <a:lnTo>
                    <a:pt x="174578" y="101534"/>
                  </a:lnTo>
                  <a:lnTo>
                    <a:pt x="150281" y="109708"/>
                  </a:lnTo>
                  <a:lnTo>
                    <a:pt x="144862" y="112933"/>
                  </a:lnTo>
                  <a:lnTo>
                    <a:pt x="140402" y="116775"/>
                  </a:lnTo>
                  <a:lnTo>
                    <a:pt x="136583" y="121030"/>
                  </a:lnTo>
                  <a:lnTo>
                    <a:pt x="134036" y="124714"/>
                  </a:lnTo>
                  <a:lnTo>
                    <a:pt x="132338" y="128016"/>
                  </a:lnTo>
                  <a:lnTo>
                    <a:pt x="131207" y="131064"/>
                  </a:lnTo>
                  <a:lnTo>
                    <a:pt x="131299" y="134789"/>
                  </a:lnTo>
                  <a:lnTo>
                    <a:pt x="132207" y="138966"/>
                  </a:lnTo>
                  <a:lnTo>
                    <a:pt x="133659" y="143444"/>
                  </a:lnTo>
                  <a:lnTo>
                    <a:pt x="136320" y="148123"/>
                  </a:lnTo>
                  <a:lnTo>
                    <a:pt x="139788" y="152935"/>
                  </a:lnTo>
                  <a:lnTo>
                    <a:pt x="143793" y="157837"/>
                  </a:lnTo>
                  <a:lnTo>
                    <a:pt x="148157" y="162798"/>
                  </a:lnTo>
                  <a:lnTo>
                    <a:pt x="152759" y="167799"/>
                  </a:lnTo>
                  <a:lnTo>
                    <a:pt x="157520" y="172826"/>
                  </a:lnTo>
                  <a:lnTo>
                    <a:pt x="164081" y="177870"/>
                  </a:lnTo>
                  <a:lnTo>
                    <a:pt x="171842" y="182927"/>
                  </a:lnTo>
                  <a:lnTo>
                    <a:pt x="180402" y="187992"/>
                  </a:lnTo>
                  <a:lnTo>
                    <a:pt x="187803" y="191368"/>
                  </a:lnTo>
                  <a:lnTo>
                    <a:pt x="194429" y="193618"/>
                  </a:lnTo>
                  <a:lnTo>
                    <a:pt x="212763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MARTInkAnnotation215"/>
            <p:cNvSpPr/>
            <p:nvPr/>
          </p:nvSpPr>
          <p:spPr>
            <a:xfrm>
              <a:off x="2285640" y="2941920"/>
              <a:ext cx="213120" cy="15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13361" h="15241">
                  <a:moveTo>
                    <a:pt x="0" y="15240"/>
                  </a:moveTo>
                  <a:lnTo>
                    <a:pt x="40090" y="15240"/>
                  </a:lnTo>
                  <a:lnTo>
                    <a:pt x="46200" y="14393"/>
                  </a:lnTo>
                  <a:lnTo>
                    <a:pt x="51967" y="12982"/>
                  </a:lnTo>
                  <a:lnTo>
                    <a:pt x="57505" y="11195"/>
                  </a:lnTo>
                  <a:lnTo>
                    <a:pt x="64583" y="10003"/>
                  </a:lnTo>
                  <a:lnTo>
                    <a:pt x="72689" y="9209"/>
                  </a:lnTo>
                  <a:lnTo>
                    <a:pt x="81479" y="8679"/>
                  </a:lnTo>
                  <a:lnTo>
                    <a:pt x="98020" y="8091"/>
                  </a:lnTo>
                  <a:lnTo>
                    <a:pt x="105986" y="7934"/>
                  </a:lnTo>
                  <a:lnTo>
                    <a:pt x="114684" y="6983"/>
                  </a:lnTo>
                  <a:lnTo>
                    <a:pt x="123870" y="5502"/>
                  </a:lnTo>
                  <a:lnTo>
                    <a:pt x="133380" y="3668"/>
                  </a:lnTo>
                  <a:lnTo>
                    <a:pt x="142260" y="2445"/>
                  </a:lnTo>
                  <a:lnTo>
                    <a:pt x="150720" y="1630"/>
                  </a:lnTo>
                  <a:lnTo>
                    <a:pt x="158900" y="1087"/>
                  </a:lnTo>
                  <a:lnTo>
                    <a:pt x="166893" y="724"/>
                  </a:lnTo>
                  <a:lnTo>
                    <a:pt x="182548" y="32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MARTInkAnnotation216"/>
            <p:cNvSpPr/>
            <p:nvPr/>
          </p:nvSpPr>
          <p:spPr>
            <a:xfrm>
              <a:off x="2666880" y="2850480"/>
              <a:ext cx="249480" cy="1980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49790" h="198121">
                  <a:moveTo>
                    <a:pt x="30138" y="0"/>
                  </a:moveTo>
                  <a:lnTo>
                    <a:pt x="30138" y="4045"/>
                  </a:lnTo>
                  <a:lnTo>
                    <a:pt x="29291" y="5237"/>
                  </a:lnTo>
                  <a:lnTo>
                    <a:pt x="27881" y="6031"/>
                  </a:lnTo>
                  <a:lnTo>
                    <a:pt x="23577" y="7306"/>
                  </a:lnTo>
                  <a:lnTo>
                    <a:pt x="22989" y="11996"/>
                  </a:lnTo>
                  <a:lnTo>
                    <a:pt x="22728" y="18878"/>
                  </a:lnTo>
                  <a:lnTo>
                    <a:pt x="22611" y="24759"/>
                  </a:lnTo>
                  <a:lnTo>
                    <a:pt x="21733" y="28359"/>
                  </a:lnTo>
                  <a:lnTo>
                    <a:pt x="20302" y="32453"/>
                  </a:lnTo>
                  <a:lnTo>
                    <a:pt x="18501" y="36875"/>
                  </a:lnTo>
                  <a:lnTo>
                    <a:pt x="17300" y="40670"/>
                  </a:lnTo>
                  <a:lnTo>
                    <a:pt x="16499" y="44046"/>
                  </a:lnTo>
                  <a:lnTo>
                    <a:pt x="15966" y="47145"/>
                  </a:lnTo>
                  <a:lnTo>
                    <a:pt x="15610" y="50903"/>
                  </a:lnTo>
                  <a:lnTo>
                    <a:pt x="15373" y="55102"/>
                  </a:lnTo>
                  <a:lnTo>
                    <a:pt x="15215" y="59595"/>
                  </a:lnTo>
                  <a:lnTo>
                    <a:pt x="14263" y="64283"/>
                  </a:lnTo>
                  <a:lnTo>
                    <a:pt x="12781" y="69102"/>
                  </a:lnTo>
                  <a:lnTo>
                    <a:pt x="10947" y="74008"/>
                  </a:lnTo>
                  <a:lnTo>
                    <a:pt x="9724" y="78125"/>
                  </a:lnTo>
                  <a:lnTo>
                    <a:pt x="8909" y="81717"/>
                  </a:lnTo>
                  <a:lnTo>
                    <a:pt x="8365" y="84958"/>
                  </a:lnTo>
                  <a:lnTo>
                    <a:pt x="5504" y="90817"/>
                  </a:lnTo>
                  <a:lnTo>
                    <a:pt x="3555" y="93565"/>
                  </a:lnTo>
                  <a:lnTo>
                    <a:pt x="1390" y="98875"/>
                  </a:lnTo>
                  <a:lnTo>
                    <a:pt x="428" y="104058"/>
                  </a:lnTo>
                  <a:lnTo>
                    <a:pt x="0" y="109184"/>
                  </a:lnTo>
                  <a:lnTo>
                    <a:pt x="733" y="110889"/>
                  </a:lnTo>
                  <a:lnTo>
                    <a:pt x="2068" y="112026"/>
                  </a:lnTo>
                  <a:lnTo>
                    <a:pt x="3805" y="112784"/>
                  </a:lnTo>
                  <a:lnTo>
                    <a:pt x="7992" y="113626"/>
                  </a:lnTo>
                  <a:lnTo>
                    <a:pt x="10294" y="113851"/>
                  </a:lnTo>
                  <a:lnTo>
                    <a:pt x="12676" y="113154"/>
                  </a:lnTo>
                  <a:lnTo>
                    <a:pt x="17579" y="110122"/>
                  </a:lnTo>
                  <a:lnTo>
                    <a:pt x="24839" y="105952"/>
                  </a:lnTo>
                  <a:lnTo>
                    <a:pt x="29145" y="103655"/>
                  </a:lnTo>
                  <a:lnTo>
                    <a:pt x="35403" y="101276"/>
                  </a:lnTo>
                  <a:lnTo>
                    <a:pt x="42961" y="98844"/>
                  </a:lnTo>
                  <a:lnTo>
                    <a:pt x="51387" y="96376"/>
                  </a:lnTo>
                  <a:lnTo>
                    <a:pt x="59544" y="94731"/>
                  </a:lnTo>
                  <a:lnTo>
                    <a:pt x="67522" y="93634"/>
                  </a:lnTo>
                  <a:lnTo>
                    <a:pt x="75381" y="92903"/>
                  </a:lnTo>
                  <a:lnTo>
                    <a:pt x="84006" y="91569"/>
                  </a:lnTo>
                  <a:lnTo>
                    <a:pt x="93144" y="89832"/>
                  </a:lnTo>
                  <a:lnTo>
                    <a:pt x="102622" y="87828"/>
                  </a:lnTo>
                  <a:lnTo>
                    <a:pt x="111481" y="85646"/>
                  </a:lnTo>
                  <a:lnTo>
                    <a:pt x="119927" y="83343"/>
                  </a:lnTo>
                  <a:lnTo>
                    <a:pt x="128097" y="80962"/>
                  </a:lnTo>
                  <a:lnTo>
                    <a:pt x="136084" y="79375"/>
                  </a:lnTo>
                  <a:lnTo>
                    <a:pt x="143949" y="78317"/>
                  </a:lnTo>
                  <a:lnTo>
                    <a:pt x="151732" y="77611"/>
                  </a:lnTo>
                  <a:lnTo>
                    <a:pt x="160307" y="77987"/>
                  </a:lnTo>
                  <a:lnTo>
                    <a:pt x="169411" y="79085"/>
                  </a:lnTo>
                  <a:lnTo>
                    <a:pt x="178867" y="80663"/>
                  </a:lnTo>
                  <a:lnTo>
                    <a:pt x="186864" y="82562"/>
                  </a:lnTo>
                  <a:lnTo>
                    <a:pt x="193889" y="84675"/>
                  </a:lnTo>
                  <a:lnTo>
                    <a:pt x="200265" y="86930"/>
                  </a:lnTo>
                  <a:lnTo>
                    <a:pt x="206210" y="89280"/>
                  </a:lnTo>
                  <a:lnTo>
                    <a:pt x="211866" y="91693"/>
                  </a:lnTo>
                  <a:lnTo>
                    <a:pt x="222666" y="96633"/>
                  </a:lnTo>
                  <a:lnTo>
                    <a:pt x="233111" y="101650"/>
                  </a:lnTo>
                  <a:lnTo>
                    <a:pt x="236573" y="105020"/>
                  </a:lnTo>
                  <a:lnTo>
                    <a:pt x="238882" y="108960"/>
                  </a:lnTo>
                  <a:lnTo>
                    <a:pt x="240420" y="113280"/>
                  </a:lnTo>
                  <a:lnTo>
                    <a:pt x="242293" y="117007"/>
                  </a:lnTo>
                  <a:lnTo>
                    <a:pt x="244388" y="120338"/>
                  </a:lnTo>
                  <a:lnTo>
                    <a:pt x="246631" y="123405"/>
                  </a:lnTo>
                  <a:lnTo>
                    <a:pt x="248127" y="127143"/>
                  </a:lnTo>
                  <a:lnTo>
                    <a:pt x="249124" y="131329"/>
                  </a:lnTo>
                  <a:lnTo>
                    <a:pt x="249789" y="135813"/>
                  </a:lnTo>
                  <a:lnTo>
                    <a:pt x="249385" y="140495"/>
                  </a:lnTo>
                  <a:lnTo>
                    <a:pt x="248270" y="145310"/>
                  </a:lnTo>
                  <a:lnTo>
                    <a:pt x="246679" y="150213"/>
                  </a:lnTo>
                  <a:lnTo>
                    <a:pt x="243926" y="155176"/>
                  </a:lnTo>
                  <a:lnTo>
                    <a:pt x="240396" y="160177"/>
                  </a:lnTo>
                  <a:lnTo>
                    <a:pt x="236350" y="165205"/>
                  </a:lnTo>
                  <a:lnTo>
                    <a:pt x="231960" y="169403"/>
                  </a:lnTo>
                  <a:lnTo>
                    <a:pt x="227339" y="173049"/>
                  </a:lnTo>
                  <a:lnTo>
                    <a:pt x="222566" y="176326"/>
                  </a:lnTo>
                  <a:lnTo>
                    <a:pt x="217690" y="179357"/>
                  </a:lnTo>
                  <a:lnTo>
                    <a:pt x="212746" y="182225"/>
                  </a:lnTo>
                  <a:lnTo>
                    <a:pt x="207757" y="184983"/>
                  </a:lnTo>
                  <a:lnTo>
                    <a:pt x="201044" y="187669"/>
                  </a:lnTo>
                  <a:lnTo>
                    <a:pt x="193182" y="190306"/>
                  </a:lnTo>
                  <a:lnTo>
                    <a:pt x="184554" y="192911"/>
                  </a:lnTo>
                  <a:lnTo>
                    <a:pt x="177109" y="194647"/>
                  </a:lnTo>
                  <a:lnTo>
                    <a:pt x="170452" y="195805"/>
                  </a:lnTo>
                  <a:lnTo>
                    <a:pt x="164320" y="196576"/>
                  </a:lnTo>
                  <a:lnTo>
                    <a:pt x="158540" y="197091"/>
                  </a:lnTo>
                  <a:lnTo>
                    <a:pt x="152993" y="197434"/>
                  </a:lnTo>
                  <a:lnTo>
                    <a:pt x="143160" y="197815"/>
                  </a:lnTo>
                  <a:lnTo>
                    <a:pt x="129198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MARTInkAnnotation217"/>
            <p:cNvSpPr/>
            <p:nvPr/>
          </p:nvSpPr>
          <p:spPr>
            <a:xfrm>
              <a:off x="2750400" y="282744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41">
                  <a:moveTo>
                    <a:pt x="0" y="15240"/>
                  </a:moveTo>
                  <a:lnTo>
                    <a:pt x="21958" y="15240"/>
                  </a:lnTo>
                  <a:lnTo>
                    <a:pt x="27338" y="14393"/>
                  </a:lnTo>
                  <a:lnTo>
                    <a:pt x="33466" y="12982"/>
                  </a:lnTo>
                  <a:lnTo>
                    <a:pt x="40090" y="11195"/>
                  </a:lnTo>
                  <a:lnTo>
                    <a:pt x="47047" y="10003"/>
                  </a:lnTo>
                  <a:lnTo>
                    <a:pt x="54225" y="9209"/>
                  </a:lnTo>
                  <a:lnTo>
                    <a:pt x="61550" y="8679"/>
                  </a:lnTo>
                  <a:lnTo>
                    <a:pt x="69820" y="8326"/>
                  </a:lnTo>
                  <a:lnTo>
                    <a:pt x="88040" y="7934"/>
                  </a:lnTo>
                  <a:lnTo>
                    <a:pt x="117338" y="7713"/>
                  </a:lnTo>
                  <a:lnTo>
                    <a:pt x="128179" y="6836"/>
                  </a:lnTo>
                  <a:lnTo>
                    <a:pt x="139639" y="5404"/>
                  </a:lnTo>
                  <a:lnTo>
                    <a:pt x="151513" y="3603"/>
                  </a:lnTo>
                  <a:lnTo>
                    <a:pt x="163662" y="2402"/>
                  </a:lnTo>
                  <a:lnTo>
                    <a:pt x="175995" y="1601"/>
                  </a:lnTo>
                  <a:lnTo>
                    <a:pt x="199293" y="71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MARTInkAnnotation218"/>
            <p:cNvSpPr/>
            <p:nvPr/>
          </p:nvSpPr>
          <p:spPr>
            <a:xfrm>
              <a:off x="3306600" y="2934360"/>
              <a:ext cx="251280" cy="22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251461" h="22860">
                  <a:moveTo>
                    <a:pt x="0" y="22859"/>
                  </a:moveTo>
                  <a:lnTo>
                    <a:pt x="0" y="15553"/>
                  </a:lnTo>
                  <a:lnTo>
                    <a:pt x="846" y="14602"/>
                  </a:lnTo>
                  <a:lnTo>
                    <a:pt x="4045" y="11287"/>
                  </a:lnTo>
                  <a:lnTo>
                    <a:pt x="6930" y="10064"/>
                  </a:lnTo>
                  <a:lnTo>
                    <a:pt x="10546" y="9249"/>
                  </a:lnTo>
                  <a:lnTo>
                    <a:pt x="14651" y="8706"/>
                  </a:lnTo>
                  <a:lnTo>
                    <a:pt x="19927" y="8343"/>
                  </a:lnTo>
                  <a:lnTo>
                    <a:pt x="25984" y="8102"/>
                  </a:lnTo>
                  <a:lnTo>
                    <a:pt x="32563" y="7941"/>
                  </a:lnTo>
                  <a:lnTo>
                    <a:pt x="38642" y="6987"/>
                  </a:lnTo>
                  <a:lnTo>
                    <a:pt x="44388" y="5504"/>
                  </a:lnTo>
                  <a:lnTo>
                    <a:pt x="49912" y="3669"/>
                  </a:lnTo>
                  <a:lnTo>
                    <a:pt x="56981" y="2446"/>
                  </a:lnTo>
                  <a:lnTo>
                    <a:pt x="65080" y="1630"/>
                  </a:lnTo>
                  <a:lnTo>
                    <a:pt x="73867" y="1087"/>
                  </a:lnTo>
                  <a:lnTo>
                    <a:pt x="90403" y="482"/>
                  </a:lnTo>
                  <a:lnTo>
                    <a:pt x="116250" y="142"/>
                  </a:lnTo>
                  <a:lnTo>
                    <a:pt x="228257" y="0"/>
                  </a:lnTo>
                  <a:lnTo>
                    <a:pt x="234298" y="846"/>
                  </a:lnTo>
                  <a:lnTo>
                    <a:pt x="239172" y="2257"/>
                  </a:lnTo>
                  <a:lnTo>
                    <a:pt x="251460" y="76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MARTInkAnnotation219"/>
            <p:cNvSpPr/>
            <p:nvPr/>
          </p:nvSpPr>
          <p:spPr>
            <a:xfrm>
              <a:off x="3390480" y="298764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0"/>
                  </a:moveTo>
                  <a:lnTo>
                    <a:pt x="4045" y="4045"/>
                  </a:lnTo>
                  <a:lnTo>
                    <a:pt x="6083" y="5237"/>
                  </a:lnTo>
                  <a:lnTo>
                    <a:pt x="8289" y="6031"/>
                  </a:lnTo>
                  <a:lnTo>
                    <a:pt x="10606" y="6561"/>
                  </a:lnTo>
                  <a:lnTo>
                    <a:pt x="12997" y="6914"/>
                  </a:lnTo>
                  <a:lnTo>
                    <a:pt x="17912" y="7306"/>
                  </a:lnTo>
                  <a:lnTo>
                    <a:pt x="21255" y="8258"/>
                  </a:lnTo>
                  <a:lnTo>
                    <a:pt x="25176" y="9738"/>
                  </a:lnTo>
                  <a:lnTo>
                    <a:pt x="29484" y="11573"/>
                  </a:lnTo>
                  <a:lnTo>
                    <a:pt x="35743" y="12795"/>
                  </a:lnTo>
                  <a:lnTo>
                    <a:pt x="43302" y="13610"/>
                  </a:lnTo>
                  <a:lnTo>
                    <a:pt x="51728" y="14154"/>
                  </a:lnTo>
                  <a:lnTo>
                    <a:pt x="67864" y="14757"/>
                  </a:lnTo>
                  <a:lnTo>
                    <a:pt x="93485" y="15097"/>
                  </a:lnTo>
                  <a:lnTo>
                    <a:pt x="224519" y="15240"/>
                  </a:lnTo>
                  <a:lnTo>
                    <a:pt x="229266" y="14393"/>
                  </a:lnTo>
                  <a:lnTo>
                    <a:pt x="233278" y="12982"/>
                  </a:lnTo>
                  <a:lnTo>
                    <a:pt x="236798" y="11195"/>
                  </a:lnTo>
                  <a:lnTo>
                    <a:pt x="239992" y="10003"/>
                  </a:lnTo>
                  <a:lnTo>
                    <a:pt x="242968" y="9209"/>
                  </a:lnTo>
                  <a:lnTo>
                    <a:pt x="25146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MARTInkAnnotation220"/>
            <p:cNvSpPr/>
            <p:nvPr/>
          </p:nvSpPr>
          <p:spPr>
            <a:xfrm>
              <a:off x="3832560" y="2865600"/>
              <a:ext cx="114120" cy="75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14301" h="7621">
                  <a:moveTo>
                    <a:pt x="0" y="7620"/>
                  </a:moveTo>
                  <a:lnTo>
                    <a:pt x="73141" y="7620"/>
                  </a:lnTo>
                  <a:lnTo>
                    <a:pt x="80934" y="6774"/>
                  </a:lnTo>
                  <a:lnTo>
                    <a:pt x="87822" y="5362"/>
                  </a:lnTo>
                  <a:lnTo>
                    <a:pt x="94108" y="3575"/>
                  </a:lnTo>
                  <a:lnTo>
                    <a:pt x="99145" y="2383"/>
                  </a:lnTo>
                  <a:lnTo>
                    <a:pt x="103351" y="1589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Annotation221"/>
            <p:cNvSpPr/>
            <p:nvPr/>
          </p:nvSpPr>
          <p:spPr>
            <a:xfrm>
              <a:off x="4137120" y="2812320"/>
              <a:ext cx="30240" cy="198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0482" h="198121">
                  <a:moveTo>
                    <a:pt x="0" y="0"/>
                  </a:moveTo>
                  <a:lnTo>
                    <a:pt x="0" y="10606"/>
                  </a:lnTo>
                  <a:lnTo>
                    <a:pt x="846" y="12997"/>
                  </a:lnTo>
                  <a:lnTo>
                    <a:pt x="2257" y="15438"/>
                  </a:lnTo>
                  <a:lnTo>
                    <a:pt x="4045" y="17912"/>
                  </a:lnTo>
                  <a:lnTo>
                    <a:pt x="5237" y="20408"/>
                  </a:lnTo>
                  <a:lnTo>
                    <a:pt x="6031" y="22918"/>
                  </a:lnTo>
                  <a:lnTo>
                    <a:pt x="6914" y="28813"/>
                  </a:lnTo>
                  <a:lnTo>
                    <a:pt x="7150" y="32755"/>
                  </a:lnTo>
                  <a:lnTo>
                    <a:pt x="7411" y="41651"/>
                  </a:lnTo>
                  <a:lnTo>
                    <a:pt x="7593" y="70218"/>
                  </a:lnTo>
                  <a:lnTo>
                    <a:pt x="8449" y="76445"/>
                  </a:lnTo>
                  <a:lnTo>
                    <a:pt x="9866" y="82290"/>
                  </a:lnTo>
                  <a:lnTo>
                    <a:pt x="11657" y="87880"/>
                  </a:lnTo>
                  <a:lnTo>
                    <a:pt x="12852" y="93300"/>
                  </a:lnTo>
                  <a:lnTo>
                    <a:pt x="13647" y="98607"/>
                  </a:lnTo>
                  <a:lnTo>
                    <a:pt x="14178" y="103838"/>
                  </a:lnTo>
                  <a:lnTo>
                    <a:pt x="14533" y="109865"/>
                  </a:lnTo>
                  <a:lnTo>
                    <a:pt x="14926" y="123336"/>
                  </a:lnTo>
                  <a:lnTo>
                    <a:pt x="15213" y="157159"/>
                  </a:lnTo>
                  <a:lnTo>
                    <a:pt x="16069" y="161499"/>
                  </a:lnTo>
                  <a:lnTo>
                    <a:pt x="17486" y="165239"/>
                  </a:lnTo>
                  <a:lnTo>
                    <a:pt x="21318" y="172500"/>
                  </a:lnTo>
                  <a:lnTo>
                    <a:pt x="25844" y="181371"/>
                  </a:lnTo>
                  <a:lnTo>
                    <a:pt x="27390" y="185261"/>
                  </a:lnTo>
                  <a:lnTo>
                    <a:pt x="28419" y="188700"/>
                  </a:lnTo>
                  <a:lnTo>
                    <a:pt x="30481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Annotation222"/>
            <p:cNvSpPr/>
            <p:nvPr/>
          </p:nvSpPr>
          <p:spPr>
            <a:xfrm>
              <a:off x="4289760" y="2827440"/>
              <a:ext cx="22680" cy="1980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2861" h="198121">
                  <a:moveTo>
                    <a:pt x="22860" y="0"/>
                  </a:moveTo>
                  <a:lnTo>
                    <a:pt x="22860" y="66083"/>
                  </a:lnTo>
                  <a:lnTo>
                    <a:pt x="22014" y="71149"/>
                  </a:lnTo>
                  <a:lnTo>
                    <a:pt x="20602" y="76219"/>
                  </a:lnTo>
                  <a:lnTo>
                    <a:pt x="18815" y="81293"/>
                  </a:lnTo>
                  <a:lnTo>
                    <a:pt x="17624" y="87215"/>
                  </a:lnTo>
                  <a:lnTo>
                    <a:pt x="16829" y="93703"/>
                  </a:lnTo>
                  <a:lnTo>
                    <a:pt x="16299" y="100569"/>
                  </a:lnTo>
                  <a:lnTo>
                    <a:pt x="15947" y="106839"/>
                  </a:lnTo>
                  <a:lnTo>
                    <a:pt x="15554" y="118322"/>
                  </a:lnTo>
                  <a:lnTo>
                    <a:pt x="14603" y="124601"/>
                  </a:lnTo>
                  <a:lnTo>
                    <a:pt x="13122" y="131328"/>
                  </a:lnTo>
                  <a:lnTo>
                    <a:pt x="11288" y="138352"/>
                  </a:lnTo>
                  <a:lnTo>
                    <a:pt x="10065" y="144728"/>
                  </a:lnTo>
                  <a:lnTo>
                    <a:pt x="9250" y="150672"/>
                  </a:lnTo>
                  <a:lnTo>
                    <a:pt x="8707" y="156328"/>
                  </a:lnTo>
                  <a:lnTo>
                    <a:pt x="7498" y="162639"/>
                  </a:lnTo>
                  <a:lnTo>
                    <a:pt x="5845" y="169386"/>
                  </a:lnTo>
                  <a:lnTo>
                    <a:pt x="3897" y="176424"/>
                  </a:lnTo>
                  <a:lnTo>
                    <a:pt x="2598" y="181963"/>
                  </a:lnTo>
                  <a:lnTo>
                    <a:pt x="1732" y="186502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Annotation223"/>
            <p:cNvSpPr/>
            <p:nvPr/>
          </p:nvSpPr>
          <p:spPr>
            <a:xfrm>
              <a:off x="2209320" y="3261960"/>
              <a:ext cx="327600" cy="720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327661" h="7307">
                  <a:moveTo>
                    <a:pt x="0" y="0"/>
                  </a:moveTo>
                  <a:lnTo>
                    <a:pt x="18878" y="0"/>
                  </a:lnTo>
                  <a:lnTo>
                    <a:pt x="21052" y="847"/>
                  </a:lnTo>
                  <a:lnTo>
                    <a:pt x="23348" y="2258"/>
                  </a:lnTo>
                  <a:lnTo>
                    <a:pt x="25725" y="4045"/>
                  </a:lnTo>
                  <a:lnTo>
                    <a:pt x="29004" y="5237"/>
                  </a:lnTo>
                  <a:lnTo>
                    <a:pt x="32882" y="6031"/>
                  </a:lnTo>
                  <a:lnTo>
                    <a:pt x="37162" y="6561"/>
                  </a:lnTo>
                  <a:lnTo>
                    <a:pt x="41708" y="6914"/>
                  </a:lnTo>
                  <a:lnTo>
                    <a:pt x="46432" y="7149"/>
                  </a:lnTo>
                  <a:lnTo>
                    <a:pt x="51275" y="7306"/>
                  </a:lnTo>
                  <a:lnTo>
                    <a:pt x="57043" y="6564"/>
                  </a:lnTo>
                  <a:lnTo>
                    <a:pt x="63429" y="5223"/>
                  </a:lnTo>
                  <a:lnTo>
                    <a:pt x="70226" y="3482"/>
                  </a:lnTo>
                  <a:lnTo>
                    <a:pt x="76451" y="2321"/>
                  </a:lnTo>
                  <a:lnTo>
                    <a:pt x="82294" y="1547"/>
                  </a:lnTo>
                  <a:lnTo>
                    <a:pt x="87883" y="1032"/>
                  </a:lnTo>
                  <a:lnTo>
                    <a:pt x="94995" y="688"/>
                  </a:lnTo>
                  <a:lnTo>
                    <a:pt x="111929" y="306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Annotation224"/>
            <p:cNvSpPr/>
            <p:nvPr/>
          </p:nvSpPr>
          <p:spPr>
            <a:xfrm>
              <a:off x="2742840" y="317052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7620" y="0"/>
                  </a:moveTo>
                  <a:lnTo>
                    <a:pt x="7620" y="24473"/>
                  </a:lnTo>
                  <a:lnTo>
                    <a:pt x="6773" y="27322"/>
                  </a:lnTo>
                  <a:lnTo>
                    <a:pt x="5362" y="30068"/>
                  </a:lnTo>
                  <a:lnTo>
                    <a:pt x="3575" y="32746"/>
                  </a:lnTo>
                  <a:lnTo>
                    <a:pt x="2383" y="37070"/>
                  </a:lnTo>
                  <a:lnTo>
                    <a:pt x="1589" y="42494"/>
                  </a:lnTo>
                  <a:lnTo>
                    <a:pt x="1059" y="48649"/>
                  </a:lnTo>
                  <a:lnTo>
                    <a:pt x="706" y="53600"/>
                  </a:lnTo>
                  <a:lnTo>
                    <a:pt x="314" y="61358"/>
                  </a:lnTo>
                  <a:lnTo>
                    <a:pt x="139" y="69886"/>
                  </a:lnTo>
                  <a:lnTo>
                    <a:pt x="0" y="188703"/>
                  </a:lnTo>
                  <a:lnTo>
                    <a:pt x="847" y="193536"/>
                  </a:lnTo>
                  <a:lnTo>
                    <a:pt x="2258" y="198451"/>
                  </a:lnTo>
                  <a:lnTo>
                    <a:pt x="4045" y="203420"/>
                  </a:lnTo>
                  <a:lnTo>
                    <a:pt x="5237" y="207580"/>
                  </a:lnTo>
                  <a:lnTo>
                    <a:pt x="6031" y="211200"/>
                  </a:lnTo>
                  <a:lnTo>
                    <a:pt x="7306" y="219048"/>
                  </a:lnTo>
                  <a:lnTo>
                    <a:pt x="9104" y="220539"/>
                  </a:lnTo>
                  <a:lnTo>
                    <a:pt x="11996" y="222380"/>
                  </a:lnTo>
                  <a:lnTo>
                    <a:pt x="22860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Annotation225"/>
            <p:cNvSpPr/>
            <p:nvPr/>
          </p:nvSpPr>
          <p:spPr>
            <a:xfrm>
              <a:off x="2910600" y="3147840"/>
              <a:ext cx="37800" cy="228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8092" h="228601">
                  <a:moveTo>
                    <a:pt x="38091" y="0"/>
                  </a:moveTo>
                  <a:lnTo>
                    <a:pt x="34046" y="4046"/>
                  </a:lnTo>
                  <a:lnTo>
                    <a:pt x="32854" y="6084"/>
                  </a:lnTo>
                  <a:lnTo>
                    <a:pt x="32060" y="8289"/>
                  </a:lnTo>
                  <a:lnTo>
                    <a:pt x="31530" y="10606"/>
                  </a:lnTo>
                  <a:lnTo>
                    <a:pt x="30331" y="13844"/>
                  </a:lnTo>
                  <a:lnTo>
                    <a:pt x="28684" y="17696"/>
                  </a:lnTo>
                  <a:lnTo>
                    <a:pt x="26740" y="21957"/>
                  </a:lnTo>
                  <a:lnTo>
                    <a:pt x="25443" y="26492"/>
                  </a:lnTo>
                  <a:lnTo>
                    <a:pt x="24579" y="31208"/>
                  </a:lnTo>
                  <a:lnTo>
                    <a:pt x="24003" y="36045"/>
                  </a:lnTo>
                  <a:lnTo>
                    <a:pt x="22772" y="41810"/>
                  </a:lnTo>
                  <a:lnTo>
                    <a:pt x="21105" y="48194"/>
                  </a:lnTo>
                  <a:lnTo>
                    <a:pt x="19147" y="54989"/>
                  </a:lnTo>
                  <a:lnTo>
                    <a:pt x="16995" y="61213"/>
                  </a:lnTo>
                  <a:lnTo>
                    <a:pt x="14714" y="67056"/>
                  </a:lnTo>
                  <a:lnTo>
                    <a:pt x="12346" y="72644"/>
                  </a:lnTo>
                  <a:lnTo>
                    <a:pt x="10768" y="78909"/>
                  </a:lnTo>
                  <a:lnTo>
                    <a:pt x="9716" y="85626"/>
                  </a:lnTo>
                  <a:lnTo>
                    <a:pt x="9014" y="92644"/>
                  </a:lnTo>
                  <a:lnTo>
                    <a:pt x="7700" y="99016"/>
                  </a:lnTo>
                  <a:lnTo>
                    <a:pt x="5977" y="104957"/>
                  </a:lnTo>
                  <a:lnTo>
                    <a:pt x="3981" y="110612"/>
                  </a:lnTo>
                  <a:lnTo>
                    <a:pt x="2651" y="116921"/>
                  </a:lnTo>
                  <a:lnTo>
                    <a:pt x="1765" y="123667"/>
                  </a:lnTo>
                  <a:lnTo>
                    <a:pt x="1173" y="130705"/>
                  </a:lnTo>
                  <a:lnTo>
                    <a:pt x="779" y="137937"/>
                  </a:lnTo>
                  <a:lnTo>
                    <a:pt x="341" y="152745"/>
                  </a:lnTo>
                  <a:lnTo>
                    <a:pt x="37" y="182257"/>
                  </a:lnTo>
                  <a:lnTo>
                    <a:pt x="0" y="199032"/>
                  </a:lnTo>
                  <a:lnTo>
                    <a:pt x="844" y="202114"/>
                  </a:lnTo>
                  <a:lnTo>
                    <a:pt x="2253" y="205016"/>
                  </a:lnTo>
                  <a:lnTo>
                    <a:pt x="4039" y="207798"/>
                  </a:lnTo>
                  <a:lnTo>
                    <a:pt x="5230" y="210499"/>
                  </a:lnTo>
                  <a:lnTo>
                    <a:pt x="6023" y="213146"/>
                  </a:lnTo>
                  <a:lnTo>
                    <a:pt x="6906" y="218345"/>
                  </a:lnTo>
                  <a:lnTo>
                    <a:pt x="7141" y="220917"/>
                  </a:lnTo>
                  <a:lnTo>
                    <a:pt x="7611" y="228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Annotation226"/>
            <p:cNvSpPr/>
            <p:nvPr/>
          </p:nvSpPr>
          <p:spPr>
            <a:xfrm>
              <a:off x="3192480" y="3246840"/>
              <a:ext cx="258840" cy="151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9080" h="15241">
                  <a:moveTo>
                    <a:pt x="0" y="7621"/>
                  </a:moveTo>
                  <a:lnTo>
                    <a:pt x="17166" y="7621"/>
                  </a:lnTo>
                  <a:lnTo>
                    <a:pt x="19064" y="6774"/>
                  </a:lnTo>
                  <a:lnTo>
                    <a:pt x="20329" y="5363"/>
                  </a:lnTo>
                  <a:lnTo>
                    <a:pt x="21173" y="3575"/>
                  </a:lnTo>
                  <a:lnTo>
                    <a:pt x="23429" y="2383"/>
                  </a:lnTo>
                  <a:lnTo>
                    <a:pt x="26626" y="1589"/>
                  </a:lnTo>
                  <a:lnTo>
                    <a:pt x="30450" y="1059"/>
                  </a:lnTo>
                  <a:lnTo>
                    <a:pt x="34693" y="706"/>
                  </a:lnTo>
                  <a:lnTo>
                    <a:pt x="39216" y="471"/>
                  </a:lnTo>
                  <a:lnTo>
                    <a:pt x="48756" y="210"/>
                  </a:lnTo>
                  <a:lnTo>
                    <a:pt x="131190" y="1"/>
                  </a:lnTo>
                  <a:lnTo>
                    <a:pt x="176415" y="0"/>
                  </a:lnTo>
                  <a:lnTo>
                    <a:pt x="182803" y="847"/>
                  </a:lnTo>
                  <a:lnTo>
                    <a:pt x="188755" y="2258"/>
                  </a:lnTo>
                  <a:lnTo>
                    <a:pt x="194417" y="4046"/>
                  </a:lnTo>
                  <a:lnTo>
                    <a:pt x="200731" y="5237"/>
                  </a:lnTo>
                  <a:lnTo>
                    <a:pt x="207480" y="6031"/>
                  </a:lnTo>
                  <a:lnTo>
                    <a:pt x="214520" y="6561"/>
                  </a:lnTo>
                  <a:lnTo>
                    <a:pt x="220060" y="7760"/>
                  </a:lnTo>
                  <a:lnTo>
                    <a:pt x="224600" y="9407"/>
                  </a:lnTo>
                  <a:lnTo>
                    <a:pt x="228473" y="11352"/>
                  </a:lnTo>
                  <a:lnTo>
                    <a:pt x="233595" y="12648"/>
                  </a:lnTo>
                  <a:lnTo>
                    <a:pt x="239550" y="13512"/>
                  </a:lnTo>
                  <a:lnTo>
                    <a:pt x="259079" y="15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Annotation227"/>
            <p:cNvSpPr/>
            <p:nvPr/>
          </p:nvSpPr>
          <p:spPr>
            <a:xfrm>
              <a:off x="3238200" y="3353400"/>
              <a:ext cx="266400" cy="151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66701" h="15240">
                  <a:moveTo>
                    <a:pt x="0" y="0"/>
                  </a:moveTo>
                  <a:lnTo>
                    <a:pt x="10606" y="0"/>
                  </a:lnTo>
                  <a:lnTo>
                    <a:pt x="13844" y="847"/>
                  </a:lnTo>
                  <a:lnTo>
                    <a:pt x="17696" y="2258"/>
                  </a:lnTo>
                  <a:lnTo>
                    <a:pt x="21957" y="4045"/>
                  </a:lnTo>
                  <a:lnTo>
                    <a:pt x="26491" y="5237"/>
                  </a:lnTo>
                  <a:lnTo>
                    <a:pt x="31207" y="6031"/>
                  </a:lnTo>
                  <a:lnTo>
                    <a:pt x="36045" y="6561"/>
                  </a:lnTo>
                  <a:lnTo>
                    <a:pt x="41810" y="7760"/>
                  </a:lnTo>
                  <a:lnTo>
                    <a:pt x="48194" y="9407"/>
                  </a:lnTo>
                  <a:lnTo>
                    <a:pt x="54989" y="11352"/>
                  </a:lnTo>
                  <a:lnTo>
                    <a:pt x="62059" y="12648"/>
                  </a:lnTo>
                  <a:lnTo>
                    <a:pt x="69313" y="13512"/>
                  </a:lnTo>
                  <a:lnTo>
                    <a:pt x="76689" y="14088"/>
                  </a:lnTo>
                  <a:lnTo>
                    <a:pt x="84146" y="14472"/>
                  </a:lnTo>
                  <a:lnTo>
                    <a:pt x="99205" y="14899"/>
                  </a:lnTo>
                  <a:lnTo>
                    <a:pt x="223469" y="15239"/>
                  </a:lnTo>
                  <a:lnTo>
                    <a:pt x="230259" y="14393"/>
                  </a:lnTo>
                  <a:lnTo>
                    <a:pt x="237326" y="12982"/>
                  </a:lnTo>
                  <a:lnTo>
                    <a:pt x="244577" y="11195"/>
                  </a:lnTo>
                  <a:lnTo>
                    <a:pt x="250258" y="10003"/>
                  </a:lnTo>
                  <a:lnTo>
                    <a:pt x="254893" y="9209"/>
                  </a:lnTo>
                  <a:lnTo>
                    <a:pt x="266700" y="76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MARTInkAnnotation228"/>
            <p:cNvSpPr/>
            <p:nvPr/>
          </p:nvSpPr>
          <p:spPr>
            <a:xfrm>
              <a:off x="3710520" y="3231360"/>
              <a:ext cx="182520" cy="226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82880" h="22861">
                  <a:moveTo>
                    <a:pt x="0" y="22860"/>
                  </a:moveTo>
                  <a:lnTo>
                    <a:pt x="10605" y="22860"/>
                  </a:lnTo>
                  <a:lnTo>
                    <a:pt x="13843" y="22014"/>
                  </a:lnTo>
                  <a:lnTo>
                    <a:pt x="17695" y="20603"/>
                  </a:lnTo>
                  <a:lnTo>
                    <a:pt x="21957" y="18815"/>
                  </a:lnTo>
                  <a:lnTo>
                    <a:pt x="26491" y="17623"/>
                  </a:lnTo>
                  <a:lnTo>
                    <a:pt x="31207" y="16829"/>
                  </a:lnTo>
                  <a:lnTo>
                    <a:pt x="36044" y="16299"/>
                  </a:lnTo>
                  <a:lnTo>
                    <a:pt x="41809" y="15946"/>
                  </a:lnTo>
                  <a:lnTo>
                    <a:pt x="54988" y="15554"/>
                  </a:lnTo>
                  <a:lnTo>
                    <a:pt x="76688" y="15333"/>
                  </a:lnTo>
                  <a:lnTo>
                    <a:pt x="84992" y="14456"/>
                  </a:lnTo>
                  <a:lnTo>
                    <a:pt x="93915" y="13023"/>
                  </a:lnTo>
                  <a:lnTo>
                    <a:pt x="103249" y="11222"/>
                  </a:lnTo>
                  <a:lnTo>
                    <a:pt x="112012" y="10022"/>
                  </a:lnTo>
                  <a:lnTo>
                    <a:pt x="120395" y="9221"/>
                  </a:lnTo>
                  <a:lnTo>
                    <a:pt x="128523" y="8688"/>
                  </a:lnTo>
                  <a:lnTo>
                    <a:pt x="136482" y="8332"/>
                  </a:lnTo>
                  <a:lnTo>
                    <a:pt x="152098" y="7936"/>
                  </a:lnTo>
                  <a:lnTo>
                    <a:pt x="158972" y="6984"/>
                  </a:lnTo>
                  <a:lnTo>
                    <a:pt x="165248" y="5503"/>
                  </a:lnTo>
                  <a:lnTo>
                    <a:pt x="1828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SMARTInkAnnotation229"/>
            <p:cNvSpPr/>
            <p:nvPr/>
          </p:nvSpPr>
          <p:spPr>
            <a:xfrm>
              <a:off x="4047120" y="3178080"/>
              <a:ext cx="14040" cy="21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089" h="213361">
                  <a:moveTo>
                    <a:pt x="14088" y="0"/>
                  </a:moveTo>
                  <a:lnTo>
                    <a:pt x="14088" y="43657"/>
                  </a:lnTo>
                  <a:lnTo>
                    <a:pt x="13241" y="48578"/>
                  </a:lnTo>
                  <a:lnTo>
                    <a:pt x="11830" y="53552"/>
                  </a:lnTo>
                  <a:lnTo>
                    <a:pt x="10043" y="58561"/>
                  </a:lnTo>
                  <a:lnTo>
                    <a:pt x="8851" y="63594"/>
                  </a:lnTo>
                  <a:lnTo>
                    <a:pt x="8056" y="68643"/>
                  </a:lnTo>
                  <a:lnTo>
                    <a:pt x="7527" y="73702"/>
                  </a:lnTo>
                  <a:lnTo>
                    <a:pt x="6327" y="79615"/>
                  </a:lnTo>
                  <a:lnTo>
                    <a:pt x="4680" y="86096"/>
                  </a:lnTo>
                  <a:lnTo>
                    <a:pt x="2736" y="92958"/>
                  </a:lnTo>
                  <a:lnTo>
                    <a:pt x="1440" y="99225"/>
                  </a:lnTo>
                  <a:lnTo>
                    <a:pt x="576" y="105096"/>
                  </a:lnTo>
                  <a:lnTo>
                    <a:pt x="0" y="110705"/>
                  </a:lnTo>
                  <a:lnTo>
                    <a:pt x="463" y="116136"/>
                  </a:lnTo>
                  <a:lnTo>
                    <a:pt x="1618" y="121451"/>
                  </a:lnTo>
                  <a:lnTo>
                    <a:pt x="3235" y="126687"/>
                  </a:lnTo>
                  <a:lnTo>
                    <a:pt x="4312" y="131872"/>
                  </a:lnTo>
                  <a:lnTo>
                    <a:pt x="5031" y="137021"/>
                  </a:lnTo>
                  <a:lnTo>
                    <a:pt x="5510" y="142148"/>
                  </a:lnTo>
                  <a:lnTo>
                    <a:pt x="5829" y="148105"/>
                  </a:lnTo>
                  <a:lnTo>
                    <a:pt x="6184" y="161498"/>
                  </a:lnTo>
                  <a:lnTo>
                    <a:pt x="6460" y="200120"/>
                  </a:lnTo>
                  <a:lnTo>
                    <a:pt x="7310" y="202840"/>
                  </a:lnTo>
                  <a:lnTo>
                    <a:pt x="8722" y="205500"/>
                  </a:lnTo>
                  <a:lnTo>
                    <a:pt x="14088" y="213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Annotation230"/>
            <p:cNvSpPr/>
            <p:nvPr/>
          </p:nvSpPr>
          <p:spPr>
            <a:xfrm>
              <a:off x="4190400" y="3170520"/>
              <a:ext cx="37800" cy="236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38101" h="236221">
                  <a:moveTo>
                    <a:pt x="38100" y="0"/>
                  </a:moveTo>
                  <a:lnTo>
                    <a:pt x="38100" y="24473"/>
                  </a:lnTo>
                  <a:lnTo>
                    <a:pt x="37254" y="28169"/>
                  </a:lnTo>
                  <a:lnTo>
                    <a:pt x="35842" y="32326"/>
                  </a:lnTo>
                  <a:lnTo>
                    <a:pt x="34055" y="36791"/>
                  </a:lnTo>
                  <a:lnTo>
                    <a:pt x="32863" y="41461"/>
                  </a:lnTo>
                  <a:lnTo>
                    <a:pt x="32069" y="46267"/>
                  </a:lnTo>
                  <a:lnTo>
                    <a:pt x="31539" y="51165"/>
                  </a:lnTo>
                  <a:lnTo>
                    <a:pt x="30340" y="56970"/>
                  </a:lnTo>
                  <a:lnTo>
                    <a:pt x="28693" y="63380"/>
                  </a:lnTo>
                  <a:lnTo>
                    <a:pt x="26749" y="70193"/>
                  </a:lnTo>
                  <a:lnTo>
                    <a:pt x="25452" y="77276"/>
                  </a:lnTo>
                  <a:lnTo>
                    <a:pt x="24589" y="84537"/>
                  </a:lnTo>
                  <a:lnTo>
                    <a:pt x="24012" y="91918"/>
                  </a:lnTo>
                  <a:lnTo>
                    <a:pt x="22782" y="99379"/>
                  </a:lnTo>
                  <a:lnTo>
                    <a:pt x="21115" y="106893"/>
                  </a:lnTo>
                  <a:lnTo>
                    <a:pt x="19157" y="114442"/>
                  </a:lnTo>
                  <a:lnTo>
                    <a:pt x="17851" y="122015"/>
                  </a:lnTo>
                  <a:lnTo>
                    <a:pt x="16980" y="129603"/>
                  </a:lnTo>
                  <a:lnTo>
                    <a:pt x="16401" y="137202"/>
                  </a:lnTo>
                  <a:lnTo>
                    <a:pt x="15167" y="145655"/>
                  </a:lnTo>
                  <a:lnTo>
                    <a:pt x="13498" y="154677"/>
                  </a:lnTo>
                  <a:lnTo>
                    <a:pt x="11538" y="164078"/>
                  </a:lnTo>
                  <a:lnTo>
                    <a:pt x="9386" y="172885"/>
                  </a:lnTo>
                  <a:lnTo>
                    <a:pt x="7104" y="181297"/>
                  </a:lnTo>
                  <a:lnTo>
                    <a:pt x="4736" y="189444"/>
                  </a:lnTo>
                  <a:lnTo>
                    <a:pt x="3158" y="196569"/>
                  </a:lnTo>
                  <a:lnTo>
                    <a:pt x="2105" y="203013"/>
                  </a:lnTo>
                  <a:lnTo>
                    <a:pt x="1403" y="209002"/>
                  </a:lnTo>
                  <a:lnTo>
                    <a:pt x="936" y="214688"/>
                  </a:lnTo>
                  <a:lnTo>
                    <a:pt x="623" y="220172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Annotation231"/>
            <p:cNvSpPr/>
            <p:nvPr/>
          </p:nvSpPr>
          <p:spPr>
            <a:xfrm>
              <a:off x="4693320" y="3132360"/>
              <a:ext cx="30240" cy="274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0481" h="274321">
                  <a:moveTo>
                    <a:pt x="0" y="0"/>
                  </a:moveTo>
                  <a:lnTo>
                    <a:pt x="0" y="50969"/>
                  </a:lnTo>
                  <a:lnTo>
                    <a:pt x="847" y="56840"/>
                  </a:lnTo>
                  <a:lnTo>
                    <a:pt x="2258" y="63293"/>
                  </a:lnTo>
                  <a:lnTo>
                    <a:pt x="4045" y="70136"/>
                  </a:lnTo>
                  <a:lnTo>
                    <a:pt x="5237" y="76390"/>
                  </a:lnTo>
                  <a:lnTo>
                    <a:pt x="6032" y="82254"/>
                  </a:lnTo>
                  <a:lnTo>
                    <a:pt x="6561" y="87856"/>
                  </a:lnTo>
                  <a:lnTo>
                    <a:pt x="6914" y="94977"/>
                  </a:lnTo>
                  <a:lnTo>
                    <a:pt x="7306" y="111921"/>
                  </a:lnTo>
                  <a:lnTo>
                    <a:pt x="7593" y="159811"/>
                  </a:lnTo>
                  <a:lnTo>
                    <a:pt x="8448" y="167501"/>
                  </a:lnTo>
                  <a:lnTo>
                    <a:pt x="9865" y="175167"/>
                  </a:lnTo>
                  <a:lnTo>
                    <a:pt x="11658" y="182818"/>
                  </a:lnTo>
                  <a:lnTo>
                    <a:pt x="13698" y="190459"/>
                  </a:lnTo>
                  <a:lnTo>
                    <a:pt x="18224" y="205722"/>
                  </a:lnTo>
                  <a:lnTo>
                    <a:pt x="19769" y="212501"/>
                  </a:lnTo>
                  <a:lnTo>
                    <a:pt x="20800" y="218714"/>
                  </a:lnTo>
                  <a:lnTo>
                    <a:pt x="21486" y="224549"/>
                  </a:lnTo>
                  <a:lnTo>
                    <a:pt x="22791" y="230133"/>
                  </a:lnTo>
                  <a:lnTo>
                    <a:pt x="24507" y="235548"/>
                  </a:lnTo>
                  <a:lnTo>
                    <a:pt x="26498" y="240853"/>
                  </a:lnTo>
                  <a:lnTo>
                    <a:pt x="27825" y="245235"/>
                  </a:lnTo>
                  <a:lnTo>
                    <a:pt x="28711" y="249003"/>
                  </a:lnTo>
                  <a:lnTo>
                    <a:pt x="29300" y="252362"/>
                  </a:lnTo>
                  <a:lnTo>
                    <a:pt x="29956" y="260610"/>
                  </a:lnTo>
                  <a:lnTo>
                    <a:pt x="30480" y="274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Annotation232"/>
            <p:cNvSpPr/>
            <p:nvPr/>
          </p:nvSpPr>
          <p:spPr>
            <a:xfrm>
              <a:off x="4609800" y="3140280"/>
              <a:ext cx="319680" cy="14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20042" h="14926">
                  <a:moveTo>
                    <a:pt x="0" y="14925"/>
                  </a:moveTo>
                  <a:lnTo>
                    <a:pt x="4045" y="10880"/>
                  </a:lnTo>
                  <a:lnTo>
                    <a:pt x="6083" y="9688"/>
                  </a:lnTo>
                  <a:lnTo>
                    <a:pt x="8289" y="8894"/>
                  </a:lnTo>
                  <a:lnTo>
                    <a:pt x="10606" y="8364"/>
                  </a:lnTo>
                  <a:lnTo>
                    <a:pt x="13844" y="8011"/>
                  </a:lnTo>
                  <a:lnTo>
                    <a:pt x="21958" y="7619"/>
                  </a:lnTo>
                  <a:lnTo>
                    <a:pt x="52284" y="7367"/>
                  </a:lnTo>
                  <a:lnTo>
                    <a:pt x="68111" y="7333"/>
                  </a:lnTo>
                  <a:lnTo>
                    <a:pt x="77581" y="6477"/>
                  </a:lnTo>
                  <a:lnTo>
                    <a:pt x="88127" y="5059"/>
                  </a:lnTo>
                  <a:lnTo>
                    <a:pt x="99392" y="3268"/>
                  </a:lnTo>
                  <a:lnTo>
                    <a:pt x="111134" y="2074"/>
                  </a:lnTo>
                  <a:lnTo>
                    <a:pt x="123197" y="1278"/>
                  </a:lnTo>
                  <a:lnTo>
                    <a:pt x="135471" y="747"/>
                  </a:lnTo>
                  <a:lnTo>
                    <a:pt x="160398" y="157"/>
                  </a:lnTo>
                  <a:lnTo>
                    <a:pt x="172972" y="0"/>
                  </a:lnTo>
                  <a:lnTo>
                    <a:pt x="185589" y="741"/>
                  </a:lnTo>
                  <a:lnTo>
                    <a:pt x="198232" y="2082"/>
                  </a:lnTo>
                  <a:lnTo>
                    <a:pt x="210895" y="3823"/>
                  </a:lnTo>
                  <a:lnTo>
                    <a:pt x="222724" y="4984"/>
                  </a:lnTo>
                  <a:lnTo>
                    <a:pt x="233996" y="5758"/>
                  </a:lnTo>
                  <a:lnTo>
                    <a:pt x="254705" y="6617"/>
                  </a:lnTo>
                  <a:lnTo>
                    <a:pt x="280643" y="7101"/>
                  </a:lnTo>
                  <a:lnTo>
                    <a:pt x="320041" y="7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MARTInkAnnotation233"/>
            <p:cNvSpPr/>
            <p:nvPr/>
          </p:nvSpPr>
          <p:spPr>
            <a:xfrm>
              <a:off x="4891680" y="3254400"/>
              <a:ext cx="167400" cy="11304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67640" h="113107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6083" y="6914"/>
                  </a:lnTo>
                  <a:lnTo>
                    <a:pt x="10605" y="7306"/>
                  </a:lnTo>
                  <a:lnTo>
                    <a:pt x="12997" y="8257"/>
                  </a:lnTo>
                  <a:lnTo>
                    <a:pt x="17911" y="11572"/>
                  </a:lnTo>
                  <a:lnTo>
                    <a:pt x="19560" y="13642"/>
                  </a:lnTo>
                  <a:lnTo>
                    <a:pt x="20661" y="15867"/>
                  </a:lnTo>
                  <a:lnTo>
                    <a:pt x="21394" y="18199"/>
                  </a:lnTo>
                  <a:lnTo>
                    <a:pt x="22729" y="20599"/>
                  </a:lnTo>
                  <a:lnTo>
                    <a:pt x="24465" y="23046"/>
                  </a:lnTo>
                  <a:lnTo>
                    <a:pt x="26470" y="25524"/>
                  </a:lnTo>
                  <a:lnTo>
                    <a:pt x="28653" y="28022"/>
                  </a:lnTo>
                  <a:lnTo>
                    <a:pt x="30955" y="30535"/>
                  </a:lnTo>
                  <a:lnTo>
                    <a:pt x="33336" y="33057"/>
                  </a:lnTo>
                  <a:lnTo>
                    <a:pt x="34924" y="35584"/>
                  </a:lnTo>
                  <a:lnTo>
                    <a:pt x="35983" y="38116"/>
                  </a:lnTo>
                  <a:lnTo>
                    <a:pt x="36688" y="40651"/>
                  </a:lnTo>
                  <a:lnTo>
                    <a:pt x="37159" y="44034"/>
                  </a:lnTo>
                  <a:lnTo>
                    <a:pt x="37472" y="47983"/>
                  </a:lnTo>
                  <a:lnTo>
                    <a:pt x="37681" y="52309"/>
                  </a:lnTo>
                  <a:lnTo>
                    <a:pt x="38667" y="56039"/>
                  </a:lnTo>
                  <a:lnTo>
                    <a:pt x="40171" y="59373"/>
                  </a:lnTo>
                  <a:lnTo>
                    <a:pt x="42021" y="62442"/>
                  </a:lnTo>
                  <a:lnTo>
                    <a:pt x="43253" y="66181"/>
                  </a:lnTo>
                  <a:lnTo>
                    <a:pt x="44076" y="70367"/>
                  </a:lnTo>
                  <a:lnTo>
                    <a:pt x="44623" y="74852"/>
                  </a:lnTo>
                  <a:lnTo>
                    <a:pt x="44989" y="78688"/>
                  </a:lnTo>
                  <a:lnTo>
                    <a:pt x="45232" y="82092"/>
                  </a:lnTo>
                  <a:lnTo>
                    <a:pt x="45395" y="85208"/>
                  </a:lnTo>
                  <a:lnTo>
                    <a:pt x="45575" y="90928"/>
                  </a:lnTo>
                  <a:lnTo>
                    <a:pt x="45711" y="105145"/>
                  </a:lnTo>
                  <a:lnTo>
                    <a:pt x="47973" y="108256"/>
                  </a:lnTo>
                  <a:lnTo>
                    <a:pt x="52279" y="113106"/>
                  </a:lnTo>
                  <a:lnTo>
                    <a:pt x="52633" y="112657"/>
                  </a:lnTo>
                  <a:lnTo>
                    <a:pt x="53025" y="109901"/>
                  </a:lnTo>
                  <a:lnTo>
                    <a:pt x="53277" y="106470"/>
                  </a:lnTo>
                  <a:lnTo>
                    <a:pt x="53312" y="102918"/>
                  </a:lnTo>
                  <a:lnTo>
                    <a:pt x="54168" y="99092"/>
                  </a:lnTo>
                  <a:lnTo>
                    <a:pt x="55585" y="94001"/>
                  </a:lnTo>
                  <a:lnTo>
                    <a:pt x="57376" y="88067"/>
                  </a:lnTo>
                  <a:lnTo>
                    <a:pt x="58571" y="83265"/>
                  </a:lnTo>
                  <a:lnTo>
                    <a:pt x="59366" y="79217"/>
                  </a:lnTo>
                  <a:lnTo>
                    <a:pt x="59897" y="75671"/>
                  </a:lnTo>
                  <a:lnTo>
                    <a:pt x="61945" y="71614"/>
                  </a:lnTo>
                  <a:lnTo>
                    <a:pt x="65003" y="67216"/>
                  </a:lnTo>
                  <a:lnTo>
                    <a:pt x="68735" y="62591"/>
                  </a:lnTo>
                  <a:lnTo>
                    <a:pt x="72070" y="57814"/>
                  </a:lnTo>
                  <a:lnTo>
                    <a:pt x="75140" y="52936"/>
                  </a:lnTo>
                  <a:lnTo>
                    <a:pt x="78033" y="47991"/>
                  </a:lnTo>
                  <a:lnTo>
                    <a:pt x="80809" y="43000"/>
                  </a:lnTo>
                  <a:lnTo>
                    <a:pt x="86150" y="32940"/>
                  </a:lnTo>
                  <a:lnTo>
                    <a:pt x="88760" y="28734"/>
                  </a:lnTo>
                  <a:lnTo>
                    <a:pt x="91346" y="25082"/>
                  </a:lnTo>
                  <a:lnTo>
                    <a:pt x="93917" y="21802"/>
                  </a:lnTo>
                  <a:lnTo>
                    <a:pt x="96478" y="19614"/>
                  </a:lnTo>
                  <a:lnTo>
                    <a:pt x="99031" y="18156"/>
                  </a:lnTo>
                  <a:lnTo>
                    <a:pt x="101581" y="17184"/>
                  </a:lnTo>
                  <a:lnTo>
                    <a:pt x="104974" y="15690"/>
                  </a:lnTo>
                  <a:lnTo>
                    <a:pt x="113259" y="11771"/>
                  </a:lnTo>
                  <a:lnTo>
                    <a:pt x="116992" y="10388"/>
                  </a:lnTo>
                  <a:lnTo>
                    <a:pt x="120328" y="9465"/>
                  </a:lnTo>
                  <a:lnTo>
                    <a:pt x="123398" y="8850"/>
                  </a:lnTo>
                  <a:lnTo>
                    <a:pt x="127139" y="7593"/>
                  </a:lnTo>
                  <a:lnTo>
                    <a:pt x="131326" y="5909"/>
                  </a:lnTo>
                  <a:lnTo>
                    <a:pt x="135810" y="3939"/>
                  </a:lnTo>
                  <a:lnTo>
                    <a:pt x="139647" y="3473"/>
                  </a:lnTo>
                  <a:lnTo>
                    <a:pt x="143051" y="4009"/>
                  </a:lnTo>
                  <a:lnTo>
                    <a:pt x="146167" y="5212"/>
                  </a:lnTo>
                  <a:lnTo>
                    <a:pt x="149091" y="6015"/>
                  </a:lnTo>
                  <a:lnTo>
                    <a:pt x="151887" y="6550"/>
                  </a:lnTo>
                  <a:lnTo>
                    <a:pt x="154597" y="6907"/>
                  </a:lnTo>
                  <a:lnTo>
                    <a:pt x="157252" y="7144"/>
                  </a:lnTo>
                  <a:lnTo>
                    <a:pt x="159867" y="7303"/>
                  </a:lnTo>
                  <a:lnTo>
                    <a:pt x="167639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MARTInkAnnotation234"/>
            <p:cNvSpPr/>
            <p:nvPr/>
          </p:nvSpPr>
          <p:spPr>
            <a:xfrm>
              <a:off x="5158440" y="3239280"/>
              <a:ext cx="167400" cy="1105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7613" h="110544">
                  <a:moveTo>
                    <a:pt x="7592" y="0"/>
                  </a:moveTo>
                  <a:lnTo>
                    <a:pt x="7592" y="4045"/>
                  </a:lnTo>
                  <a:lnTo>
                    <a:pt x="6745" y="6084"/>
                  </a:lnTo>
                  <a:lnTo>
                    <a:pt x="5335" y="8289"/>
                  </a:lnTo>
                  <a:lnTo>
                    <a:pt x="3548" y="10606"/>
                  </a:lnTo>
                  <a:lnTo>
                    <a:pt x="2355" y="13844"/>
                  </a:lnTo>
                  <a:lnTo>
                    <a:pt x="1561" y="17696"/>
                  </a:lnTo>
                  <a:lnTo>
                    <a:pt x="1031" y="21957"/>
                  </a:lnTo>
                  <a:lnTo>
                    <a:pt x="678" y="26491"/>
                  </a:lnTo>
                  <a:lnTo>
                    <a:pt x="443" y="31208"/>
                  </a:lnTo>
                  <a:lnTo>
                    <a:pt x="182" y="40963"/>
                  </a:lnTo>
                  <a:lnTo>
                    <a:pt x="0" y="62038"/>
                  </a:lnTo>
                  <a:lnTo>
                    <a:pt x="1684" y="65912"/>
                  </a:lnTo>
                  <a:lnTo>
                    <a:pt x="4500" y="70188"/>
                  </a:lnTo>
                  <a:lnTo>
                    <a:pt x="8071" y="74732"/>
                  </a:lnTo>
                  <a:lnTo>
                    <a:pt x="11298" y="78608"/>
                  </a:lnTo>
                  <a:lnTo>
                    <a:pt x="14296" y="82039"/>
                  </a:lnTo>
                  <a:lnTo>
                    <a:pt x="17142" y="85173"/>
                  </a:lnTo>
                  <a:lnTo>
                    <a:pt x="24819" y="93170"/>
                  </a:lnTo>
                  <a:lnTo>
                    <a:pt x="29236" y="97673"/>
                  </a:lnTo>
                  <a:lnTo>
                    <a:pt x="34722" y="100676"/>
                  </a:lnTo>
                  <a:lnTo>
                    <a:pt x="40919" y="102677"/>
                  </a:lnTo>
                  <a:lnTo>
                    <a:pt x="47589" y="104011"/>
                  </a:lnTo>
                  <a:lnTo>
                    <a:pt x="53731" y="105748"/>
                  </a:lnTo>
                  <a:lnTo>
                    <a:pt x="59518" y="107752"/>
                  </a:lnTo>
                  <a:lnTo>
                    <a:pt x="65069" y="109935"/>
                  </a:lnTo>
                  <a:lnTo>
                    <a:pt x="71310" y="110543"/>
                  </a:lnTo>
                  <a:lnTo>
                    <a:pt x="78011" y="110102"/>
                  </a:lnTo>
                  <a:lnTo>
                    <a:pt x="85019" y="108962"/>
                  </a:lnTo>
                  <a:lnTo>
                    <a:pt x="92229" y="108201"/>
                  </a:lnTo>
                  <a:lnTo>
                    <a:pt x="99577" y="107694"/>
                  </a:lnTo>
                  <a:lnTo>
                    <a:pt x="107015" y="107356"/>
                  </a:lnTo>
                  <a:lnTo>
                    <a:pt x="113668" y="106284"/>
                  </a:lnTo>
                  <a:lnTo>
                    <a:pt x="119796" y="104723"/>
                  </a:lnTo>
                  <a:lnTo>
                    <a:pt x="125575" y="102835"/>
                  </a:lnTo>
                  <a:lnTo>
                    <a:pt x="131121" y="99884"/>
                  </a:lnTo>
                  <a:lnTo>
                    <a:pt x="136511" y="96222"/>
                  </a:lnTo>
                  <a:lnTo>
                    <a:pt x="141798" y="92089"/>
                  </a:lnTo>
                  <a:lnTo>
                    <a:pt x="146169" y="88486"/>
                  </a:lnTo>
                  <a:lnTo>
                    <a:pt x="149930" y="85237"/>
                  </a:lnTo>
                  <a:lnTo>
                    <a:pt x="153284" y="82225"/>
                  </a:lnTo>
                  <a:lnTo>
                    <a:pt x="156367" y="78523"/>
                  </a:lnTo>
                  <a:lnTo>
                    <a:pt x="159268" y="74362"/>
                  </a:lnTo>
                  <a:lnTo>
                    <a:pt x="162049" y="69895"/>
                  </a:lnTo>
                  <a:lnTo>
                    <a:pt x="163904" y="65223"/>
                  </a:lnTo>
                  <a:lnTo>
                    <a:pt x="165140" y="60416"/>
                  </a:lnTo>
                  <a:lnTo>
                    <a:pt x="165964" y="55517"/>
                  </a:lnTo>
                  <a:lnTo>
                    <a:pt x="166514" y="50558"/>
                  </a:lnTo>
                  <a:lnTo>
                    <a:pt x="166879" y="45559"/>
                  </a:lnTo>
                  <a:lnTo>
                    <a:pt x="167286" y="36335"/>
                  </a:lnTo>
                  <a:lnTo>
                    <a:pt x="167570" y="24802"/>
                  </a:lnTo>
                  <a:lnTo>
                    <a:pt x="167612" y="15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Annotation235"/>
            <p:cNvSpPr/>
            <p:nvPr/>
          </p:nvSpPr>
          <p:spPr>
            <a:xfrm>
              <a:off x="5417640" y="3216240"/>
              <a:ext cx="243360" cy="13680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243679" h="136836">
                  <a:moveTo>
                    <a:pt x="68418" y="15239"/>
                  </a:moveTo>
                  <a:lnTo>
                    <a:pt x="68418" y="1086"/>
                  </a:lnTo>
                  <a:lnTo>
                    <a:pt x="67572" y="723"/>
                  </a:lnTo>
                  <a:lnTo>
                    <a:pt x="60129" y="142"/>
                  </a:lnTo>
                  <a:lnTo>
                    <a:pt x="52980" y="41"/>
                  </a:lnTo>
                  <a:lnTo>
                    <a:pt x="16423" y="0"/>
                  </a:lnTo>
                  <a:lnTo>
                    <a:pt x="12588" y="846"/>
                  </a:lnTo>
                  <a:lnTo>
                    <a:pt x="6069" y="4044"/>
                  </a:lnTo>
                  <a:lnTo>
                    <a:pt x="1684" y="6560"/>
                  </a:lnTo>
                  <a:lnTo>
                    <a:pt x="1069" y="7759"/>
                  </a:lnTo>
                  <a:lnTo>
                    <a:pt x="385" y="11351"/>
                  </a:lnTo>
                  <a:lnTo>
                    <a:pt x="202" y="13493"/>
                  </a:lnTo>
                  <a:lnTo>
                    <a:pt x="81" y="15768"/>
                  </a:lnTo>
                  <a:lnTo>
                    <a:pt x="0" y="18132"/>
                  </a:lnTo>
                  <a:lnTo>
                    <a:pt x="1640" y="20554"/>
                  </a:lnTo>
                  <a:lnTo>
                    <a:pt x="4425" y="23016"/>
                  </a:lnTo>
                  <a:lnTo>
                    <a:pt x="7977" y="25503"/>
                  </a:lnTo>
                  <a:lnTo>
                    <a:pt x="11190" y="28009"/>
                  </a:lnTo>
                  <a:lnTo>
                    <a:pt x="14179" y="30525"/>
                  </a:lnTo>
                  <a:lnTo>
                    <a:pt x="17019" y="33050"/>
                  </a:lnTo>
                  <a:lnTo>
                    <a:pt x="20606" y="35580"/>
                  </a:lnTo>
                  <a:lnTo>
                    <a:pt x="24689" y="38113"/>
                  </a:lnTo>
                  <a:lnTo>
                    <a:pt x="29106" y="40648"/>
                  </a:lnTo>
                  <a:lnTo>
                    <a:pt x="38528" y="45723"/>
                  </a:lnTo>
                  <a:lnTo>
                    <a:pt x="43411" y="48262"/>
                  </a:lnTo>
                  <a:lnTo>
                    <a:pt x="47514" y="50801"/>
                  </a:lnTo>
                  <a:lnTo>
                    <a:pt x="51095" y="53340"/>
                  </a:lnTo>
                  <a:lnTo>
                    <a:pt x="54329" y="55880"/>
                  </a:lnTo>
                  <a:lnTo>
                    <a:pt x="57332" y="58420"/>
                  </a:lnTo>
                  <a:lnTo>
                    <a:pt x="60181" y="60959"/>
                  </a:lnTo>
                  <a:lnTo>
                    <a:pt x="62927" y="63500"/>
                  </a:lnTo>
                  <a:lnTo>
                    <a:pt x="64757" y="66039"/>
                  </a:lnTo>
                  <a:lnTo>
                    <a:pt x="65977" y="68579"/>
                  </a:lnTo>
                  <a:lnTo>
                    <a:pt x="67936" y="74694"/>
                  </a:lnTo>
                  <a:lnTo>
                    <a:pt x="67250" y="76042"/>
                  </a:lnTo>
                  <a:lnTo>
                    <a:pt x="64230" y="79799"/>
                  </a:lnTo>
                  <a:lnTo>
                    <a:pt x="62239" y="81985"/>
                  </a:lnTo>
                  <a:lnTo>
                    <a:pt x="57770" y="86673"/>
                  </a:lnTo>
                  <a:lnTo>
                    <a:pt x="50494" y="94072"/>
                  </a:lnTo>
                  <a:lnTo>
                    <a:pt x="46308" y="95734"/>
                  </a:lnTo>
                  <a:lnTo>
                    <a:pt x="40978" y="96842"/>
                  </a:lnTo>
                  <a:lnTo>
                    <a:pt x="34885" y="97582"/>
                  </a:lnTo>
                  <a:lnTo>
                    <a:pt x="29975" y="98921"/>
                  </a:lnTo>
                  <a:lnTo>
                    <a:pt x="25856" y="100660"/>
                  </a:lnTo>
                  <a:lnTo>
                    <a:pt x="22263" y="102666"/>
                  </a:lnTo>
                  <a:lnTo>
                    <a:pt x="19868" y="104851"/>
                  </a:lnTo>
                  <a:lnTo>
                    <a:pt x="18272" y="107153"/>
                  </a:lnTo>
                  <a:lnTo>
                    <a:pt x="15708" y="112888"/>
                  </a:lnTo>
                  <a:lnTo>
                    <a:pt x="15358" y="115930"/>
                  </a:lnTo>
                  <a:lnTo>
                    <a:pt x="15265" y="117926"/>
                  </a:lnTo>
                  <a:lnTo>
                    <a:pt x="16896" y="120104"/>
                  </a:lnTo>
                  <a:lnTo>
                    <a:pt x="19677" y="122402"/>
                  </a:lnTo>
                  <a:lnTo>
                    <a:pt x="23223" y="124781"/>
                  </a:lnTo>
                  <a:lnTo>
                    <a:pt x="27282" y="126367"/>
                  </a:lnTo>
                  <a:lnTo>
                    <a:pt x="31681" y="127424"/>
                  </a:lnTo>
                  <a:lnTo>
                    <a:pt x="36306" y="128129"/>
                  </a:lnTo>
                  <a:lnTo>
                    <a:pt x="41930" y="128599"/>
                  </a:lnTo>
                  <a:lnTo>
                    <a:pt x="48219" y="128913"/>
                  </a:lnTo>
                  <a:lnTo>
                    <a:pt x="54952" y="129122"/>
                  </a:lnTo>
                  <a:lnTo>
                    <a:pt x="62828" y="130107"/>
                  </a:lnTo>
                  <a:lnTo>
                    <a:pt x="71464" y="131611"/>
                  </a:lnTo>
                  <a:lnTo>
                    <a:pt x="80609" y="133461"/>
                  </a:lnTo>
                  <a:lnTo>
                    <a:pt x="89245" y="134694"/>
                  </a:lnTo>
                  <a:lnTo>
                    <a:pt x="97543" y="135516"/>
                  </a:lnTo>
                  <a:lnTo>
                    <a:pt x="105615" y="136063"/>
                  </a:lnTo>
                  <a:lnTo>
                    <a:pt x="113536" y="136428"/>
                  </a:lnTo>
                  <a:lnTo>
                    <a:pt x="129111" y="136835"/>
                  </a:lnTo>
                  <a:lnTo>
                    <a:pt x="136819" y="136096"/>
                  </a:lnTo>
                  <a:lnTo>
                    <a:pt x="144499" y="134757"/>
                  </a:lnTo>
                  <a:lnTo>
                    <a:pt x="152159" y="133018"/>
                  </a:lnTo>
                  <a:lnTo>
                    <a:pt x="158958" y="131859"/>
                  </a:lnTo>
                  <a:lnTo>
                    <a:pt x="165184" y="131085"/>
                  </a:lnTo>
                  <a:lnTo>
                    <a:pt x="171029" y="130570"/>
                  </a:lnTo>
                  <a:lnTo>
                    <a:pt x="176619" y="129380"/>
                  </a:lnTo>
                  <a:lnTo>
                    <a:pt x="182039" y="127739"/>
                  </a:lnTo>
                  <a:lnTo>
                    <a:pt x="187344" y="125799"/>
                  </a:lnTo>
                  <a:lnTo>
                    <a:pt x="192576" y="123659"/>
                  </a:lnTo>
                  <a:lnTo>
                    <a:pt x="197757" y="121386"/>
                  </a:lnTo>
                  <a:lnTo>
                    <a:pt x="202904" y="119024"/>
                  </a:lnTo>
                  <a:lnTo>
                    <a:pt x="208028" y="117449"/>
                  </a:lnTo>
                  <a:lnTo>
                    <a:pt x="213138" y="116399"/>
                  </a:lnTo>
                  <a:lnTo>
                    <a:pt x="218238" y="115699"/>
                  </a:lnTo>
                  <a:lnTo>
                    <a:pt x="222485" y="115232"/>
                  </a:lnTo>
                  <a:lnTo>
                    <a:pt x="229461" y="114714"/>
                  </a:lnTo>
                  <a:lnTo>
                    <a:pt x="232506" y="113729"/>
                  </a:lnTo>
                  <a:lnTo>
                    <a:pt x="235383" y="112226"/>
                  </a:lnTo>
                  <a:lnTo>
                    <a:pt x="243678" y="1066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Annotation236"/>
            <p:cNvSpPr/>
            <p:nvPr/>
          </p:nvSpPr>
          <p:spPr>
            <a:xfrm>
              <a:off x="3756240" y="1920600"/>
              <a:ext cx="1569240" cy="396360"/>
            </a:xfrm>
            <a:custGeom>
              <a:avLst/>
              <a:gdLst>
                <a:gd name="textAreaLeft" fmla="*/ 0 w 1569240"/>
                <a:gd name="textAreaRight" fmla="*/ 1569600 w 156924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1569574" h="396233">
                  <a:moveTo>
                    <a:pt x="228560" y="373372"/>
                  </a:moveTo>
                  <a:lnTo>
                    <a:pt x="232605" y="373372"/>
                  </a:lnTo>
                  <a:lnTo>
                    <a:pt x="234643" y="374219"/>
                  </a:lnTo>
                  <a:lnTo>
                    <a:pt x="239166" y="377418"/>
                  </a:lnTo>
                  <a:lnTo>
                    <a:pt x="242404" y="378609"/>
                  </a:lnTo>
                  <a:lnTo>
                    <a:pt x="255898" y="380286"/>
                  </a:lnTo>
                  <a:lnTo>
                    <a:pt x="274761" y="381630"/>
                  </a:lnTo>
                  <a:lnTo>
                    <a:pt x="296733" y="386982"/>
                  </a:lnTo>
                  <a:lnTo>
                    <a:pt x="339237" y="388517"/>
                  </a:lnTo>
                  <a:lnTo>
                    <a:pt x="370899" y="389440"/>
                  </a:lnTo>
                  <a:lnTo>
                    <a:pt x="399732" y="394640"/>
                  </a:lnTo>
                  <a:lnTo>
                    <a:pt x="442228" y="396022"/>
                  </a:lnTo>
                  <a:lnTo>
                    <a:pt x="623618" y="396232"/>
                  </a:lnTo>
                  <a:lnTo>
                    <a:pt x="671033" y="390201"/>
                  </a:lnTo>
                  <a:lnTo>
                    <a:pt x="711261" y="388926"/>
                  </a:lnTo>
                  <a:lnTo>
                    <a:pt x="765568" y="388640"/>
                  </a:lnTo>
                  <a:lnTo>
                    <a:pt x="815440" y="382585"/>
                  </a:lnTo>
                  <a:lnTo>
                    <a:pt x="855967" y="377261"/>
                  </a:lnTo>
                  <a:lnTo>
                    <a:pt x="902970" y="373884"/>
                  </a:lnTo>
                  <a:lnTo>
                    <a:pt x="950680" y="369428"/>
                  </a:lnTo>
                  <a:lnTo>
                    <a:pt x="994787" y="366478"/>
                  </a:lnTo>
                  <a:lnTo>
                    <a:pt x="1038370" y="363638"/>
                  </a:lnTo>
                  <a:lnTo>
                    <a:pt x="1074999" y="359763"/>
                  </a:lnTo>
                  <a:lnTo>
                    <a:pt x="1121258" y="358454"/>
                  </a:lnTo>
                  <a:lnTo>
                    <a:pt x="1173258" y="352144"/>
                  </a:lnTo>
                  <a:lnTo>
                    <a:pt x="1218089" y="346789"/>
                  </a:lnTo>
                  <a:lnTo>
                    <a:pt x="1261627" y="343662"/>
                  </a:lnTo>
                  <a:lnTo>
                    <a:pt x="1300582" y="340786"/>
                  </a:lnTo>
                  <a:lnTo>
                    <a:pt x="1341077" y="332316"/>
                  </a:lnTo>
                  <a:lnTo>
                    <a:pt x="1388054" y="319977"/>
                  </a:lnTo>
                  <a:lnTo>
                    <a:pt x="1426446" y="311715"/>
                  </a:lnTo>
                  <a:lnTo>
                    <a:pt x="1448218" y="301387"/>
                  </a:lnTo>
                  <a:lnTo>
                    <a:pt x="1478331" y="289883"/>
                  </a:lnTo>
                  <a:lnTo>
                    <a:pt x="1491828" y="284619"/>
                  </a:lnTo>
                  <a:lnTo>
                    <a:pt x="1500648" y="279457"/>
                  </a:lnTo>
                  <a:lnTo>
                    <a:pt x="1519292" y="264008"/>
                  </a:lnTo>
                  <a:lnTo>
                    <a:pt x="1539282" y="251926"/>
                  </a:lnTo>
                  <a:lnTo>
                    <a:pt x="1544335" y="249228"/>
                  </a:lnTo>
                  <a:lnTo>
                    <a:pt x="1552207" y="241715"/>
                  </a:lnTo>
                  <a:lnTo>
                    <a:pt x="1557681" y="233578"/>
                  </a:lnTo>
                  <a:lnTo>
                    <a:pt x="1563453" y="219197"/>
                  </a:lnTo>
                  <a:lnTo>
                    <a:pt x="1566913" y="210870"/>
                  </a:lnTo>
                  <a:lnTo>
                    <a:pt x="1568450" y="204347"/>
                  </a:lnTo>
                  <a:lnTo>
                    <a:pt x="1569134" y="196368"/>
                  </a:lnTo>
                  <a:lnTo>
                    <a:pt x="1569519" y="184613"/>
                  </a:lnTo>
                  <a:lnTo>
                    <a:pt x="1569573" y="181493"/>
                  </a:lnTo>
                  <a:lnTo>
                    <a:pt x="1567375" y="173510"/>
                  </a:lnTo>
                  <a:lnTo>
                    <a:pt x="1563575" y="165165"/>
                  </a:lnTo>
                  <a:lnTo>
                    <a:pt x="1559065" y="158633"/>
                  </a:lnTo>
                  <a:lnTo>
                    <a:pt x="1549723" y="150650"/>
                  </a:lnTo>
                  <a:lnTo>
                    <a:pt x="1537950" y="141458"/>
                  </a:lnTo>
                  <a:lnTo>
                    <a:pt x="1527073" y="131728"/>
                  </a:lnTo>
                  <a:lnTo>
                    <a:pt x="1511430" y="120775"/>
                  </a:lnTo>
                  <a:lnTo>
                    <a:pt x="1492026" y="112168"/>
                  </a:lnTo>
                  <a:lnTo>
                    <a:pt x="1452239" y="100827"/>
                  </a:lnTo>
                  <a:lnTo>
                    <a:pt x="1425381" y="88760"/>
                  </a:lnTo>
                  <a:lnTo>
                    <a:pt x="1386393" y="76668"/>
                  </a:lnTo>
                  <a:lnTo>
                    <a:pt x="1342035" y="66126"/>
                  </a:lnTo>
                  <a:lnTo>
                    <a:pt x="1153117" y="27932"/>
                  </a:lnTo>
                  <a:lnTo>
                    <a:pt x="1110974" y="24357"/>
                  </a:lnTo>
                  <a:lnTo>
                    <a:pt x="1066314" y="23298"/>
                  </a:lnTo>
                  <a:lnTo>
                    <a:pt x="1024953" y="18939"/>
                  </a:lnTo>
                  <a:lnTo>
                    <a:pt x="972204" y="15118"/>
                  </a:lnTo>
                  <a:lnTo>
                    <a:pt x="928677" y="10212"/>
                  </a:lnTo>
                  <a:lnTo>
                    <a:pt x="884454" y="8383"/>
                  </a:lnTo>
                  <a:lnTo>
                    <a:pt x="842469" y="6994"/>
                  </a:lnTo>
                  <a:lnTo>
                    <a:pt x="794940" y="2443"/>
                  </a:lnTo>
                  <a:lnTo>
                    <a:pt x="752447" y="718"/>
                  </a:lnTo>
                  <a:lnTo>
                    <a:pt x="677891" y="88"/>
                  </a:lnTo>
                  <a:lnTo>
                    <a:pt x="597284" y="0"/>
                  </a:lnTo>
                  <a:lnTo>
                    <a:pt x="554840" y="4040"/>
                  </a:lnTo>
                  <a:lnTo>
                    <a:pt x="510091" y="6554"/>
                  </a:lnTo>
                  <a:lnTo>
                    <a:pt x="468704" y="7298"/>
                  </a:lnTo>
                  <a:lnTo>
                    <a:pt x="429630" y="11564"/>
                  </a:lnTo>
                  <a:lnTo>
                    <a:pt x="391242" y="14145"/>
                  </a:lnTo>
                  <a:lnTo>
                    <a:pt x="345581" y="15017"/>
                  </a:lnTo>
                  <a:lnTo>
                    <a:pt x="296674" y="17447"/>
                  </a:lnTo>
                  <a:lnTo>
                    <a:pt x="254339" y="21784"/>
                  </a:lnTo>
                  <a:lnTo>
                    <a:pt x="205415" y="28743"/>
                  </a:lnTo>
                  <a:lnTo>
                    <a:pt x="177393" y="32218"/>
                  </a:lnTo>
                  <a:lnTo>
                    <a:pt x="132169" y="43402"/>
                  </a:lnTo>
                  <a:lnTo>
                    <a:pt x="101805" y="53378"/>
                  </a:lnTo>
                  <a:lnTo>
                    <a:pt x="68750" y="65191"/>
                  </a:lnTo>
                  <a:lnTo>
                    <a:pt x="57062" y="67070"/>
                  </a:lnTo>
                  <a:lnTo>
                    <a:pt x="52421" y="69264"/>
                  </a:lnTo>
                  <a:lnTo>
                    <a:pt x="48481" y="72420"/>
                  </a:lnTo>
                  <a:lnTo>
                    <a:pt x="40998" y="79596"/>
                  </a:lnTo>
                  <a:lnTo>
                    <a:pt x="28112" y="89242"/>
                  </a:lnTo>
                  <a:lnTo>
                    <a:pt x="15744" y="104985"/>
                  </a:lnTo>
                  <a:lnTo>
                    <a:pt x="10361" y="111849"/>
                  </a:lnTo>
                  <a:lnTo>
                    <a:pt x="5148" y="120544"/>
                  </a:lnTo>
                  <a:lnTo>
                    <a:pt x="2266" y="130053"/>
                  </a:lnTo>
                  <a:lnTo>
                    <a:pt x="984" y="139077"/>
                  </a:lnTo>
                  <a:lnTo>
                    <a:pt x="263" y="149764"/>
                  </a:lnTo>
                  <a:lnTo>
                    <a:pt x="95" y="158562"/>
                  </a:lnTo>
                  <a:lnTo>
                    <a:pt x="0" y="173035"/>
                  </a:lnTo>
                  <a:lnTo>
                    <a:pt x="2235" y="183015"/>
                  </a:lnTo>
                  <a:lnTo>
                    <a:pt x="5205" y="193943"/>
                  </a:lnTo>
                  <a:lnTo>
                    <a:pt x="5996" y="200412"/>
                  </a:lnTo>
                  <a:lnTo>
                    <a:pt x="6524" y="207266"/>
                  </a:lnTo>
                  <a:lnTo>
                    <a:pt x="9368" y="219396"/>
                  </a:lnTo>
                  <a:lnTo>
                    <a:pt x="13455" y="229585"/>
                  </a:lnTo>
                  <a:lnTo>
                    <a:pt x="18093" y="236935"/>
                  </a:lnTo>
                  <a:lnTo>
                    <a:pt x="25235" y="245283"/>
                  </a:lnTo>
                  <a:lnTo>
                    <a:pt x="33206" y="254637"/>
                  </a:lnTo>
                  <a:lnTo>
                    <a:pt x="39571" y="264438"/>
                  </a:lnTo>
                  <a:lnTo>
                    <a:pt x="47481" y="274440"/>
                  </a:lnTo>
                  <a:lnTo>
                    <a:pt x="55794" y="283682"/>
                  </a:lnTo>
                  <a:lnTo>
                    <a:pt x="66927" y="294492"/>
                  </a:lnTo>
                  <a:lnTo>
                    <a:pt x="83866" y="307197"/>
                  </a:lnTo>
                  <a:lnTo>
                    <a:pt x="91721" y="313763"/>
                  </a:lnTo>
                  <a:lnTo>
                    <a:pt x="108992" y="322220"/>
                  </a:lnTo>
                  <a:lnTo>
                    <a:pt x="137585" y="332663"/>
                  </a:lnTo>
                  <a:lnTo>
                    <a:pt x="160964" y="339485"/>
                  </a:lnTo>
                  <a:lnTo>
                    <a:pt x="208704" y="346489"/>
                  </a:lnTo>
                  <a:lnTo>
                    <a:pt x="248972" y="354954"/>
                  </a:lnTo>
                  <a:lnTo>
                    <a:pt x="291795" y="359762"/>
                  </a:lnTo>
                  <a:lnTo>
                    <a:pt x="336725" y="364569"/>
                  </a:lnTo>
                  <a:lnTo>
                    <a:pt x="379058" y="370755"/>
                  </a:lnTo>
                  <a:lnTo>
                    <a:pt x="425049" y="375113"/>
                  </a:lnTo>
                  <a:lnTo>
                    <a:pt x="452161" y="381508"/>
                  </a:lnTo>
                  <a:lnTo>
                    <a:pt x="472400" y="3886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lve the following Two-Step Equations and check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152280" y="2209680"/>
          <a:ext cx="241308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09680"/>
                    <a:ext cx="2413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4952880" y="1981080"/>
          <a:ext cx="22482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2482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127"/>
          <p:cNvGrpSpPr/>
          <p:nvPr/>
        </p:nvGrpSpPr>
        <p:grpSpPr>
          <a:xfrm>
            <a:off x="1028880" y="2552760"/>
            <a:ext cx="6879600" cy="1211040"/>
            <a:chOff x="1028880" y="2552760"/>
            <a:chExt cx="6879600" cy="1211040"/>
          </a:xfrm>
        </p:grpSpPr>
        <p:sp>
          <p:nvSpPr>
            <p:cNvPr id="110" name="SMARTInkAnnotation132"/>
            <p:cNvSpPr/>
            <p:nvPr/>
          </p:nvSpPr>
          <p:spPr>
            <a:xfrm>
              <a:off x="1493640" y="2583000"/>
              <a:ext cx="15120" cy="167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5241" h="167641">
                  <a:moveTo>
                    <a:pt x="15240" y="0"/>
                  </a:moveTo>
                  <a:lnTo>
                    <a:pt x="15240" y="37077"/>
                  </a:lnTo>
                  <a:lnTo>
                    <a:pt x="14394" y="41651"/>
                  </a:lnTo>
                  <a:lnTo>
                    <a:pt x="12982" y="46394"/>
                  </a:lnTo>
                  <a:lnTo>
                    <a:pt x="11195" y="51250"/>
                  </a:lnTo>
                  <a:lnTo>
                    <a:pt x="10003" y="56180"/>
                  </a:lnTo>
                  <a:lnTo>
                    <a:pt x="9209" y="61160"/>
                  </a:lnTo>
                  <a:lnTo>
                    <a:pt x="8679" y="66173"/>
                  </a:lnTo>
                  <a:lnTo>
                    <a:pt x="8326" y="71209"/>
                  </a:lnTo>
                  <a:lnTo>
                    <a:pt x="8091" y="76259"/>
                  </a:lnTo>
                  <a:lnTo>
                    <a:pt x="7830" y="86386"/>
                  </a:lnTo>
                  <a:lnTo>
                    <a:pt x="7648" y="111764"/>
                  </a:lnTo>
                  <a:lnTo>
                    <a:pt x="6792" y="116843"/>
                  </a:lnTo>
                  <a:lnTo>
                    <a:pt x="5375" y="121922"/>
                  </a:lnTo>
                  <a:lnTo>
                    <a:pt x="3583" y="127001"/>
                  </a:lnTo>
                  <a:lnTo>
                    <a:pt x="2389" y="132081"/>
                  </a:lnTo>
                  <a:lnTo>
                    <a:pt x="1593" y="137161"/>
                  </a:lnTo>
                  <a:lnTo>
                    <a:pt x="1062" y="142240"/>
                  </a:lnTo>
                  <a:lnTo>
                    <a:pt x="708" y="146474"/>
                  </a:lnTo>
                  <a:lnTo>
                    <a:pt x="472" y="150143"/>
                  </a:lnTo>
                  <a:lnTo>
                    <a:pt x="210" y="156477"/>
                  </a:lnTo>
                  <a:lnTo>
                    <a:pt x="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Annotation133"/>
            <p:cNvSpPr/>
            <p:nvPr/>
          </p:nvSpPr>
          <p:spPr>
            <a:xfrm>
              <a:off x="1424880" y="266688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22923" y="15240"/>
                  </a:lnTo>
                  <a:lnTo>
                    <a:pt x="26289" y="14394"/>
                  </a:lnTo>
                  <a:lnTo>
                    <a:pt x="29379" y="12982"/>
                  </a:lnTo>
                  <a:lnTo>
                    <a:pt x="32286" y="11195"/>
                  </a:lnTo>
                  <a:lnTo>
                    <a:pt x="36764" y="10003"/>
                  </a:lnTo>
                  <a:lnTo>
                    <a:pt x="42289" y="9209"/>
                  </a:lnTo>
                  <a:lnTo>
                    <a:pt x="48513" y="8679"/>
                  </a:lnTo>
                  <a:lnTo>
                    <a:pt x="54355" y="8326"/>
                  </a:lnTo>
                  <a:lnTo>
                    <a:pt x="65362" y="7934"/>
                  </a:lnTo>
                  <a:lnTo>
                    <a:pt x="81079" y="7713"/>
                  </a:lnTo>
                  <a:lnTo>
                    <a:pt x="100506" y="7648"/>
                  </a:lnTo>
                  <a:lnTo>
                    <a:pt x="106797" y="6792"/>
                  </a:lnTo>
                  <a:lnTo>
                    <a:pt x="112685" y="5374"/>
                  </a:lnTo>
                  <a:lnTo>
                    <a:pt x="118303" y="3583"/>
                  </a:lnTo>
                  <a:lnTo>
                    <a:pt x="123742" y="2389"/>
                  </a:lnTo>
                  <a:lnTo>
                    <a:pt x="129062" y="1593"/>
                  </a:lnTo>
                  <a:lnTo>
                    <a:pt x="141675" y="315"/>
                  </a:lnTo>
                  <a:lnTo>
                    <a:pt x="144403" y="210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Annotation134"/>
            <p:cNvSpPr/>
            <p:nvPr/>
          </p:nvSpPr>
          <p:spPr>
            <a:xfrm>
              <a:off x="1630800" y="2560320"/>
              <a:ext cx="193320" cy="2055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3499" h="205593">
                  <a:moveTo>
                    <a:pt x="53340" y="7612"/>
                  </a:moveTo>
                  <a:lnTo>
                    <a:pt x="57385" y="3567"/>
                  </a:lnTo>
                  <a:lnTo>
                    <a:pt x="60270" y="2375"/>
                  </a:lnTo>
                  <a:lnTo>
                    <a:pt x="63887" y="1581"/>
                  </a:lnTo>
                  <a:lnTo>
                    <a:pt x="67992" y="1052"/>
                  </a:lnTo>
                  <a:lnTo>
                    <a:pt x="72421" y="698"/>
                  </a:lnTo>
                  <a:lnTo>
                    <a:pt x="77067" y="463"/>
                  </a:lnTo>
                  <a:lnTo>
                    <a:pt x="81858" y="306"/>
                  </a:lnTo>
                  <a:lnTo>
                    <a:pt x="106951" y="54"/>
                  </a:lnTo>
                  <a:lnTo>
                    <a:pt x="134321" y="0"/>
                  </a:lnTo>
                  <a:lnTo>
                    <a:pt x="139501" y="844"/>
                  </a:lnTo>
                  <a:lnTo>
                    <a:pt x="144647" y="2254"/>
                  </a:lnTo>
                  <a:lnTo>
                    <a:pt x="149772" y="4040"/>
                  </a:lnTo>
                  <a:lnTo>
                    <a:pt x="154034" y="5231"/>
                  </a:lnTo>
                  <a:lnTo>
                    <a:pt x="157723" y="6024"/>
                  </a:lnTo>
                  <a:lnTo>
                    <a:pt x="161029" y="6554"/>
                  </a:lnTo>
                  <a:lnTo>
                    <a:pt x="163232" y="7753"/>
                  </a:lnTo>
                  <a:lnTo>
                    <a:pt x="164701" y="9400"/>
                  </a:lnTo>
                  <a:lnTo>
                    <a:pt x="165681" y="11344"/>
                  </a:lnTo>
                  <a:lnTo>
                    <a:pt x="166769" y="15762"/>
                  </a:lnTo>
                  <a:lnTo>
                    <a:pt x="167059" y="18125"/>
                  </a:lnTo>
                  <a:lnTo>
                    <a:pt x="166406" y="20547"/>
                  </a:lnTo>
                  <a:lnTo>
                    <a:pt x="163423" y="25497"/>
                  </a:lnTo>
                  <a:lnTo>
                    <a:pt x="160595" y="28002"/>
                  </a:lnTo>
                  <a:lnTo>
                    <a:pt x="157017" y="30519"/>
                  </a:lnTo>
                  <a:lnTo>
                    <a:pt x="152938" y="33043"/>
                  </a:lnTo>
                  <a:lnTo>
                    <a:pt x="147679" y="35573"/>
                  </a:lnTo>
                  <a:lnTo>
                    <a:pt x="141633" y="38106"/>
                  </a:lnTo>
                  <a:lnTo>
                    <a:pt x="135061" y="40641"/>
                  </a:lnTo>
                  <a:lnTo>
                    <a:pt x="128141" y="44025"/>
                  </a:lnTo>
                  <a:lnTo>
                    <a:pt x="120987" y="47974"/>
                  </a:lnTo>
                  <a:lnTo>
                    <a:pt x="113678" y="52300"/>
                  </a:lnTo>
                  <a:lnTo>
                    <a:pt x="106266" y="56031"/>
                  </a:lnTo>
                  <a:lnTo>
                    <a:pt x="98784" y="59365"/>
                  </a:lnTo>
                  <a:lnTo>
                    <a:pt x="91256" y="62434"/>
                  </a:lnTo>
                  <a:lnTo>
                    <a:pt x="85391" y="65327"/>
                  </a:lnTo>
                  <a:lnTo>
                    <a:pt x="80634" y="68102"/>
                  </a:lnTo>
                  <a:lnTo>
                    <a:pt x="76616" y="70799"/>
                  </a:lnTo>
                  <a:lnTo>
                    <a:pt x="73090" y="72596"/>
                  </a:lnTo>
                  <a:lnTo>
                    <a:pt x="69894" y="73795"/>
                  </a:lnTo>
                  <a:lnTo>
                    <a:pt x="66916" y="74594"/>
                  </a:lnTo>
                  <a:lnTo>
                    <a:pt x="64930" y="75973"/>
                  </a:lnTo>
                  <a:lnTo>
                    <a:pt x="63607" y="77740"/>
                  </a:lnTo>
                  <a:lnTo>
                    <a:pt x="62725" y="79764"/>
                  </a:lnTo>
                  <a:lnTo>
                    <a:pt x="61744" y="84271"/>
                  </a:lnTo>
                  <a:lnTo>
                    <a:pt x="61483" y="86658"/>
                  </a:lnTo>
                  <a:lnTo>
                    <a:pt x="63002" y="89096"/>
                  </a:lnTo>
                  <a:lnTo>
                    <a:pt x="65708" y="91568"/>
                  </a:lnTo>
                  <a:lnTo>
                    <a:pt x="69205" y="94062"/>
                  </a:lnTo>
                  <a:lnTo>
                    <a:pt x="73230" y="95726"/>
                  </a:lnTo>
                  <a:lnTo>
                    <a:pt x="77607" y="96834"/>
                  </a:lnTo>
                  <a:lnTo>
                    <a:pt x="82218" y="97574"/>
                  </a:lnTo>
                  <a:lnTo>
                    <a:pt x="88679" y="98913"/>
                  </a:lnTo>
                  <a:lnTo>
                    <a:pt x="104888" y="102659"/>
                  </a:lnTo>
                  <a:lnTo>
                    <a:pt x="113106" y="103997"/>
                  </a:lnTo>
                  <a:lnTo>
                    <a:pt x="121124" y="104889"/>
                  </a:lnTo>
                  <a:lnTo>
                    <a:pt x="129009" y="105483"/>
                  </a:lnTo>
                  <a:lnTo>
                    <a:pt x="136806" y="106726"/>
                  </a:lnTo>
                  <a:lnTo>
                    <a:pt x="144544" y="108401"/>
                  </a:lnTo>
                  <a:lnTo>
                    <a:pt x="152243" y="110365"/>
                  </a:lnTo>
                  <a:lnTo>
                    <a:pt x="159069" y="112520"/>
                  </a:lnTo>
                  <a:lnTo>
                    <a:pt x="165313" y="114805"/>
                  </a:lnTo>
                  <a:lnTo>
                    <a:pt x="171168" y="117174"/>
                  </a:lnTo>
                  <a:lnTo>
                    <a:pt x="175919" y="119600"/>
                  </a:lnTo>
                  <a:lnTo>
                    <a:pt x="179933" y="122064"/>
                  </a:lnTo>
                  <a:lnTo>
                    <a:pt x="183455" y="124553"/>
                  </a:lnTo>
                  <a:lnTo>
                    <a:pt x="186650" y="127060"/>
                  </a:lnTo>
                  <a:lnTo>
                    <a:pt x="192458" y="132102"/>
                  </a:lnTo>
                  <a:lnTo>
                    <a:pt x="193498" y="134632"/>
                  </a:lnTo>
                  <a:lnTo>
                    <a:pt x="193346" y="137165"/>
                  </a:lnTo>
                  <a:lnTo>
                    <a:pt x="190918" y="143085"/>
                  </a:lnTo>
                  <a:lnTo>
                    <a:pt x="187017" y="151360"/>
                  </a:lnTo>
                  <a:lnTo>
                    <a:pt x="183945" y="155091"/>
                  </a:lnTo>
                  <a:lnTo>
                    <a:pt x="180203" y="158424"/>
                  </a:lnTo>
                  <a:lnTo>
                    <a:pt x="176015" y="161494"/>
                  </a:lnTo>
                  <a:lnTo>
                    <a:pt x="170683" y="164387"/>
                  </a:lnTo>
                  <a:lnTo>
                    <a:pt x="164589" y="167162"/>
                  </a:lnTo>
                  <a:lnTo>
                    <a:pt x="157986" y="169859"/>
                  </a:lnTo>
                  <a:lnTo>
                    <a:pt x="151044" y="173350"/>
                  </a:lnTo>
                  <a:lnTo>
                    <a:pt x="143876" y="177370"/>
                  </a:lnTo>
                  <a:lnTo>
                    <a:pt x="136558" y="181744"/>
                  </a:lnTo>
                  <a:lnTo>
                    <a:pt x="128292" y="185507"/>
                  </a:lnTo>
                  <a:lnTo>
                    <a:pt x="119395" y="188862"/>
                  </a:lnTo>
                  <a:lnTo>
                    <a:pt x="84827" y="200330"/>
                  </a:lnTo>
                  <a:lnTo>
                    <a:pt x="76871" y="202131"/>
                  </a:lnTo>
                  <a:lnTo>
                    <a:pt x="69028" y="203331"/>
                  </a:lnTo>
                  <a:lnTo>
                    <a:pt x="61258" y="204132"/>
                  </a:lnTo>
                  <a:lnTo>
                    <a:pt x="53539" y="204665"/>
                  </a:lnTo>
                  <a:lnTo>
                    <a:pt x="45853" y="205021"/>
                  </a:lnTo>
                  <a:lnTo>
                    <a:pt x="23357" y="205592"/>
                  </a:lnTo>
                  <a:lnTo>
                    <a:pt x="19805" y="204792"/>
                  </a:lnTo>
                  <a:lnTo>
                    <a:pt x="16590" y="203412"/>
                  </a:lnTo>
                  <a:lnTo>
                    <a:pt x="10760" y="200468"/>
                  </a:lnTo>
                  <a:lnTo>
                    <a:pt x="5347" y="199159"/>
                  </a:lnTo>
                  <a:lnTo>
                    <a:pt x="3565" y="197963"/>
                  </a:lnTo>
                  <a:lnTo>
                    <a:pt x="2377" y="196320"/>
                  </a:lnTo>
                  <a:lnTo>
                    <a:pt x="0" y="190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Annotation135"/>
            <p:cNvSpPr/>
            <p:nvPr/>
          </p:nvSpPr>
          <p:spPr>
            <a:xfrm>
              <a:off x="2247840" y="2560320"/>
              <a:ext cx="30240" cy="1522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481" h="152401">
                  <a:moveTo>
                    <a:pt x="30480" y="0"/>
                  </a:moveTo>
                  <a:lnTo>
                    <a:pt x="30480" y="7307"/>
                  </a:lnTo>
                  <a:lnTo>
                    <a:pt x="28222" y="11996"/>
                  </a:lnTo>
                  <a:lnTo>
                    <a:pt x="26435" y="15618"/>
                  </a:lnTo>
                  <a:lnTo>
                    <a:pt x="25243" y="19725"/>
                  </a:lnTo>
                  <a:lnTo>
                    <a:pt x="24449" y="24157"/>
                  </a:lnTo>
                  <a:lnTo>
                    <a:pt x="23919" y="28805"/>
                  </a:lnTo>
                  <a:lnTo>
                    <a:pt x="23566" y="33596"/>
                  </a:lnTo>
                  <a:lnTo>
                    <a:pt x="23331" y="38484"/>
                  </a:lnTo>
                  <a:lnTo>
                    <a:pt x="23174" y="43436"/>
                  </a:lnTo>
                  <a:lnTo>
                    <a:pt x="22223" y="49278"/>
                  </a:lnTo>
                  <a:lnTo>
                    <a:pt x="20742" y="55712"/>
                  </a:lnTo>
                  <a:lnTo>
                    <a:pt x="18908" y="62541"/>
                  </a:lnTo>
                  <a:lnTo>
                    <a:pt x="14612" y="76903"/>
                  </a:lnTo>
                  <a:lnTo>
                    <a:pt x="12282" y="84288"/>
                  </a:lnTo>
                  <a:lnTo>
                    <a:pt x="10728" y="91752"/>
                  </a:lnTo>
                  <a:lnTo>
                    <a:pt x="9692" y="99268"/>
                  </a:lnTo>
                  <a:lnTo>
                    <a:pt x="9002" y="106819"/>
                  </a:lnTo>
                  <a:lnTo>
                    <a:pt x="7694" y="113546"/>
                  </a:lnTo>
                  <a:lnTo>
                    <a:pt x="5976" y="119724"/>
                  </a:lnTo>
                  <a:lnTo>
                    <a:pt x="3984" y="125536"/>
                  </a:lnTo>
                  <a:lnTo>
                    <a:pt x="2656" y="131104"/>
                  </a:lnTo>
                  <a:lnTo>
                    <a:pt x="1771" y="136510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Annotation136"/>
            <p:cNvSpPr/>
            <p:nvPr/>
          </p:nvSpPr>
          <p:spPr>
            <a:xfrm>
              <a:off x="2209680" y="2647080"/>
              <a:ext cx="136800" cy="43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37161" h="4391">
                  <a:moveTo>
                    <a:pt x="0" y="4390"/>
                  </a:moveTo>
                  <a:lnTo>
                    <a:pt x="8091" y="4390"/>
                  </a:lnTo>
                  <a:lnTo>
                    <a:pt x="11320" y="3543"/>
                  </a:lnTo>
                  <a:lnTo>
                    <a:pt x="14320" y="2132"/>
                  </a:lnTo>
                  <a:lnTo>
                    <a:pt x="17167" y="345"/>
                  </a:lnTo>
                  <a:lnTo>
                    <a:pt x="19911" y="0"/>
                  </a:lnTo>
                  <a:lnTo>
                    <a:pt x="22587" y="617"/>
                  </a:lnTo>
                  <a:lnTo>
                    <a:pt x="25218" y="1875"/>
                  </a:lnTo>
                  <a:lnTo>
                    <a:pt x="28665" y="2713"/>
                  </a:lnTo>
                  <a:lnTo>
                    <a:pt x="32657" y="3272"/>
                  </a:lnTo>
                  <a:lnTo>
                    <a:pt x="37012" y="3645"/>
                  </a:lnTo>
                  <a:lnTo>
                    <a:pt x="42454" y="3893"/>
                  </a:lnTo>
                  <a:lnTo>
                    <a:pt x="55276" y="4169"/>
                  </a:lnTo>
                  <a:lnTo>
                    <a:pt x="137160" y="4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Annotation137"/>
            <p:cNvSpPr/>
            <p:nvPr/>
          </p:nvSpPr>
          <p:spPr>
            <a:xfrm>
              <a:off x="2453400" y="2552760"/>
              <a:ext cx="172800" cy="2055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73170" h="205739">
                  <a:moveTo>
                    <a:pt x="0" y="7618"/>
                  </a:moveTo>
                  <a:lnTo>
                    <a:pt x="0" y="1057"/>
                  </a:lnTo>
                  <a:lnTo>
                    <a:pt x="847" y="704"/>
                  </a:lnTo>
                  <a:lnTo>
                    <a:pt x="6084" y="207"/>
                  </a:lnTo>
                  <a:lnTo>
                    <a:pt x="10606" y="91"/>
                  </a:lnTo>
                  <a:lnTo>
                    <a:pt x="61550" y="0"/>
                  </a:lnTo>
                  <a:lnTo>
                    <a:pt x="69820" y="846"/>
                  </a:lnTo>
                  <a:lnTo>
                    <a:pt x="78720" y="2257"/>
                  </a:lnTo>
                  <a:lnTo>
                    <a:pt x="88040" y="4044"/>
                  </a:lnTo>
                  <a:lnTo>
                    <a:pt x="96794" y="5235"/>
                  </a:lnTo>
                  <a:lnTo>
                    <a:pt x="105169" y="6030"/>
                  </a:lnTo>
                  <a:lnTo>
                    <a:pt x="113293" y="6559"/>
                  </a:lnTo>
                  <a:lnTo>
                    <a:pt x="121249" y="7759"/>
                  </a:lnTo>
                  <a:lnTo>
                    <a:pt x="129092" y="9405"/>
                  </a:lnTo>
                  <a:lnTo>
                    <a:pt x="136862" y="11350"/>
                  </a:lnTo>
                  <a:lnTo>
                    <a:pt x="143734" y="13493"/>
                  </a:lnTo>
                  <a:lnTo>
                    <a:pt x="150010" y="15768"/>
                  </a:lnTo>
                  <a:lnTo>
                    <a:pt x="155887" y="18131"/>
                  </a:lnTo>
                  <a:lnTo>
                    <a:pt x="160651" y="20553"/>
                  </a:lnTo>
                  <a:lnTo>
                    <a:pt x="164674" y="23015"/>
                  </a:lnTo>
                  <a:lnTo>
                    <a:pt x="168203" y="25502"/>
                  </a:lnTo>
                  <a:lnTo>
                    <a:pt x="170555" y="28854"/>
                  </a:lnTo>
                  <a:lnTo>
                    <a:pt x="172124" y="32782"/>
                  </a:lnTo>
                  <a:lnTo>
                    <a:pt x="173169" y="37095"/>
                  </a:lnTo>
                  <a:lnTo>
                    <a:pt x="173019" y="40815"/>
                  </a:lnTo>
                  <a:lnTo>
                    <a:pt x="172073" y="44143"/>
                  </a:lnTo>
                  <a:lnTo>
                    <a:pt x="170596" y="47208"/>
                  </a:lnTo>
                  <a:lnTo>
                    <a:pt x="167917" y="50945"/>
                  </a:lnTo>
                  <a:lnTo>
                    <a:pt x="164439" y="55129"/>
                  </a:lnTo>
                  <a:lnTo>
                    <a:pt x="160425" y="59612"/>
                  </a:lnTo>
                  <a:lnTo>
                    <a:pt x="155210" y="63447"/>
                  </a:lnTo>
                  <a:lnTo>
                    <a:pt x="149194" y="66851"/>
                  </a:lnTo>
                  <a:lnTo>
                    <a:pt x="142643" y="69967"/>
                  </a:lnTo>
                  <a:lnTo>
                    <a:pt x="134888" y="72891"/>
                  </a:lnTo>
                  <a:lnTo>
                    <a:pt x="126333" y="75686"/>
                  </a:lnTo>
                  <a:lnTo>
                    <a:pt x="117242" y="78397"/>
                  </a:lnTo>
                  <a:lnTo>
                    <a:pt x="108641" y="81897"/>
                  </a:lnTo>
                  <a:lnTo>
                    <a:pt x="100367" y="85924"/>
                  </a:lnTo>
                  <a:lnTo>
                    <a:pt x="92312" y="90302"/>
                  </a:lnTo>
                  <a:lnTo>
                    <a:pt x="84401" y="93221"/>
                  </a:lnTo>
                  <a:lnTo>
                    <a:pt x="76588" y="95167"/>
                  </a:lnTo>
                  <a:lnTo>
                    <a:pt x="68839" y="96464"/>
                  </a:lnTo>
                  <a:lnTo>
                    <a:pt x="62826" y="98175"/>
                  </a:lnTo>
                  <a:lnTo>
                    <a:pt x="57971" y="100163"/>
                  </a:lnTo>
                  <a:lnTo>
                    <a:pt x="53887" y="102335"/>
                  </a:lnTo>
                  <a:lnTo>
                    <a:pt x="50318" y="104629"/>
                  </a:lnTo>
                  <a:lnTo>
                    <a:pt x="47092" y="107005"/>
                  </a:lnTo>
                  <a:lnTo>
                    <a:pt x="39877" y="112858"/>
                  </a:lnTo>
                  <a:lnTo>
                    <a:pt x="40131" y="113338"/>
                  </a:lnTo>
                  <a:lnTo>
                    <a:pt x="41148" y="113658"/>
                  </a:lnTo>
                  <a:lnTo>
                    <a:pt x="46228" y="114013"/>
                  </a:lnTo>
                  <a:lnTo>
                    <a:pt x="56953" y="114171"/>
                  </a:lnTo>
                  <a:lnTo>
                    <a:pt x="62522" y="115060"/>
                  </a:lnTo>
                  <a:lnTo>
                    <a:pt x="67928" y="116500"/>
                  </a:lnTo>
                  <a:lnTo>
                    <a:pt x="114708" y="132207"/>
                  </a:lnTo>
                  <a:lnTo>
                    <a:pt x="121345" y="133857"/>
                  </a:lnTo>
                  <a:lnTo>
                    <a:pt x="127464" y="134958"/>
                  </a:lnTo>
                  <a:lnTo>
                    <a:pt x="133236" y="135691"/>
                  </a:lnTo>
                  <a:lnTo>
                    <a:pt x="138777" y="137027"/>
                  </a:lnTo>
                  <a:lnTo>
                    <a:pt x="144165" y="138764"/>
                  </a:lnTo>
                  <a:lnTo>
                    <a:pt x="149450" y="140768"/>
                  </a:lnTo>
                  <a:lnTo>
                    <a:pt x="152973" y="142951"/>
                  </a:lnTo>
                  <a:lnTo>
                    <a:pt x="155322" y="145254"/>
                  </a:lnTo>
                  <a:lnTo>
                    <a:pt x="156888" y="147635"/>
                  </a:lnTo>
                  <a:lnTo>
                    <a:pt x="157086" y="150916"/>
                  </a:lnTo>
                  <a:lnTo>
                    <a:pt x="156370" y="154797"/>
                  </a:lnTo>
                  <a:lnTo>
                    <a:pt x="155047" y="159077"/>
                  </a:lnTo>
                  <a:lnTo>
                    <a:pt x="152472" y="162778"/>
                  </a:lnTo>
                  <a:lnTo>
                    <a:pt x="149061" y="166091"/>
                  </a:lnTo>
                  <a:lnTo>
                    <a:pt x="145094" y="169147"/>
                  </a:lnTo>
                  <a:lnTo>
                    <a:pt x="141603" y="172031"/>
                  </a:lnTo>
                  <a:lnTo>
                    <a:pt x="138429" y="174800"/>
                  </a:lnTo>
                  <a:lnTo>
                    <a:pt x="135466" y="177493"/>
                  </a:lnTo>
                  <a:lnTo>
                    <a:pt x="130104" y="179288"/>
                  </a:lnTo>
                  <a:lnTo>
                    <a:pt x="123143" y="180484"/>
                  </a:lnTo>
                  <a:lnTo>
                    <a:pt x="115115" y="181282"/>
                  </a:lnTo>
                  <a:lnTo>
                    <a:pt x="108070" y="182661"/>
                  </a:lnTo>
                  <a:lnTo>
                    <a:pt x="101680" y="184427"/>
                  </a:lnTo>
                  <a:lnTo>
                    <a:pt x="75213" y="193344"/>
                  </a:lnTo>
                  <a:lnTo>
                    <a:pt x="67075" y="194935"/>
                  </a:lnTo>
                  <a:lnTo>
                    <a:pt x="58264" y="195997"/>
                  </a:lnTo>
                  <a:lnTo>
                    <a:pt x="49002" y="196703"/>
                  </a:lnTo>
                  <a:lnTo>
                    <a:pt x="41982" y="198022"/>
                  </a:lnTo>
                  <a:lnTo>
                    <a:pt x="36455" y="199747"/>
                  </a:lnTo>
                  <a:lnTo>
                    <a:pt x="22860" y="2057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Annotation138"/>
            <p:cNvSpPr/>
            <p:nvPr/>
          </p:nvSpPr>
          <p:spPr>
            <a:xfrm>
              <a:off x="1028880" y="2849760"/>
              <a:ext cx="188280" cy="18252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88416" h="182776">
                  <a:moveTo>
                    <a:pt x="0" y="53235"/>
                  </a:moveTo>
                  <a:lnTo>
                    <a:pt x="0" y="41884"/>
                  </a:lnTo>
                  <a:lnTo>
                    <a:pt x="847" y="40588"/>
                  </a:lnTo>
                  <a:lnTo>
                    <a:pt x="2258" y="39723"/>
                  </a:lnTo>
                  <a:lnTo>
                    <a:pt x="6930" y="37917"/>
                  </a:lnTo>
                  <a:lnTo>
                    <a:pt x="14651" y="34291"/>
                  </a:lnTo>
                  <a:lnTo>
                    <a:pt x="18234" y="32139"/>
                  </a:lnTo>
                  <a:lnTo>
                    <a:pt x="21470" y="29858"/>
                  </a:lnTo>
                  <a:lnTo>
                    <a:pt x="24473" y="27490"/>
                  </a:lnTo>
                  <a:lnTo>
                    <a:pt x="29016" y="25065"/>
                  </a:lnTo>
                  <a:lnTo>
                    <a:pt x="34584" y="22602"/>
                  </a:lnTo>
                  <a:lnTo>
                    <a:pt x="40836" y="20113"/>
                  </a:lnTo>
                  <a:lnTo>
                    <a:pt x="46697" y="17607"/>
                  </a:lnTo>
                  <a:lnTo>
                    <a:pt x="57725" y="12565"/>
                  </a:lnTo>
                  <a:lnTo>
                    <a:pt x="64730" y="10882"/>
                  </a:lnTo>
                  <a:lnTo>
                    <a:pt x="72787" y="9759"/>
                  </a:lnTo>
                  <a:lnTo>
                    <a:pt x="81545" y="9011"/>
                  </a:lnTo>
                  <a:lnTo>
                    <a:pt x="89923" y="7666"/>
                  </a:lnTo>
                  <a:lnTo>
                    <a:pt x="98049" y="5922"/>
                  </a:lnTo>
                  <a:lnTo>
                    <a:pt x="106006" y="3913"/>
                  </a:lnTo>
                  <a:lnTo>
                    <a:pt x="113851" y="2574"/>
                  </a:lnTo>
                  <a:lnTo>
                    <a:pt x="121620" y="1681"/>
                  </a:lnTo>
                  <a:lnTo>
                    <a:pt x="129340" y="1085"/>
                  </a:lnTo>
                  <a:lnTo>
                    <a:pt x="137027" y="689"/>
                  </a:lnTo>
                  <a:lnTo>
                    <a:pt x="152341" y="248"/>
                  </a:lnTo>
                  <a:lnTo>
                    <a:pt x="171198" y="0"/>
                  </a:lnTo>
                  <a:lnTo>
                    <a:pt x="175938" y="812"/>
                  </a:lnTo>
                  <a:lnTo>
                    <a:pt x="179946" y="2199"/>
                  </a:lnTo>
                  <a:lnTo>
                    <a:pt x="183464" y="3971"/>
                  </a:lnTo>
                  <a:lnTo>
                    <a:pt x="185809" y="6846"/>
                  </a:lnTo>
                  <a:lnTo>
                    <a:pt x="187373" y="10456"/>
                  </a:lnTo>
                  <a:lnTo>
                    <a:pt x="188415" y="14555"/>
                  </a:lnTo>
                  <a:lnTo>
                    <a:pt x="188264" y="18135"/>
                  </a:lnTo>
                  <a:lnTo>
                    <a:pt x="187316" y="21368"/>
                  </a:lnTo>
                  <a:lnTo>
                    <a:pt x="185837" y="24371"/>
                  </a:lnTo>
                  <a:lnTo>
                    <a:pt x="183158" y="28065"/>
                  </a:lnTo>
                  <a:lnTo>
                    <a:pt x="179679" y="32222"/>
                  </a:lnTo>
                  <a:lnTo>
                    <a:pt x="175666" y="36686"/>
                  </a:lnTo>
                  <a:lnTo>
                    <a:pt x="170451" y="41356"/>
                  </a:lnTo>
                  <a:lnTo>
                    <a:pt x="164434" y="46162"/>
                  </a:lnTo>
                  <a:lnTo>
                    <a:pt x="157883" y="51060"/>
                  </a:lnTo>
                  <a:lnTo>
                    <a:pt x="143830" y="61017"/>
                  </a:lnTo>
                  <a:lnTo>
                    <a:pt x="136527" y="66043"/>
                  </a:lnTo>
                  <a:lnTo>
                    <a:pt x="128271" y="71087"/>
                  </a:lnTo>
                  <a:lnTo>
                    <a:pt x="119381" y="76143"/>
                  </a:lnTo>
                  <a:lnTo>
                    <a:pt x="110067" y="81207"/>
                  </a:lnTo>
                  <a:lnTo>
                    <a:pt x="101318" y="87123"/>
                  </a:lnTo>
                  <a:lnTo>
                    <a:pt x="92945" y="93607"/>
                  </a:lnTo>
                  <a:lnTo>
                    <a:pt x="84824" y="100470"/>
                  </a:lnTo>
                  <a:lnTo>
                    <a:pt x="76869" y="106738"/>
                  </a:lnTo>
                  <a:lnTo>
                    <a:pt x="69026" y="112611"/>
                  </a:lnTo>
                  <a:lnTo>
                    <a:pt x="61257" y="118219"/>
                  </a:lnTo>
                  <a:lnTo>
                    <a:pt x="54385" y="123651"/>
                  </a:lnTo>
                  <a:lnTo>
                    <a:pt x="48110" y="128966"/>
                  </a:lnTo>
                  <a:lnTo>
                    <a:pt x="37469" y="138540"/>
                  </a:lnTo>
                  <a:lnTo>
                    <a:pt x="29917" y="145617"/>
                  </a:lnTo>
                  <a:lnTo>
                    <a:pt x="27565" y="148690"/>
                  </a:lnTo>
                  <a:lnTo>
                    <a:pt x="24951" y="154362"/>
                  </a:lnTo>
                  <a:lnTo>
                    <a:pt x="25947" y="157060"/>
                  </a:lnTo>
                  <a:lnTo>
                    <a:pt x="28305" y="159705"/>
                  </a:lnTo>
                  <a:lnTo>
                    <a:pt x="31570" y="162315"/>
                  </a:lnTo>
                  <a:lnTo>
                    <a:pt x="37456" y="167473"/>
                  </a:lnTo>
                  <a:lnTo>
                    <a:pt x="40211" y="170034"/>
                  </a:lnTo>
                  <a:lnTo>
                    <a:pt x="44587" y="172587"/>
                  </a:lnTo>
                  <a:lnTo>
                    <a:pt x="50045" y="175137"/>
                  </a:lnTo>
                  <a:lnTo>
                    <a:pt x="56223" y="177683"/>
                  </a:lnTo>
                  <a:lnTo>
                    <a:pt x="62882" y="179380"/>
                  </a:lnTo>
                  <a:lnTo>
                    <a:pt x="69862" y="180512"/>
                  </a:lnTo>
                  <a:lnTo>
                    <a:pt x="77054" y="181266"/>
                  </a:lnTo>
                  <a:lnTo>
                    <a:pt x="85236" y="181769"/>
                  </a:lnTo>
                  <a:lnTo>
                    <a:pt x="103359" y="182328"/>
                  </a:lnTo>
                  <a:lnTo>
                    <a:pt x="136054" y="182716"/>
                  </a:lnTo>
                  <a:lnTo>
                    <a:pt x="152400" y="1827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MARTInkAnnotation139"/>
            <p:cNvSpPr/>
            <p:nvPr/>
          </p:nvSpPr>
          <p:spPr>
            <a:xfrm>
              <a:off x="1280160" y="2948760"/>
              <a:ext cx="136800" cy="152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7161" h="152401">
                  <a:moveTo>
                    <a:pt x="137160" y="0"/>
                  </a:moveTo>
                  <a:lnTo>
                    <a:pt x="133115" y="4045"/>
                  </a:lnTo>
                  <a:lnTo>
                    <a:pt x="131923" y="6084"/>
                  </a:lnTo>
                  <a:lnTo>
                    <a:pt x="129400" y="13844"/>
                  </a:lnTo>
                  <a:lnTo>
                    <a:pt x="127753" y="17696"/>
                  </a:lnTo>
                  <a:lnTo>
                    <a:pt x="125809" y="21957"/>
                  </a:lnTo>
                  <a:lnTo>
                    <a:pt x="122819" y="26491"/>
                  </a:lnTo>
                  <a:lnTo>
                    <a:pt x="119133" y="31208"/>
                  </a:lnTo>
                  <a:lnTo>
                    <a:pt x="114982" y="36045"/>
                  </a:lnTo>
                  <a:lnTo>
                    <a:pt x="109674" y="40963"/>
                  </a:lnTo>
                  <a:lnTo>
                    <a:pt x="103596" y="45936"/>
                  </a:lnTo>
                  <a:lnTo>
                    <a:pt x="97004" y="50944"/>
                  </a:lnTo>
                  <a:lnTo>
                    <a:pt x="90916" y="56822"/>
                  </a:lnTo>
                  <a:lnTo>
                    <a:pt x="85164" y="63282"/>
                  </a:lnTo>
                  <a:lnTo>
                    <a:pt x="79636" y="70128"/>
                  </a:lnTo>
                  <a:lnTo>
                    <a:pt x="73411" y="77232"/>
                  </a:lnTo>
                  <a:lnTo>
                    <a:pt x="66721" y="84508"/>
                  </a:lnTo>
                  <a:lnTo>
                    <a:pt x="52514" y="99366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MARTInkAnnotation140"/>
            <p:cNvSpPr/>
            <p:nvPr/>
          </p:nvSpPr>
          <p:spPr>
            <a:xfrm>
              <a:off x="1295280" y="2963880"/>
              <a:ext cx="228240" cy="910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28601" h="91441">
                  <a:moveTo>
                    <a:pt x="0" y="0"/>
                  </a:moveTo>
                  <a:lnTo>
                    <a:pt x="13121" y="6561"/>
                  </a:lnTo>
                  <a:lnTo>
                    <a:pt x="18814" y="7149"/>
                  </a:lnTo>
                  <a:lnTo>
                    <a:pt x="22703" y="7306"/>
                  </a:lnTo>
                  <a:lnTo>
                    <a:pt x="27835" y="8257"/>
                  </a:lnTo>
                  <a:lnTo>
                    <a:pt x="33797" y="9738"/>
                  </a:lnTo>
                  <a:lnTo>
                    <a:pt x="40311" y="11572"/>
                  </a:lnTo>
                  <a:lnTo>
                    <a:pt x="47194" y="14488"/>
                  </a:lnTo>
                  <a:lnTo>
                    <a:pt x="54323" y="18125"/>
                  </a:lnTo>
                  <a:lnTo>
                    <a:pt x="61615" y="22244"/>
                  </a:lnTo>
                  <a:lnTo>
                    <a:pt x="69017" y="25836"/>
                  </a:lnTo>
                  <a:lnTo>
                    <a:pt x="76491" y="29077"/>
                  </a:lnTo>
                  <a:lnTo>
                    <a:pt x="84014" y="32085"/>
                  </a:lnTo>
                  <a:lnTo>
                    <a:pt x="90723" y="35783"/>
                  </a:lnTo>
                  <a:lnTo>
                    <a:pt x="96888" y="39942"/>
                  </a:lnTo>
                  <a:lnTo>
                    <a:pt x="102692" y="44408"/>
                  </a:lnTo>
                  <a:lnTo>
                    <a:pt x="109948" y="48232"/>
                  </a:lnTo>
                  <a:lnTo>
                    <a:pt x="118172" y="51628"/>
                  </a:lnTo>
                  <a:lnTo>
                    <a:pt x="127041" y="54739"/>
                  </a:lnTo>
                  <a:lnTo>
                    <a:pt x="136341" y="58506"/>
                  </a:lnTo>
                  <a:lnTo>
                    <a:pt x="145927" y="62711"/>
                  </a:lnTo>
                  <a:lnTo>
                    <a:pt x="155705" y="67207"/>
                  </a:lnTo>
                  <a:lnTo>
                    <a:pt x="165610" y="71052"/>
                  </a:lnTo>
                  <a:lnTo>
                    <a:pt x="175600" y="74461"/>
                  </a:lnTo>
                  <a:lnTo>
                    <a:pt x="185647" y="77581"/>
                  </a:lnTo>
                  <a:lnTo>
                    <a:pt x="194038" y="80507"/>
                  </a:lnTo>
                  <a:lnTo>
                    <a:pt x="201325" y="83305"/>
                  </a:lnTo>
                  <a:lnTo>
                    <a:pt x="207877" y="86017"/>
                  </a:lnTo>
                  <a:lnTo>
                    <a:pt x="213091" y="87825"/>
                  </a:lnTo>
                  <a:lnTo>
                    <a:pt x="217414" y="89030"/>
                  </a:lnTo>
                  <a:lnTo>
                    <a:pt x="228600" y="914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SMARTInkAnnotation141"/>
            <p:cNvSpPr/>
            <p:nvPr/>
          </p:nvSpPr>
          <p:spPr>
            <a:xfrm>
              <a:off x="1653480" y="2971440"/>
              <a:ext cx="136800" cy="226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7161" h="22861">
                  <a:moveTo>
                    <a:pt x="0" y="22860"/>
                  </a:moveTo>
                  <a:lnTo>
                    <a:pt x="8091" y="22860"/>
                  </a:lnTo>
                  <a:lnTo>
                    <a:pt x="13014" y="22013"/>
                  </a:lnTo>
                  <a:lnTo>
                    <a:pt x="18836" y="20602"/>
                  </a:lnTo>
                  <a:lnTo>
                    <a:pt x="25257" y="18815"/>
                  </a:lnTo>
                  <a:lnTo>
                    <a:pt x="31231" y="17623"/>
                  </a:lnTo>
                  <a:lnTo>
                    <a:pt x="36907" y="16829"/>
                  </a:lnTo>
                  <a:lnTo>
                    <a:pt x="42385" y="16299"/>
                  </a:lnTo>
                  <a:lnTo>
                    <a:pt x="49423" y="15099"/>
                  </a:lnTo>
                  <a:lnTo>
                    <a:pt x="57502" y="13453"/>
                  </a:lnTo>
                  <a:lnTo>
                    <a:pt x="66275" y="11509"/>
                  </a:lnTo>
                  <a:lnTo>
                    <a:pt x="74663" y="10212"/>
                  </a:lnTo>
                  <a:lnTo>
                    <a:pt x="82796" y="9348"/>
                  </a:lnTo>
                  <a:lnTo>
                    <a:pt x="90757" y="8772"/>
                  </a:lnTo>
                  <a:lnTo>
                    <a:pt x="98605" y="7542"/>
                  </a:lnTo>
                  <a:lnTo>
                    <a:pt x="106377" y="5874"/>
                  </a:lnTo>
                  <a:lnTo>
                    <a:pt x="114098" y="3916"/>
                  </a:lnTo>
                  <a:lnTo>
                    <a:pt x="120092" y="2611"/>
                  </a:lnTo>
                  <a:lnTo>
                    <a:pt x="124935" y="174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MARTInkAnnotation142"/>
            <p:cNvSpPr/>
            <p:nvPr/>
          </p:nvSpPr>
          <p:spPr>
            <a:xfrm>
              <a:off x="1691640" y="3040200"/>
              <a:ext cx="144720" cy="3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44781" h="1">
                  <a:moveTo>
                    <a:pt x="0" y="0"/>
                  </a:move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MARTInkAnnotation143"/>
            <p:cNvSpPr/>
            <p:nvPr/>
          </p:nvSpPr>
          <p:spPr>
            <a:xfrm>
              <a:off x="2011680" y="2971440"/>
              <a:ext cx="220680" cy="75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0981" h="7621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2997" y="5237"/>
                  </a:lnTo>
                  <a:lnTo>
                    <a:pt x="15438" y="6032"/>
                  </a:lnTo>
                  <a:lnTo>
                    <a:pt x="17912" y="6561"/>
                  </a:lnTo>
                  <a:lnTo>
                    <a:pt x="20408" y="6914"/>
                  </a:lnTo>
                  <a:lnTo>
                    <a:pt x="22918" y="7150"/>
                  </a:lnTo>
                  <a:lnTo>
                    <a:pt x="25439" y="7307"/>
                  </a:lnTo>
                  <a:lnTo>
                    <a:pt x="32755" y="7481"/>
                  </a:lnTo>
                  <a:lnTo>
                    <a:pt x="22098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MARTInkAnnotation144"/>
            <p:cNvSpPr/>
            <p:nvPr/>
          </p:nvSpPr>
          <p:spPr>
            <a:xfrm>
              <a:off x="2270880" y="2880360"/>
              <a:ext cx="151920" cy="10512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2048" h="105489">
                  <a:moveTo>
                    <a:pt x="45367" y="0"/>
                  </a:moveTo>
                  <a:lnTo>
                    <a:pt x="57359" y="0"/>
                  </a:lnTo>
                  <a:lnTo>
                    <a:pt x="53207" y="0"/>
                  </a:lnTo>
                  <a:lnTo>
                    <a:pt x="53085" y="2258"/>
                  </a:lnTo>
                  <a:lnTo>
                    <a:pt x="53052" y="4046"/>
                  </a:lnTo>
                  <a:lnTo>
                    <a:pt x="52184" y="5237"/>
                  </a:lnTo>
                  <a:lnTo>
                    <a:pt x="50758" y="6031"/>
                  </a:lnTo>
                  <a:lnTo>
                    <a:pt x="48961" y="6561"/>
                  </a:lnTo>
                  <a:lnTo>
                    <a:pt x="44707" y="9407"/>
                  </a:lnTo>
                  <a:lnTo>
                    <a:pt x="42387" y="11352"/>
                  </a:lnTo>
                  <a:lnTo>
                    <a:pt x="39994" y="13494"/>
                  </a:lnTo>
                  <a:lnTo>
                    <a:pt x="35077" y="18133"/>
                  </a:lnTo>
                  <a:lnTo>
                    <a:pt x="27548" y="25505"/>
                  </a:lnTo>
                  <a:lnTo>
                    <a:pt x="25022" y="28857"/>
                  </a:lnTo>
                  <a:lnTo>
                    <a:pt x="22490" y="32784"/>
                  </a:lnTo>
                  <a:lnTo>
                    <a:pt x="19956" y="37097"/>
                  </a:lnTo>
                  <a:lnTo>
                    <a:pt x="17420" y="40818"/>
                  </a:lnTo>
                  <a:lnTo>
                    <a:pt x="14882" y="44145"/>
                  </a:lnTo>
                  <a:lnTo>
                    <a:pt x="12344" y="47210"/>
                  </a:lnTo>
                  <a:lnTo>
                    <a:pt x="10652" y="50947"/>
                  </a:lnTo>
                  <a:lnTo>
                    <a:pt x="9523" y="55131"/>
                  </a:lnTo>
                  <a:lnTo>
                    <a:pt x="8771" y="59614"/>
                  </a:lnTo>
                  <a:lnTo>
                    <a:pt x="7424" y="63449"/>
                  </a:lnTo>
                  <a:lnTo>
                    <a:pt x="5678" y="66853"/>
                  </a:lnTo>
                  <a:lnTo>
                    <a:pt x="3668" y="69969"/>
                  </a:lnTo>
                  <a:lnTo>
                    <a:pt x="2328" y="72893"/>
                  </a:lnTo>
                  <a:lnTo>
                    <a:pt x="1434" y="75688"/>
                  </a:lnTo>
                  <a:lnTo>
                    <a:pt x="838" y="78399"/>
                  </a:lnTo>
                  <a:lnTo>
                    <a:pt x="441" y="81053"/>
                  </a:lnTo>
                  <a:lnTo>
                    <a:pt x="177" y="83669"/>
                  </a:lnTo>
                  <a:lnTo>
                    <a:pt x="0" y="86259"/>
                  </a:lnTo>
                  <a:lnTo>
                    <a:pt x="729" y="88833"/>
                  </a:lnTo>
                  <a:lnTo>
                    <a:pt x="2062" y="91395"/>
                  </a:lnTo>
                  <a:lnTo>
                    <a:pt x="3797" y="93950"/>
                  </a:lnTo>
                  <a:lnTo>
                    <a:pt x="5800" y="95654"/>
                  </a:lnTo>
                  <a:lnTo>
                    <a:pt x="7983" y="96789"/>
                  </a:lnTo>
                  <a:lnTo>
                    <a:pt x="10284" y="97546"/>
                  </a:lnTo>
                  <a:lnTo>
                    <a:pt x="12665" y="98897"/>
                  </a:lnTo>
                  <a:lnTo>
                    <a:pt x="15099" y="100645"/>
                  </a:lnTo>
                  <a:lnTo>
                    <a:pt x="17569" y="102657"/>
                  </a:lnTo>
                  <a:lnTo>
                    <a:pt x="20908" y="103998"/>
                  </a:lnTo>
                  <a:lnTo>
                    <a:pt x="24828" y="104892"/>
                  </a:lnTo>
                  <a:lnTo>
                    <a:pt x="29134" y="105488"/>
                  </a:lnTo>
                  <a:lnTo>
                    <a:pt x="34545" y="105039"/>
                  </a:lnTo>
                  <a:lnTo>
                    <a:pt x="40692" y="103892"/>
                  </a:lnTo>
                  <a:lnTo>
                    <a:pt x="47331" y="102282"/>
                  </a:lnTo>
                  <a:lnTo>
                    <a:pt x="54296" y="101208"/>
                  </a:lnTo>
                  <a:lnTo>
                    <a:pt x="61480" y="100492"/>
                  </a:lnTo>
                  <a:lnTo>
                    <a:pt x="68809" y="100015"/>
                  </a:lnTo>
                  <a:lnTo>
                    <a:pt x="76235" y="98850"/>
                  </a:lnTo>
                  <a:lnTo>
                    <a:pt x="83726" y="97227"/>
                  </a:lnTo>
                  <a:lnTo>
                    <a:pt x="91259" y="95298"/>
                  </a:lnTo>
                  <a:lnTo>
                    <a:pt x="97975" y="92318"/>
                  </a:lnTo>
                  <a:lnTo>
                    <a:pt x="104146" y="88639"/>
                  </a:lnTo>
                  <a:lnTo>
                    <a:pt x="109953" y="84493"/>
                  </a:lnTo>
                  <a:lnTo>
                    <a:pt x="115518" y="81728"/>
                  </a:lnTo>
                  <a:lnTo>
                    <a:pt x="120921" y="79886"/>
                  </a:lnTo>
                  <a:lnTo>
                    <a:pt x="126216" y="78657"/>
                  </a:lnTo>
                  <a:lnTo>
                    <a:pt x="131440" y="76991"/>
                  </a:lnTo>
                  <a:lnTo>
                    <a:pt x="136616" y="75034"/>
                  </a:lnTo>
                  <a:lnTo>
                    <a:pt x="152047" y="685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MARTInkAnnotation145"/>
            <p:cNvSpPr/>
            <p:nvPr/>
          </p:nvSpPr>
          <p:spPr>
            <a:xfrm>
              <a:off x="2453400" y="286488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22860" y="0"/>
                  </a:moveTo>
                  <a:lnTo>
                    <a:pt x="22860" y="8091"/>
                  </a:lnTo>
                  <a:lnTo>
                    <a:pt x="22014" y="11321"/>
                  </a:lnTo>
                  <a:lnTo>
                    <a:pt x="20602" y="14320"/>
                  </a:lnTo>
                  <a:lnTo>
                    <a:pt x="18815" y="17167"/>
                  </a:lnTo>
                  <a:lnTo>
                    <a:pt x="17623" y="19911"/>
                  </a:lnTo>
                  <a:lnTo>
                    <a:pt x="16829" y="22588"/>
                  </a:lnTo>
                  <a:lnTo>
                    <a:pt x="16299" y="25218"/>
                  </a:lnTo>
                  <a:lnTo>
                    <a:pt x="15711" y="32657"/>
                  </a:lnTo>
                  <a:lnTo>
                    <a:pt x="15450" y="41608"/>
                  </a:lnTo>
                  <a:lnTo>
                    <a:pt x="15268" y="66168"/>
                  </a:lnTo>
                  <a:lnTo>
                    <a:pt x="14412" y="71205"/>
                  </a:lnTo>
                  <a:lnTo>
                    <a:pt x="12995" y="76257"/>
                  </a:lnTo>
                  <a:lnTo>
                    <a:pt x="11203" y="81318"/>
                  </a:lnTo>
                  <a:lnTo>
                    <a:pt x="10009" y="87232"/>
                  </a:lnTo>
                  <a:lnTo>
                    <a:pt x="9213" y="93715"/>
                  </a:lnTo>
                  <a:lnTo>
                    <a:pt x="8682" y="100576"/>
                  </a:lnTo>
                  <a:lnTo>
                    <a:pt x="7481" y="106844"/>
                  </a:lnTo>
                  <a:lnTo>
                    <a:pt x="5834" y="112716"/>
                  </a:lnTo>
                  <a:lnTo>
                    <a:pt x="3889" y="118324"/>
                  </a:lnTo>
                  <a:lnTo>
                    <a:pt x="2593" y="124603"/>
                  </a:lnTo>
                  <a:lnTo>
                    <a:pt x="1729" y="131329"/>
                  </a:lnTo>
                  <a:lnTo>
                    <a:pt x="1153" y="138353"/>
                  </a:lnTo>
                  <a:lnTo>
                    <a:pt x="768" y="145575"/>
                  </a:lnTo>
                  <a:lnTo>
                    <a:pt x="342" y="160373"/>
                  </a:lnTo>
                  <a:lnTo>
                    <a:pt x="45" y="189878"/>
                  </a:lnTo>
                  <a:lnTo>
                    <a:pt x="0" y="238404"/>
                  </a:lnTo>
                  <a:lnTo>
                    <a:pt x="847" y="240216"/>
                  </a:lnTo>
                  <a:lnTo>
                    <a:pt x="2258" y="241424"/>
                  </a:lnTo>
                  <a:lnTo>
                    <a:pt x="7620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MARTInkAnnotation146"/>
            <p:cNvSpPr/>
            <p:nvPr/>
          </p:nvSpPr>
          <p:spPr>
            <a:xfrm>
              <a:off x="1036440" y="3146760"/>
              <a:ext cx="632160" cy="1512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632461" h="15241">
                  <a:moveTo>
                    <a:pt x="0" y="7620"/>
                  </a:moveTo>
                  <a:lnTo>
                    <a:pt x="4045" y="11666"/>
                  </a:lnTo>
                  <a:lnTo>
                    <a:pt x="6084" y="12857"/>
                  </a:lnTo>
                  <a:lnTo>
                    <a:pt x="8289" y="13652"/>
                  </a:lnTo>
                  <a:lnTo>
                    <a:pt x="10606" y="14181"/>
                  </a:lnTo>
                  <a:lnTo>
                    <a:pt x="12997" y="14534"/>
                  </a:lnTo>
                  <a:lnTo>
                    <a:pt x="17912" y="14926"/>
                  </a:lnTo>
                  <a:lnTo>
                    <a:pt x="34050" y="15178"/>
                  </a:lnTo>
                  <a:lnTo>
                    <a:pt x="114750" y="15240"/>
                  </a:lnTo>
                  <a:lnTo>
                    <a:pt x="123067" y="14393"/>
                  </a:lnTo>
                  <a:lnTo>
                    <a:pt x="131998" y="12982"/>
                  </a:lnTo>
                  <a:lnTo>
                    <a:pt x="141338" y="11195"/>
                  </a:lnTo>
                  <a:lnTo>
                    <a:pt x="150106" y="10003"/>
                  </a:lnTo>
                  <a:lnTo>
                    <a:pt x="158491" y="9209"/>
                  </a:lnTo>
                  <a:lnTo>
                    <a:pt x="166621" y="8679"/>
                  </a:lnTo>
                  <a:lnTo>
                    <a:pt x="175427" y="8326"/>
                  </a:lnTo>
                  <a:lnTo>
                    <a:pt x="194243" y="7934"/>
                  </a:lnTo>
                  <a:lnTo>
                    <a:pt x="317485" y="7623"/>
                  </a:lnTo>
                  <a:lnTo>
                    <a:pt x="327650" y="6775"/>
                  </a:lnTo>
                  <a:lnTo>
                    <a:pt x="338660" y="5363"/>
                  </a:lnTo>
                  <a:lnTo>
                    <a:pt x="350234" y="3575"/>
                  </a:lnTo>
                  <a:lnTo>
                    <a:pt x="361336" y="2384"/>
                  </a:lnTo>
                  <a:lnTo>
                    <a:pt x="372124" y="1589"/>
                  </a:lnTo>
                  <a:lnTo>
                    <a:pt x="382703" y="1060"/>
                  </a:lnTo>
                  <a:lnTo>
                    <a:pt x="403488" y="471"/>
                  </a:lnTo>
                  <a:lnTo>
                    <a:pt x="470913" y="28"/>
                  </a:lnTo>
                  <a:lnTo>
                    <a:pt x="6324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MARTInkAnnotation147"/>
            <p:cNvSpPr/>
            <p:nvPr/>
          </p:nvSpPr>
          <p:spPr>
            <a:xfrm>
              <a:off x="2202120" y="3146760"/>
              <a:ext cx="487440" cy="1512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87681" h="15240">
                  <a:moveTo>
                    <a:pt x="0" y="15239"/>
                  </a:moveTo>
                  <a:lnTo>
                    <a:pt x="40090" y="15239"/>
                  </a:lnTo>
                  <a:lnTo>
                    <a:pt x="47047" y="14393"/>
                  </a:lnTo>
                  <a:lnTo>
                    <a:pt x="54225" y="12981"/>
                  </a:lnTo>
                  <a:lnTo>
                    <a:pt x="61550" y="11194"/>
                  </a:lnTo>
                  <a:lnTo>
                    <a:pt x="68126" y="10002"/>
                  </a:lnTo>
                  <a:lnTo>
                    <a:pt x="74204" y="9208"/>
                  </a:lnTo>
                  <a:lnTo>
                    <a:pt x="79949" y="8678"/>
                  </a:lnTo>
                  <a:lnTo>
                    <a:pt x="88013" y="8325"/>
                  </a:lnTo>
                  <a:lnTo>
                    <a:pt x="108262" y="7933"/>
                  </a:lnTo>
                  <a:lnTo>
                    <a:pt x="139416" y="7712"/>
                  </a:lnTo>
                  <a:lnTo>
                    <a:pt x="150517" y="6835"/>
                  </a:lnTo>
                  <a:lnTo>
                    <a:pt x="162151" y="5403"/>
                  </a:lnTo>
                  <a:lnTo>
                    <a:pt x="174141" y="3602"/>
                  </a:lnTo>
                  <a:lnTo>
                    <a:pt x="187214" y="2401"/>
                  </a:lnTo>
                  <a:lnTo>
                    <a:pt x="201009" y="1600"/>
                  </a:lnTo>
                  <a:lnTo>
                    <a:pt x="229037" y="711"/>
                  </a:lnTo>
                  <a:lnTo>
                    <a:pt x="283783" y="140"/>
                  </a:lnTo>
                  <a:lnTo>
                    <a:pt x="439234" y="0"/>
                  </a:lnTo>
                  <a:lnTo>
                    <a:pt x="446916" y="846"/>
                  </a:lnTo>
                  <a:lnTo>
                    <a:pt x="453731" y="2257"/>
                  </a:lnTo>
                  <a:lnTo>
                    <a:pt x="459967" y="4045"/>
                  </a:lnTo>
                  <a:lnTo>
                    <a:pt x="465818" y="5236"/>
                  </a:lnTo>
                  <a:lnTo>
                    <a:pt x="471412" y="6030"/>
                  </a:lnTo>
                  <a:lnTo>
                    <a:pt x="487680" y="76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MARTInkAnnotation148"/>
            <p:cNvSpPr/>
            <p:nvPr/>
          </p:nvSpPr>
          <p:spPr>
            <a:xfrm>
              <a:off x="1295280" y="3209040"/>
              <a:ext cx="144720" cy="1342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44781" h="134650">
                  <a:moveTo>
                    <a:pt x="0" y="29384"/>
                  </a:moveTo>
                  <a:lnTo>
                    <a:pt x="4045" y="25339"/>
                  </a:lnTo>
                  <a:lnTo>
                    <a:pt x="6084" y="24147"/>
                  </a:lnTo>
                  <a:lnTo>
                    <a:pt x="10606" y="22823"/>
                  </a:lnTo>
                  <a:lnTo>
                    <a:pt x="12997" y="21624"/>
                  </a:lnTo>
                  <a:lnTo>
                    <a:pt x="15438" y="19977"/>
                  </a:lnTo>
                  <a:lnTo>
                    <a:pt x="17912" y="18033"/>
                  </a:lnTo>
                  <a:lnTo>
                    <a:pt x="20408" y="15890"/>
                  </a:lnTo>
                  <a:lnTo>
                    <a:pt x="22919" y="13615"/>
                  </a:lnTo>
                  <a:lnTo>
                    <a:pt x="25439" y="11251"/>
                  </a:lnTo>
                  <a:lnTo>
                    <a:pt x="28813" y="9676"/>
                  </a:lnTo>
                  <a:lnTo>
                    <a:pt x="32755" y="8625"/>
                  </a:lnTo>
                  <a:lnTo>
                    <a:pt x="37077" y="7925"/>
                  </a:lnTo>
                  <a:lnTo>
                    <a:pt x="41651" y="7458"/>
                  </a:lnTo>
                  <a:lnTo>
                    <a:pt x="46394" y="7147"/>
                  </a:lnTo>
                  <a:lnTo>
                    <a:pt x="51249" y="6939"/>
                  </a:lnTo>
                  <a:lnTo>
                    <a:pt x="55333" y="5954"/>
                  </a:lnTo>
                  <a:lnTo>
                    <a:pt x="58902" y="4451"/>
                  </a:lnTo>
                  <a:lnTo>
                    <a:pt x="62128" y="2602"/>
                  </a:lnTo>
                  <a:lnTo>
                    <a:pt x="65972" y="1369"/>
                  </a:lnTo>
                  <a:lnTo>
                    <a:pt x="70228" y="548"/>
                  </a:lnTo>
                  <a:lnTo>
                    <a:pt x="74759" y="0"/>
                  </a:lnTo>
                  <a:lnTo>
                    <a:pt x="79473" y="481"/>
                  </a:lnTo>
                  <a:lnTo>
                    <a:pt x="84309" y="1649"/>
                  </a:lnTo>
                  <a:lnTo>
                    <a:pt x="89225" y="3274"/>
                  </a:lnTo>
                  <a:lnTo>
                    <a:pt x="93351" y="4357"/>
                  </a:lnTo>
                  <a:lnTo>
                    <a:pt x="96947" y="5080"/>
                  </a:lnTo>
                  <a:lnTo>
                    <a:pt x="100192" y="5561"/>
                  </a:lnTo>
                  <a:lnTo>
                    <a:pt x="102354" y="6729"/>
                  </a:lnTo>
                  <a:lnTo>
                    <a:pt x="103796" y="8354"/>
                  </a:lnTo>
                  <a:lnTo>
                    <a:pt x="104757" y="10284"/>
                  </a:lnTo>
                  <a:lnTo>
                    <a:pt x="104552" y="12417"/>
                  </a:lnTo>
                  <a:lnTo>
                    <a:pt x="103568" y="14686"/>
                  </a:lnTo>
                  <a:lnTo>
                    <a:pt x="102065" y="17046"/>
                  </a:lnTo>
                  <a:lnTo>
                    <a:pt x="101064" y="19465"/>
                  </a:lnTo>
                  <a:lnTo>
                    <a:pt x="100396" y="21925"/>
                  </a:lnTo>
                  <a:lnTo>
                    <a:pt x="99951" y="24411"/>
                  </a:lnTo>
                  <a:lnTo>
                    <a:pt x="97960" y="27762"/>
                  </a:lnTo>
                  <a:lnTo>
                    <a:pt x="94940" y="31690"/>
                  </a:lnTo>
                  <a:lnTo>
                    <a:pt x="91234" y="36001"/>
                  </a:lnTo>
                  <a:lnTo>
                    <a:pt x="87069" y="39722"/>
                  </a:lnTo>
                  <a:lnTo>
                    <a:pt x="82600" y="43049"/>
                  </a:lnTo>
                  <a:lnTo>
                    <a:pt x="77926" y="46114"/>
                  </a:lnTo>
                  <a:lnTo>
                    <a:pt x="73118" y="49851"/>
                  </a:lnTo>
                  <a:lnTo>
                    <a:pt x="68218" y="54035"/>
                  </a:lnTo>
                  <a:lnTo>
                    <a:pt x="63259" y="58518"/>
                  </a:lnTo>
                  <a:lnTo>
                    <a:pt x="57413" y="62354"/>
                  </a:lnTo>
                  <a:lnTo>
                    <a:pt x="50975" y="65757"/>
                  </a:lnTo>
                  <a:lnTo>
                    <a:pt x="44144" y="68873"/>
                  </a:lnTo>
                  <a:lnTo>
                    <a:pt x="38742" y="72643"/>
                  </a:lnTo>
                  <a:lnTo>
                    <a:pt x="34295" y="76850"/>
                  </a:lnTo>
                  <a:lnTo>
                    <a:pt x="30483" y="81348"/>
                  </a:lnTo>
                  <a:lnTo>
                    <a:pt x="26249" y="86041"/>
                  </a:lnTo>
                  <a:lnTo>
                    <a:pt x="17028" y="95769"/>
                  </a:lnTo>
                  <a:lnTo>
                    <a:pt x="13892" y="99887"/>
                  </a:lnTo>
                  <a:lnTo>
                    <a:pt x="11801" y="103479"/>
                  </a:lnTo>
                  <a:lnTo>
                    <a:pt x="10408" y="106721"/>
                  </a:lnTo>
                  <a:lnTo>
                    <a:pt x="8632" y="109729"/>
                  </a:lnTo>
                  <a:lnTo>
                    <a:pt x="6601" y="112581"/>
                  </a:lnTo>
                  <a:lnTo>
                    <a:pt x="4401" y="115329"/>
                  </a:lnTo>
                  <a:lnTo>
                    <a:pt x="3781" y="117160"/>
                  </a:lnTo>
                  <a:lnTo>
                    <a:pt x="4214" y="118382"/>
                  </a:lnTo>
                  <a:lnTo>
                    <a:pt x="6953" y="120585"/>
                  </a:lnTo>
                  <a:lnTo>
                    <a:pt x="10992" y="124387"/>
                  </a:lnTo>
                  <a:lnTo>
                    <a:pt x="14101" y="126586"/>
                  </a:lnTo>
                  <a:lnTo>
                    <a:pt x="17868" y="128899"/>
                  </a:lnTo>
                  <a:lnTo>
                    <a:pt x="22072" y="131287"/>
                  </a:lnTo>
                  <a:lnTo>
                    <a:pt x="26568" y="132880"/>
                  </a:lnTo>
                  <a:lnTo>
                    <a:pt x="31259" y="133941"/>
                  </a:lnTo>
                  <a:lnTo>
                    <a:pt x="36079" y="134649"/>
                  </a:lnTo>
                  <a:lnTo>
                    <a:pt x="41833" y="134274"/>
                  </a:lnTo>
                  <a:lnTo>
                    <a:pt x="48208" y="133177"/>
                  </a:lnTo>
                  <a:lnTo>
                    <a:pt x="80737" y="125334"/>
                  </a:lnTo>
                  <a:lnTo>
                    <a:pt x="89385" y="123831"/>
                  </a:lnTo>
                  <a:lnTo>
                    <a:pt x="97690" y="122829"/>
                  </a:lnTo>
                  <a:lnTo>
                    <a:pt x="111998" y="121715"/>
                  </a:lnTo>
                  <a:lnTo>
                    <a:pt x="121179" y="121220"/>
                  </a:lnTo>
                  <a:lnTo>
                    <a:pt x="130340" y="121000"/>
                  </a:lnTo>
                  <a:lnTo>
                    <a:pt x="144780" y="1208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MARTInkAnnotation149"/>
            <p:cNvSpPr/>
            <p:nvPr/>
          </p:nvSpPr>
          <p:spPr>
            <a:xfrm>
              <a:off x="2301120" y="3207960"/>
              <a:ext cx="236160" cy="1443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36221" h="144447">
                  <a:moveTo>
                    <a:pt x="0" y="22538"/>
                  </a:moveTo>
                  <a:lnTo>
                    <a:pt x="0" y="18493"/>
                  </a:lnTo>
                  <a:lnTo>
                    <a:pt x="847" y="17301"/>
                  </a:lnTo>
                  <a:lnTo>
                    <a:pt x="2258" y="16507"/>
                  </a:lnTo>
                  <a:lnTo>
                    <a:pt x="6561" y="15232"/>
                  </a:lnTo>
                  <a:lnTo>
                    <a:pt x="11352" y="10966"/>
                  </a:lnTo>
                  <a:lnTo>
                    <a:pt x="14341" y="9743"/>
                  </a:lnTo>
                  <a:lnTo>
                    <a:pt x="18028" y="8928"/>
                  </a:lnTo>
                  <a:lnTo>
                    <a:pt x="22178" y="8385"/>
                  </a:lnTo>
                  <a:lnTo>
                    <a:pt x="26639" y="8023"/>
                  </a:lnTo>
                  <a:lnTo>
                    <a:pt x="31306" y="7781"/>
                  </a:lnTo>
                  <a:lnTo>
                    <a:pt x="36111" y="7620"/>
                  </a:lnTo>
                  <a:lnTo>
                    <a:pt x="42701" y="6666"/>
                  </a:lnTo>
                  <a:lnTo>
                    <a:pt x="50480" y="5184"/>
                  </a:lnTo>
                  <a:lnTo>
                    <a:pt x="59054" y="3348"/>
                  </a:lnTo>
                  <a:lnTo>
                    <a:pt x="67309" y="2125"/>
                  </a:lnTo>
                  <a:lnTo>
                    <a:pt x="75353" y="1309"/>
                  </a:lnTo>
                  <a:lnTo>
                    <a:pt x="83255" y="766"/>
                  </a:lnTo>
                  <a:lnTo>
                    <a:pt x="91910" y="403"/>
                  </a:lnTo>
                  <a:lnTo>
                    <a:pt x="110558" y="0"/>
                  </a:lnTo>
                  <a:lnTo>
                    <a:pt x="119426" y="740"/>
                  </a:lnTo>
                  <a:lnTo>
                    <a:pt x="127877" y="2079"/>
                  </a:lnTo>
                  <a:lnTo>
                    <a:pt x="136052" y="3819"/>
                  </a:lnTo>
                  <a:lnTo>
                    <a:pt x="144041" y="5825"/>
                  </a:lnTo>
                  <a:lnTo>
                    <a:pt x="151907" y="8009"/>
                  </a:lnTo>
                  <a:lnTo>
                    <a:pt x="159692" y="10313"/>
                  </a:lnTo>
                  <a:lnTo>
                    <a:pt x="167421" y="11848"/>
                  </a:lnTo>
                  <a:lnTo>
                    <a:pt x="175114" y="12871"/>
                  </a:lnTo>
                  <a:lnTo>
                    <a:pt x="182783" y="13553"/>
                  </a:lnTo>
                  <a:lnTo>
                    <a:pt x="189589" y="14855"/>
                  </a:lnTo>
                  <a:lnTo>
                    <a:pt x="195819" y="16569"/>
                  </a:lnTo>
                  <a:lnTo>
                    <a:pt x="201666" y="18559"/>
                  </a:lnTo>
                  <a:lnTo>
                    <a:pt x="206411" y="20732"/>
                  </a:lnTo>
                  <a:lnTo>
                    <a:pt x="210421" y="23027"/>
                  </a:lnTo>
                  <a:lnTo>
                    <a:pt x="213940" y="25404"/>
                  </a:lnTo>
                  <a:lnTo>
                    <a:pt x="215440" y="27835"/>
                  </a:lnTo>
                  <a:lnTo>
                    <a:pt x="215594" y="30303"/>
                  </a:lnTo>
                  <a:lnTo>
                    <a:pt x="214849" y="32795"/>
                  </a:lnTo>
                  <a:lnTo>
                    <a:pt x="212659" y="35302"/>
                  </a:lnTo>
                  <a:lnTo>
                    <a:pt x="209507" y="37821"/>
                  </a:lnTo>
                  <a:lnTo>
                    <a:pt x="205711" y="40347"/>
                  </a:lnTo>
                  <a:lnTo>
                    <a:pt x="201487" y="43724"/>
                  </a:lnTo>
                  <a:lnTo>
                    <a:pt x="196978" y="47669"/>
                  </a:lnTo>
                  <a:lnTo>
                    <a:pt x="192279" y="51992"/>
                  </a:lnTo>
                  <a:lnTo>
                    <a:pt x="186606" y="55720"/>
                  </a:lnTo>
                  <a:lnTo>
                    <a:pt x="180284" y="59053"/>
                  </a:lnTo>
                  <a:lnTo>
                    <a:pt x="173530" y="62122"/>
                  </a:lnTo>
                  <a:lnTo>
                    <a:pt x="166486" y="65860"/>
                  </a:lnTo>
                  <a:lnTo>
                    <a:pt x="159251" y="70046"/>
                  </a:lnTo>
                  <a:lnTo>
                    <a:pt x="151887" y="74530"/>
                  </a:lnTo>
                  <a:lnTo>
                    <a:pt x="144438" y="78366"/>
                  </a:lnTo>
                  <a:lnTo>
                    <a:pt x="136932" y="81770"/>
                  </a:lnTo>
                  <a:lnTo>
                    <a:pt x="129388" y="84886"/>
                  </a:lnTo>
                  <a:lnTo>
                    <a:pt x="122666" y="88657"/>
                  </a:lnTo>
                  <a:lnTo>
                    <a:pt x="116491" y="92864"/>
                  </a:lnTo>
                  <a:lnTo>
                    <a:pt x="110681" y="97362"/>
                  </a:lnTo>
                  <a:lnTo>
                    <a:pt x="105960" y="101207"/>
                  </a:lnTo>
                  <a:lnTo>
                    <a:pt x="101967" y="104618"/>
                  </a:lnTo>
                  <a:lnTo>
                    <a:pt x="98458" y="107738"/>
                  </a:lnTo>
                  <a:lnTo>
                    <a:pt x="92302" y="113462"/>
                  </a:lnTo>
                  <a:lnTo>
                    <a:pt x="89475" y="116174"/>
                  </a:lnTo>
                  <a:lnTo>
                    <a:pt x="87590" y="118829"/>
                  </a:lnTo>
                  <a:lnTo>
                    <a:pt x="86333" y="121445"/>
                  </a:lnTo>
                  <a:lnTo>
                    <a:pt x="85496" y="124036"/>
                  </a:lnTo>
                  <a:lnTo>
                    <a:pt x="85784" y="126610"/>
                  </a:lnTo>
                  <a:lnTo>
                    <a:pt x="86823" y="129172"/>
                  </a:lnTo>
                  <a:lnTo>
                    <a:pt x="88362" y="131728"/>
                  </a:lnTo>
                  <a:lnTo>
                    <a:pt x="91081" y="134278"/>
                  </a:lnTo>
                  <a:lnTo>
                    <a:pt x="94588" y="136825"/>
                  </a:lnTo>
                  <a:lnTo>
                    <a:pt x="98619" y="139369"/>
                  </a:lnTo>
                  <a:lnTo>
                    <a:pt x="103846" y="141066"/>
                  </a:lnTo>
                  <a:lnTo>
                    <a:pt x="109870" y="142197"/>
                  </a:lnTo>
                  <a:lnTo>
                    <a:pt x="116427" y="142950"/>
                  </a:lnTo>
                  <a:lnTo>
                    <a:pt x="123338" y="143453"/>
                  </a:lnTo>
                  <a:lnTo>
                    <a:pt x="130485" y="143788"/>
                  </a:lnTo>
                  <a:lnTo>
                    <a:pt x="146047" y="144160"/>
                  </a:lnTo>
                  <a:lnTo>
                    <a:pt x="211533" y="144446"/>
                  </a:lnTo>
                  <a:lnTo>
                    <a:pt x="216376" y="143604"/>
                  </a:lnTo>
                  <a:lnTo>
                    <a:pt x="221297" y="142195"/>
                  </a:lnTo>
                  <a:lnTo>
                    <a:pt x="236220" y="1368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MARTInkAnnotation150"/>
            <p:cNvSpPr/>
            <p:nvPr/>
          </p:nvSpPr>
          <p:spPr>
            <a:xfrm>
              <a:off x="2903040" y="3040200"/>
              <a:ext cx="319680" cy="196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20040" h="196803">
                  <a:moveTo>
                    <a:pt x="320039" y="0"/>
                  </a:moveTo>
                  <a:lnTo>
                    <a:pt x="313479" y="0"/>
                  </a:lnTo>
                  <a:lnTo>
                    <a:pt x="310632" y="4516"/>
                  </a:lnTo>
                  <a:lnTo>
                    <a:pt x="308688" y="8091"/>
                  </a:lnTo>
                  <a:lnTo>
                    <a:pt x="306545" y="11320"/>
                  </a:lnTo>
                  <a:lnTo>
                    <a:pt x="301907" y="17167"/>
                  </a:lnTo>
                  <a:lnTo>
                    <a:pt x="297023" y="22587"/>
                  </a:lnTo>
                  <a:lnTo>
                    <a:pt x="290336" y="28665"/>
                  </a:lnTo>
                  <a:lnTo>
                    <a:pt x="284998" y="32657"/>
                  </a:lnTo>
                  <a:lnTo>
                    <a:pt x="278899" y="37011"/>
                  </a:lnTo>
                  <a:lnTo>
                    <a:pt x="273139" y="41607"/>
                  </a:lnTo>
                  <a:lnTo>
                    <a:pt x="267606" y="46365"/>
                  </a:lnTo>
                  <a:lnTo>
                    <a:pt x="262224" y="51230"/>
                  </a:lnTo>
                  <a:lnTo>
                    <a:pt x="256096" y="56167"/>
                  </a:lnTo>
                  <a:lnTo>
                    <a:pt x="249471" y="61151"/>
                  </a:lnTo>
                  <a:lnTo>
                    <a:pt x="235336" y="71205"/>
                  </a:lnTo>
                  <a:lnTo>
                    <a:pt x="220587" y="81318"/>
                  </a:lnTo>
                  <a:lnTo>
                    <a:pt x="213098" y="87232"/>
                  </a:lnTo>
                  <a:lnTo>
                    <a:pt x="205565" y="93715"/>
                  </a:lnTo>
                  <a:lnTo>
                    <a:pt x="198003" y="100577"/>
                  </a:lnTo>
                  <a:lnTo>
                    <a:pt x="189575" y="106844"/>
                  </a:lnTo>
                  <a:lnTo>
                    <a:pt x="180570" y="112716"/>
                  </a:lnTo>
                  <a:lnTo>
                    <a:pt x="171180" y="118324"/>
                  </a:lnTo>
                  <a:lnTo>
                    <a:pt x="161533" y="124603"/>
                  </a:lnTo>
                  <a:lnTo>
                    <a:pt x="151716" y="131329"/>
                  </a:lnTo>
                  <a:lnTo>
                    <a:pt x="141784" y="138352"/>
                  </a:lnTo>
                  <a:lnTo>
                    <a:pt x="131776" y="143882"/>
                  </a:lnTo>
                  <a:lnTo>
                    <a:pt x="121717" y="148414"/>
                  </a:lnTo>
                  <a:lnTo>
                    <a:pt x="111625" y="152283"/>
                  </a:lnTo>
                  <a:lnTo>
                    <a:pt x="102356" y="156555"/>
                  </a:lnTo>
                  <a:lnTo>
                    <a:pt x="93638" y="161097"/>
                  </a:lnTo>
                  <a:lnTo>
                    <a:pt x="85285" y="165818"/>
                  </a:lnTo>
                  <a:lnTo>
                    <a:pt x="78023" y="170659"/>
                  </a:lnTo>
                  <a:lnTo>
                    <a:pt x="71489" y="175579"/>
                  </a:lnTo>
                  <a:lnTo>
                    <a:pt x="65439" y="180553"/>
                  </a:lnTo>
                  <a:lnTo>
                    <a:pt x="59713" y="183868"/>
                  </a:lnTo>
                  <a:lnTo>
                    <a:pt x="54202" y="186079"/>
                  </a:lnTo>
                  <a:lnTo>
                    <a:pt x="48835" y="187553"/>
                  </a:lnTo>
                  <a:lnTo>
                    <a:pt x="43563" y="189382"/>
                  </a:lnTo>
                  <a:lnTo>
                    <a:pt x="38356" y="191448"/>
                  </a:lnTo>
                  <a:lnTo>
                    <a:pt x="28900" y="195154"/>
                  </a:lnTo>
                  <a:lnTo>
                    <a:pt x="21876" y="196802"/>
                  </a:lnTo>
                  <a:lnTo>
                    <a:pt x="18817" y="196395"/>
                  </a:lnTo>
                  <a:lnTo>
                    <a:pt x="15931" y="195276"/>
                  </a:lnTo>
                  <a:lnTo>
                    <a:pt x="10467" y="192623"/>
                  </a:lnTo>
                  <a:lnTo>
                    <a:pt x="7825" y="191915"/>
                  </a:lnTo>
                  <a:lnTo>
                    <a:pt x="0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MARTInkAnnotation151"/>
            <p:cNvSpPr/>
            <p:nvPr/>
          </p:nvSpPr>
          <p:spPr>
            <a:xfrm>
              <a:off x="2994480" y="3062880"/>
              <a:ext cx="266400" cy="182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66701" h="182881">
                  <a:moveTo>
                    <a:pt x="0" y="0"/>
                  </a:moveTo>
                  <a:lnTo>
                    <a:pt x="37077" y="0"/>
                  </a:lnTo>
                  <a:lnTo>
                    <a:pt x="41651" y="847"/>
                  </a:lnTo>
                  <a:lnTo>
                    <a:pt x="46395" y="2258"/>
                  </a:lnTo>
                  <a:lnTo>
                    <a:pt x="51250" y="4045"/>
                  </a:lnTo>
                  <a:lnTo>
                    <a:pt x="58902" y="8289"/>
                  </a:lnTo>
                  <a:lnTo>
                    <a:pt x="65972" y="13844"/>
                  </a:lnTo>
                  <a:lnTo>
                    <a:pt x="70228" y="17696"/>
                  </a:lnTo>
                  <a:lnTo>
                    <a:pt x="79472" y="26491"/>
                  </a:lnTo>
                  <a:lnTo>
                    <a:pt x="104237" y="50944"/>
                  </a:lnTo>
                  <a:lnTo>
                    <a:pt x="110131" y="55976"/>
                  </a:lnTo>
                  <a:lnTo>
                    <a:pt x="116601" y="61024"/>
                  </a:lnTo>
                  <a:lnTo>
                    <a:pt x="123454" y="66083"/>
                  </a:lnTo>
                  <a:lnTo>
                    <a:pt x="137842" y="76219"/>
                  </a:lnTo>
                  <a:lnTo>
                    <a:pt x="145235" y="81293"/>
                  </a:lnTo>
                  <a:lnTo>
                    <a:pt x="151856" y="87215"/>
                  </a:lnTo>
                  <a:lnTo>
                    <a:pt x="157965" y="93704"/>
                  </a:lnTo>
                  <a:lnTo>
                    <a:pt x="163730" y="100569"/>
                  </a:lnTo>
                  <a:lnTo>
                    <a:pt x="170960" y="106839"/>
                  </a:lnTo>
                  <a:lnTo>
                    <a:pt x="179166" y="112713"/>
                  </a:lnTo>
                  <a:lnTo>
                    <a:pt x="204640" y="129070"/>
                  </a:lnTo>
                  <a:lnTo>
                    <a:pt x="212627" y="134307"/>
                  </a:lnTo>
                  <a:lnTo>
                    <a:pt x="219645" y="140338"/>
                  </a:lnTo>
                  <a:lnTo>
                    <a:pt x="226016" y="146899"/>
                  </a:lnTo>
                  <a:lnTo>
                    <a:pt x="231958" y="153813"/>
                  </a:lnTo>
                  <a:lnTo>
                    <a:pt x="237612" y="159268"/>
                  </a:lnTo>
                  <a:lnTo>
                    <a:pt x="243075" y="163752"/>
                  </a:lnTo>
                  <a:lnTo>
                    <a:pt x="248410" y="167589"/>
                  </a:lnTo>
                  <a:lnTo>
                    <a:pt x="252813" y="170992"/>
                  </a:lnTo>
                  <a:lnTo>
                    <a:pt x="256596" y="174108"/>
                  </a:lnTo>
                  <a:lnTo>
                    <a:pt x="26670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MARTInkAnnotation152"/>
            <p:cNvSpPr/>
            <p:nvPr/>
          </p:nvSpPr>
          <p:spPr>
            <a:xfrm>
              <a:off x="3405960" y="3131640"/>
              <a:ext cx="205560" cy="75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05741" h="7621">
                  <a:moveTo>
                    <a:pt x="0" y="0"/>
                  </a:moveTo>
                  <a:lnTo>
                    <a:pt x="170225" y="0"/>
                  </a:lnTo>
                  <a:lnTo>
                    <a:pt x="178676" y="847"/>
                  </a:lnTo>
                  <a:lnTo>
                    <a:pt x="186004" y="2258"/>
                  </a:lnTo>
                  <a:lnTo>
                    <a:pt x="20574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MARTInkAnnotation153"/>
            <p:cNvSpPr/>
            <p:nvPr/>
          </p:nvSpPr>
          <p:spPr>
            <a:xfrm>
              <a:off x="3466800" y="3215520"/>
              <a:ext cx="129240" cy="75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9541" h="7621">
                  <a:moveTo>
                    <a:pt x="0" y="0"/>
                  </a:moveTo>
                  <a:lnTo>
                    <a:pt x="91899" y="0"/>
                  </a:lnTo>
                  <a:lnTo>
                    <a:pt x="98519" y="847"/>
                  </a:lnTo>
                  <a:lnTo>
                    <a:pt x="104626" y="2258"/>
                  </a:lnTo>
                  <a:lnTo>
                    <a:pt x="110391" y="4045"/>
                  </a:lnTo>
                  <a:lnTo>
                    <a:pt x="115081" y="5237"/>
                  </a:lnTo>
                  <a:lnTo>
                    <a:pt x="119054" y="6032"/>
                  </a:lnTo>
                  <a:lnTo>
                    <a:pt x="12954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SMARTInkAnnotation154"/>
            <p:cNvSpPr/>
            <p:nvPr/>
          </p:nvSpPr>
          <p:spPr>
            <a:xfrm>
              <a:off x="1158120" y="2743200"/>
              <a:ext cx="45360" cy="38844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45721" h="388621">
                  <a:moveTo>
                    <a:pt x="0" y="0"/>
                  </a:moveTo>
                  <a:lnTo>
                    <a:pt x="0" y="6561"/>
                  </a:lnTo>
                  <a:lnTo>
                    <a:pt x="847" y="7760"/>
                  </a:lnTo>
                  <a:lnTo>
                    <a:pt x="2258" y="9407"/>
                  </a:lnTo>
                  <a:lnTo>
                    <a:pt x="4045" y="11352"/>
                  </a:lnTo>
                  <a:lnTo>
                    <a:pt x="5237" y="14341"/>
                  </a:lnTo>
                  <a:lnTo>
                    <a:pt x="6561" y="22178"/>
                  </a:lnTo>
                  <a:lnTo>
                    <a:pt x="7760" y="25792"/>
                  </a:lnTo>
                  <a:lnTo>
                    <a:pt x="9407" y="29048"/>
                  </a:lnTo>
                  <a:lnTo>
                    <a:pt x="11351" y="32065"/>
                  </a:lnTo>
                  <a:lnTo>
                    <a:pt x="12648" y="35770"/>
                  </a:lnTo>
                  <a:lnTo>
                    <a:pt x="13512" y="39934"/>
                  </a:lnTo>
                  <a:lnTo>
                    <a:pt x="14472" y="49922"/>
                  </a:lnTo>
                  <a:lnTo>
                    <a:pt x="14728" y="56141"/>
                  </a:lnTo>
                  <a:lnTo>
                    <a:pt x="15012" y="69825"/>
                  </a:lnTo>
                  <a:lnTo>
                    <a:pt x="15139" y="84373"/>
                  </a:lnTo>
                  <a:lnTo>
                    <a:pt x="16019" y="91809"/>
                  </a:lnTo>
                  <a:lnTo>
                    <a:pt x="17453" y="99306"/>
                  </a:lnTo>
                  <a:lnTo>
                    <a:pt x="19255" y="106844"/>
                  </a:lnTo>
                  <a:lnTo>
                    <a:pt x="20457" y="115256"/>
                  </a:lnTo>
                  <a:lnTo>
                    <a:pt x="21258" y="124251"/>
                  </a:lnTo>
                  <a:lnTo>
                    <a:pt x="21792" y="133634"/>
                  </a:lnTo>
                  <a:lnTo>
                    <a:pt x="22385" y="153091"/>
                  </a:lnTo>
                  <a:lnTo>
                    <a:pt x="22818" y="213421"/>
                  </a:lnTo>
                  <a:lnTo>
                    <a:pt x="22852" y="254012"/>
                  </a:lnTo>
                  <a:lnTo>
                    <a:pt x="23701" y="265015"/>
                  </a:lnTo>
                  <a:lnTo>
                    <a:pt x="25114" y="276583"/>
                  </a:lnTo>
                  <a:lnTo>
                    <a:pt x="26903" y="288529"/>
                  </a:lnTo>
                  <a:lnTo>
                    <a:pt x="28942" y="299880"/>
                  </a:lnTo>
                  <a:lnTo>
                    <a:pt x="31148" y="310833"/>
                  </a:lnTo>
                  <a:lnTo>
                    <a:pt x="33465" y="321522"/>
                  </a:lnTo>
                  <a:lnTo>
                    <a:pt x="35010" y="332035"/>
                  </a:lnTo>
                  <a:lnTo>
                    <a:pt x="36040" y="342430"/>
                  </a:lnTo>
                  <a:lnTo>
                    <a:pt x="36727" y="352747"/>
                  </a:lnTo>
                  <a:lnTo>
                    <a:pt x="38031" y="361318"/>
                  </a:lnTo>
                  <a:lnTo>
                    <a:pt x="39747" y="368725"/>
                  </a:lnTo>
                  <a:lnTo>
                    <a:pt x="45720" y="388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MARTInkAnnotation155"/>
            <p:cNvSpPr/>
            <p:nvPr/>
          </p:nvSpPr>
          <p:spPr>
            <a:xfrm>
              <a:off x="1302840" y="3207960"/>
              <a:ext cx="91080" cy="2206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91441" h="220981">
                  <a:moveTo>
                    <a:pt x="0" y="0"/>
                  </a:moveTo>
                  <a:lnTo>
                    <a:pt x="0" y="6561"/>
                  </a:lnTo>
                  <a:lnTo>
                    <a:pt x="2258" y="9407"/>
                  </a:lnTo>
                  <a:lnTo>
                    <a:pt x="4045" y="11352"/>
                  </a:lnTo>
                  <a:lnTo>
                    <a:pt x="5237" y="14341"/>
                  </a:lnTo>
                  <a:lnTo>
                    <a:pt x="6031" y="18027"/>
                  </a:lnTo>
                  <a:lnTo>
                    <a:pt x="6561" y="22178"/>
                  </a:lnTo>
                  <a:lnTo>
                    <a:pt x="7760" y="25792"/>
                  </a:lnTo>
                  <a:lnTo>
                    <a:pt x="9407" y="29048"/>
                  </a:lnTo>
                  <a:lnTo>
                    <a:pt x="11352" y="32066"/>
                  </a:lnTo>
                  <a:lnTo>
                    <a:pt x="13494" y="36617"/>
                  </a:lnTo>
                  <a:lnTo>
                    <a:pt x="15769" y="42192"/>
                  </a:lnTo>
                  <a:lnTo>
                    <a:pt x="18133" y="48448"/>
                  </a:lnTo>
                  <a:lnTo>
                    <a:pt x="23017" y="62173"/>
                  </a:lnTo>
                  <a:lnTo>
                    <a:pt x="25505" y="69388"/>
                  </a:lnTo>
                  <a:lnTo>
                    <a:pt x="28857" y="77586"/>
                  </a:lnTo>
                  <a:lnTo>
                    <a:pt x="32785" y="86437"/>
                  </a:lnTo>
                  <a:lnTo>
                    <a:pt x="37097" y="95725"/>
                  </a:lnTo>
                  <a:lnTo>
                    <a:pt x="40818" y="105303"/>
                  </a:lnTo>
                  <a:lnTo>
                    <a:pt x="44145" y="115076"/>
                  </a:lnTo>
                  <a:lnTo>
                    <a:pt x="47210" y="124977"/>
                  </a:lnTo>
                  <a:lnTo>
                    <a:pt x="51793" y="134965"/>
                  </a:lnTo>
                  <a:lnTo>
                    <a:pt x="57389" y="145010"/>
                  </a:lnTo>
                  <a:lnTo>
                    <a:pt x="63659" y="155093"/>
                  </a:lnTo>
                  <a:lnTo>
                    <a:pt x="68686" y="164355"/>
                  </a:lnTo>
                  <a:lnTo>
                    <a:pt x="72884" y="173071"/>
                  </a:lnTo>
                  <a:lnTo>
                    <a:pt x="76530" y="181420"/>
                  </a:lnTo>
                  <a:lnTo>
                    <a:pt x="79806" y="189527"/>
                  </a:lnTo>
                  <a:lnTo>
                    <a:pt x="91440" y="2209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MARTInkAnnotation156"/>
            <p:cNvSpPr/>
            <p:nvPr/>
          </p:nvSpPr>
          <p:spPr>
            <a:xfrm>
              <a:off x="3695400" y="3093480"/>
              <a:ext cx="106560" cy="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06681" h="1">
                  <a:moveTo>
                    <a:pt x="0" y="0"/>
                  </a:moveTo>
                  <a:lnTo>
                    <a:pt x="1066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SMARTInkAnnotation157"/>
            <p:cNvSpPr/>
            <p:nvPr/>
          </p:nvSpPr>
          <p:spPr>
            <a:xfrm>
              <a:off x="3886560" y="3025080"/>
              <a:ext cx="197640" cy="174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97661" h="175257">
                  <a:moveTo>
                    <a:pt x="52881" y="22857"/>
                  </a:moveTo>
                  <a:lnTo>
                    <a:pt x="52881" y="18812"/>
                  </a:lnTo>
                  <a:lnTo>
                    <a:pt x="53727" y="17620"/>
                  </a:lnTo>
                  <a:lnTo>
                    <a:pt x="55137" y="16826"/>
                  </a:lnTo>
                  <a:lnTo>
                    <a:pt x="59441" y="15551"/>
                  </a:lnTo>
                  <a:lnTo>
                    <a:pt x="64545" y="13119"/>
                  </a:lnTo>
                  <a:lnTo>
                    <a:pt x="68277" y="11285"/>
                  </a:lnTo>
                  <a:lnTo>
                    <a:pt x="72458" y="10062"/>
                  </a:lnTo>
                  <a:lnTo>
                    <a:pt x="76939" y="9247"/>
                  </a:lnTo>
                  <a:lnTo>
                    <a:pt x="81619" y="8704"/>
                  </a:lnTo>
                  <a:lnTo>
                    <a:pt x="85586" y="7495"/>
                  </a:lnTo>
                  <a:lnTo>
                    <a:pt x="89078" y="5842"/>
                  </a:lnTo>
                  <a:lnTo>
                    <a:pt x="92252" y="3894"/>
                  </a:lnTo>
                  <a:lnTo>
                    <a:pt x="96061" y="2595"/>
                  </a:lnTo>
                  <a:lnTo>
                    <a:pt x="100295" y="1729"/>
                  </a:lnTo>
                  <a:lnTo>
                    <a:pt x="104810" y="1152"/>
                  </a:lnTo>
                  <a:lnTo>
                    <a:pt x="109513" y="767"/>
                  </a:lnTo>
                  <a:lnTo>
                    <a:pt x="114342" y="510"/>
                  </a:lnTo>
                  <a:lnTo>
                    <a:pt x="126971" y="149"/>
                  </a:lnTo>
                  <a:lnTo>
                    <a:pt x="146737" y="6"/>
                  </a:lnTo>
                  <a:lnTo>
                    <a:pt x="154444" y="0"/>
                  </a:lnTo>
                  <a:lnTo>
                    <a:pt x="156149" y="846"/>
                  </a:lnTo>
                  <a:lnTo>
                    <a:pt x="157286" y="2256"/>
                  </a:lnTo>
                  <a:lnTo>
                    <a:pt x="158044" y="4043"/>
                  </a:lnTo>
                  <a:lnTo>
                    <a:pt x="158886" y="8286"/>
                  </a:lnTo>
                  <a:lnTo>
                    <a:pt x="159260" y="12995"/>
                  </a:lnTo>
                  <a:lnTo>
                    <a:pt x="159428" y="17909"/>
                  </a:lnTo>
                  <a:lnTo>
                    <a:pt x="158625" y="20405"/>
                  </a:lnTo>
                  <a:lnTo>
                    <a:pt x="155476" y="25436"/>
                  </a:lnTo>
                  <a:lnTo>
                    <a:pt x="152604" y="27963"/>
                  </a:lnTo>
                  <a:lnTo>
                    <a:pt x="148996" y="30495"/>
                  </a:lnTo>
                  <a:lnTo>
                    <a:pt x="144897" y="33029"/>
                  </a:lnTo>
                  <a:lnTo>
                    <a:pt x="140472" y="36411"/>
                  </a:lnTo>
                  <a:lnTo>
                    <a:pt x="135827" y="40360"/>
                  </a:lnTo>
                  <a:lnTo>
                    <a:pt x="131039" y="44686"/>
                  </a:lnTo>
                  <a:lnTo>
                    <a:pt x="126152" y="48416"/>
                  </a:lnTo>
                  <a:lnTo>
                    <a:pt x="121202" y="51750"/>
                  </a:lnTo>
                  <a:lnTo>
                    <a:pt x="116208" y="54819"/>
                  </a:lnTo>
                  <a:lnTo>
                    <a:pt x="109492" y="58559"/>
                  </a:lnTo>
                  <a:lnTo>
                    <a:pt x="92999" y="67229"/>
                  </a:lnTo>
                  <a:lnTo>
                    <a:pt x="85553" y="71912"/>
                  </a:lnTo>
                  <a:lnTo>
                    <a:pt x="78895" y="76727"/>
                  </a:lnTo>
                  <a:lnTo>
                    <a:pt x="72763" y="81630"/>
                  </a:lnTo>
                  <a:lnTo>
                    <a:pt x="66136" y="85746"/>
                  </a:lnTo>
                  <a:lnTo>
                    <a:pt x="59178" y="89336"/>
                  </a:lnTo>
                  <a:lnTo>
                    <a:pt x="51998" y="92576"/>
                  </a:lnTo>
                  <a:lnTo>
                    <a:pt x="45519" y="96430"/>
                  </a:lnTo>
                  <a:lnTo>
                    <a:pt x="39506" y="100692"/>
                  </a:lnTo>
                  <a:lnTo>
                    <a:pt x="33804" y="105227"/>
                  </a:lnTo>
                  <a:lnTo>
                    <a:pt x="29156" y="109944"/>
                  </a:lnTo>
                  <a:lnTo>
                    <a:pt x="25211" y="114782"/>
                  </a:lnTo>
                  <a:lnTo>
                    <a:pt x="21734" y="119700"/>
                  </a:lnTo>
                  <a:lnTo>
                    <a:pt x="18569" y="123826"/>
                  </a:lnTo>
                  <a:lnTo>
                    <a:pt x="15613" y="127423"/>
                  </a:lnTo>
                  <a:lnTo>
                    <a:pt x="12796" y="130668"/>
                  </a:lnTo>
                  <a:lnTo>
                    <a:pt x="10070" y="133678"/>
                  </a:lnTo>
                  <a:lnTo>
                    <a:pt x="4784" y="139280"/>
                  </a:lnTo>
                  <a:lnTo>
                    <a:pt x="3037" y="141958"/>
                  </a:lnTo>
                  <a:lnTo>
                    <a:pt x="1094" y="147193"/>
                  </a:lnTo>
                  <a:lnTo>
                    <a:pt x="231" y="152342"/>
                  </a:lnTo>
                  <a:lnTo>
                    <a:pt x="0" y="154900"/>
                  </a:lnTo>
                  <a:lnTo>
                    <a:pt x="694" y="157452"/>
                  </a:lnTo>
                  <a:lnTo>
                    <a:pt x="3722" y="162546"/>
                  </a:lnTo>
                  <a:lnTo>
                    <a:pt x="7890" y="167632"/>
                  </a:lnTo>
                  <a:lnTo>
                    <a:pt x="10187" y="170174"/>
                  </a:lnTo>
                  <a:lnTo>
                    <a:pt x="13411" y="171868"/>
                  </a:lnTo>
                  <a:lnTo>
                    <a:pt x="17254" y="172998"/>
                  </a:lnTo>
                  <a:lnTo>
                    <a:pt x="21510" y="173751"/>
                  </a:lnTo>
                  <a:lnTo>
                    <a:pt x="26887" y="174253"/>
                  </a:lnTo>
                  <a:lnTo>
                    <a:pt x="33010" y="174588"/>
                  </a:lnTo>
                  <a:lnTo>
                    <a:pt x="45743" y="174960"/>
                  </a:lnTo>
                  <a:lnTo>
                    <a:pt x="72229" y="175198"/>
                  </a:lnTo>
                  <a:lnTo>
                    <a:pt x="140528" y="175256"/>
                  </a:lnTo>
                  <a:lnTo>
                    <a:pt x="146026" y="174410"/>
                  </a:lnTo>
                  <a:lnTo>
                    <a:pt x="151384" y="172999"/>
                  </a:lnTo>
                  <a:lnTo>
                    <a:pt x="156649" y="171212"/>
                  </a:lnTo>
                  <a:lnTo>
                    <a:pt x="161853" y="170020"/>
                  </a:lnTo>
                  <a:lnTo>
                    <a:pt x="167015" y="169226"/>
                  </a:lnTo>
                  <a:lnTo>
                    <a:pt x="172150" y="168696"/>
                  </a:lnTo>
                  <a:lnTo>
                    <a:pt x="176420" y="168343"/>
                  </a:lnTo>
                  <a:lnTo>
                    <a:pt x="180113" y="168108"/>
                  </a:lnTo>
                  <a:lnTo>
                    <a:pt x="186475" y="167846"/>
                  </a:lnTo>
                  <a:lnTo>
                    <a:pt x="197660" y="1676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SMARTInkAnnotation158"/>
            <p:cNvSpPr/>
            <p:nvPr/>
          </p:nvSpPr>
          <p:spPr>
            <a:xfrm>
              <a:off x="5554800" y="2903040"/>
              <a:ext cx="266400" cy="75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66701" h="7621">
                  <a:moveTo>
                    <a:pt x="0" y="7620"/>
                  </a:moveTo>
                  <a:lnTo>
                    <a:pt x="139856" y="7620"/>
                  </a:lnTo>
                  <a:lnTo>
                    <a:pt x="150810" y="6774"/>
                  </a:lnTo>
                  <a:lnTo>
                    <a:pt x="162348" y="5362"/>
                  </a:lnTo>
                  <a:lnTo>
                    <a:pt x="174271" y="3575"/>
                  </a:lnTo>
                  <a:lnTo>
                    <a:pt x="184761" y="2383"/>
                  </a:lnTo>
                  <a:lnTo>
                    <a:pt x="194294" y="1589"/>
                  </a:lnTo>
                  <a:lnTo>
                    <a:pt x="203190" y="1059"/>
                  </a:lnTo>
                  <a:lnTo>
                    <a:pt x="222104" y="471"/>
                  </a:ln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MARTInkAnnotation159"/>
            <p:cNvSpPr/>
            <p:nvPr/>
          </p:nvSpPr>
          <p:spPr>
            <a:xfrm>
              <a:off x="5874480" y="2765880"/>
              <a:ext cx="53280" cy="205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53341" h="205741">
                  <a:moveTo>
                    <a:pt x="53340" y="0"/>
                  </a:moveTo>
                  <a:lnTo>
                    <a:pt x="53340" y="11352"/>
                  </a:lnTo>
                  <a:lnTo>
                    <a:pt x="52493" y="13494"/>
                  </a:lnTo>
                  <a:lnTo>
                    <a:pt x="51082" y="15769"/>
                  </a:lnTo>
                  <a:lnTo>
                    <a:pt x="49295" y="18133"/>
                  </a:lnTo>
                  <a:lnTo>
                    <a:pt x="48103" y="20555"/>
                  </a:lnTo>
                  <a:lnTo>
                    <a:pt x="46779" y="25504"/>
                  </a:lnTo>
                  <a:lnTo>
                    <a:pt x="46191" y="30526"/>
                  </a:lnTo>
                  <a:lnTo>
                    <a:pt x="46034" y="33051"/>
                  </a:lnTo>
                  <a:lnTo>
                    <a:pt x="45083" y="35581"/>
                  </a:lnTo>
                  <a:lnTo>
                    <a:pt x="43602" y="38114"/>
                  </a:lnTo>
                  <a:lnTo>
                    <a:pt x="41768" y="40649"/>
                  </a:lnTo>
                  <a:lnTo>
                    <a:pt x="39699" y="44033"/>
                  </a:lnTo>
                  <a:lnTo>
                    <a:pt x="37473" y="47982"/>
                  </a:lnTo>
                  <a:lnTo>
                    <a:pt x="35142" y="52308"/>
                  </a:lnTo>
                  <a:lnTo>
                    <a:pt x="33588" y="56885"/>
                  </a:lnTo>
                  <a:lnTo>
                    <a:pt x="32552" y="61630"/>
                  </a:lnTo>
                  <a:lnTo>
                    <a:pt x="31862" y="66487"/>
                  </a:lnTo>
                  <a:lnTo>
                    <a:pt x="30555" y="71418"/>
                  </a:lnTo>
                  <a:lnTo>
                    <a:pt x="28836" y="76399"/>
                  </a:lnTo>
                  <a:lnTo>
                    <a:pt x="26845" y="81413"/>
                  </a:lnTo>
                  <a:lnTo>
                    <a:pt x="24670" y="86448"/>
                  </a:lnTo>
                  <a:lnTo>
                    <a:pt x="19996" y="96559"/>
                  </a:lnTo>
                  <a:lnTo>
                    <a:pt x="18411" y="101626"/>
                  </a:lnTo>
                  <a:lnTo>
                    <a:pt x="17353" y="106698"/>
                  </a:lnTo>
                  <a:lnTo>
                    <a:pt x="16649" y="111772"/>
                  </a:lnTo>
                  <a:lnTo>
                    <a:pt x="15333" y="116848"/>
                  </a:lnTo>
                  <a:lnTo>
                    <a:pt x="13609" y="121925"/>
                  </a:lnTo>
                  <a:lnTo>
                    <a:pt x="11613" y="127003"/>
                  </a:lnTo>
                  <a:lnTo>
                    <a:pt x="10282" y="132929"/>
                  </a:lnTo>
                  <a:lnTo>
                    <a:pt x="9394" y="139420"/>
                  </a:lnTo>
                  <a:lnTo>
                    <a:pt x="8803" y="146286"/>
                  </a:lnTo>
                  <a:lnTo>
                    <a:pt x="7562" y="152558"/>
                  </a:lnTo>
                  <a:lnTo>
                    <a:pt x="5888" y="158432"/>
                  </a:lnTo>
                  <a:lnTo>
                    <a:pt x="3926" y="164041"/>
                  </a:lnTo>
                  <a:lnTo>
                    <a:pt x="2617" y="168627"/>
                  </a:lnTo>
                  <a:lnTo>
                    <a:pt x="1745" y="172532"/>
                  </a:lnTo>
                  <a:lnTo>
                    <a:pt x="1164" y="175981"/>
                  </a:lnTo>
                  <a:lnTo>
                    <a:pt x="517" y="182072"/>
                  </a:lnTo>
                  <a:lnTo>
                    <a:pt x="230" y="187601"/>
                  </a:lnTo>
                  <a:lnTo>
                    <a:pt x="102" y="192881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MARTInkAnnotation160"/>
            <p:cNvSpPr/>
            <p:nvPr/>
          </p:nvSpPr>
          <p:spPr>
            <a:xfrm>
              <a:off x="6015600" y="2796480"/>
              <a:ext cx="224640" cy="1749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24783" h="175261">
                  <a:moveTo>
                    <a:pt x="87622" y="0"/>
                  </a:moveTo>
                  <a:lnTo>
                    <a:pt x="92013" y="0"/>
                  </a:lnTo>
                  <a:lnTo>
                    <a:pt x="90138" y="0"/>
                  </a:lnTo>
                  <a:lnTo>
                    <a:pt x="89299" y="847"/>
                  </a:lnTo>
                  <a:lnTo>
                    <a:pt x="88740" y="2258"/>
                  </a:lnTo>
                  <a:lnTo>
                    <a:pt x="88367" y="4045"/>
                  </a:lnTo>
                  <a:lnTo>
                    <a:pt x="85695" y="8289"/>
                  </a:lnTo>
                  <a:lnTo>
                    <a:pt x="83798" y="10606"/>
                  </a:lnTo>
                  <a:lnTo>
                    <a:pt x="81686" y="14691"/>
                  </a:lnTo>
                  <a:lnTo>
                    <a:pt x="79431" y="19954"/>
                  </a:lnTo>
                  <a:lnTo>
                    <a:pt x="77082" y="26002"/>
                  </a:lnTo>
                  <a:lnTo>
                    <a:pt x="73822" y="31728"/>
                  </a:lnTo>
                  <a:lnTo>
                    <a:pt x="69955" y="37239"/>
                  </a:lnTo>
                  <a:lnTo>
                    <a:pt x="65684" y="42606"/>
                  </a:lnTo>
                  <a:lnTo>
                    <a:pt x="61990" y="48724"/>
                  </a:lnTo>
                  <a:lnTo>
                    <a:pt x="58680" y="55343"/>
                  </a:lnTo>
                  <a:lnTo>
                    <a:pt x="55628" y="62295"/>
                  </a:lnTo>
                  <a:lnTo>
                    <a:pt x="51899" y="68623"/>
                  </a:lnTo>
                  <a:lnTo>
                    <a:pt x="47721" y="74536"/>
                  </a:lnTo>
                  <a:lnTo>
                    <a:pt x="43241" y="80171"/>
                  </a:lnTo>
                  <a:lnTo>
                    <a:pt x="38562" y="86467"/>
                  </a:lnTo>
                  <a:lnTo>
                    <a:pt x="28846" y="100236"/>
                  </a:lnTo>
                  <a:lnTo>
                    <a:pt x="23885" y="106618"/>
                  </a:lnTo>
                  <a:lnTo>
                    <a:pt x="18884" y="112565"/>
                  </a:lnTo>
                  <a:lnTo>
                    <a:pt x="13857" y="118224"/>
                  </a:lnTo>
                  <a:lnTo>
                    <a:pt x="10505" y="123689"/>
                  </a:lnTo>
                  <a:lnTo>
                    <a:pt x="8271" y="129026"/>
                  </a:lnTo>
                  <a:lnTo>
                    <a:pt x="6781" y="134278"/>
                  </a:lnTo>
                  <a:lnTo>
                    <a:pt x="4942" y="139472"/>
                  </a:lnTo>
                  <a:lnTo>
                    <a:pt x="2869" y="144628"/>
                  </a:lnTo>
                  <a:lnTo>
                    <a:pt x="640" y="149759"/>
                  </a:lnTo>
                  <a:lnTo>
                    <a:pt x="0" y="154026"/>
                  </a:lnTo>
                  <a:lnTo>
                    <a:pt x="422" y="157717"/>
                  </a:lnTo>
                  <a:lnTo>
                    <a:pt x="1549" y="161025"/>
                  </a:lnTo>
                  <a:lnTo>
                    <a:pt x="3147" y="163230"/>
                  </a:lnTo>
                  <a:lnTo>
                    <a:pt x="5058" y="164700"/>
                  </a:lnTo>
                  <a:lnTo>
                    <a:pt x="7179" y="165680"/>
                  </a:lnTo>
                  <a:lnTo>
                    <a:pt x="11795" y="166769"/>
                  </a:lnTo>
                  <a:lnTo>
                    <a:pt x="18361" y="167253"/>
                  </a:lnTo>
                  <a:lnTo>
                    <a:pt x="29746" y="167468"/>
                  </a:lnTo>
                  <a:lnTo>
                    <a:pt x="35491" y="165832"/>
                  </a:lnTo>
                  <a:lnTo>
                    <a:pt x="41014" y="163048"/>
                  </a:lnTo>
                  <a:lnTo>
                    <a:pt x="46391" y="159499"/>
                  </a:lnTo>
                  <a:lnTo>
                    <a:pt x="52514" y="156286"/>
                  </a:lnTo>
                  <a:lnTo>
                    <a:pt x="59137" y="153297"/>
                  </a:lnTo>
                  <a:lnTo>
                    <a:pt x="66092" y="150458"/>
                  </a:lnTo>
                  <a:lnTo>
                    <a:pt x="73269" y="146872"/>
                  </a:lnTo>
                  <a:lnTo>
                    <a:pt x="80593" y="142788"/>
                  </a:lnTo>
                  <a:lnTo>
                    <a:pt x="88016" y="138372"/>
                  </a:lnTo>
                  <a:lnTo>
                    <a:pt x="103037" y="128950"/>
                  </a:lnTo>
                  <a:lnTo>
                    <a:pt x="110599" y="124067"/>
                  </a:lnTo>
                  <a:lnTo>
                    <a:pt x="116487" y="119965"/>
                  </a:lnTo>
                  <a:lnTo>
                    <a:pt x="121258" y="116383"/>
                  </a:lnTo>
                  <a:lnTo>
                    <a:pt x="125286" y="113149"/>
                  </a:lnTo>
                  <a:lnTo>
                    <a:pt x="128818" y="110146"/>
                  </a:lnTo>
                  <a:lnTo>
                    <a:pt x="132020" y="107297"/>
                  </a:lnTo>
                  <a:lnTo>
                    <a:pt x="137834" y="101874"/>
                  </a:lnTo>
                  <a:lnTo>
                    <a:pt x="148113" y="91897"/>
                  </a:lnTo>
                  <a:lnTo>
                    <a:pt x="146116" y="91643"/>
                  </a:lnTo>
                  <a:lnTo>
                    <a:pt x="144398" y="91576"/>
                  </a:lnTo>
                  <a:lnTo>
                    <a:pt x="143253" y="92377"/>
                  </a:lnTo>
                  <a:lnTo>
                    <a:pt x="142489" y="93758"/>
                  </a:lnTo>
                  <a:lnTo>
                    <a:pt x="141264" y="98013"/>
                  </a:lnTo>
                  <a:lnTo>
                    <a:pt x="138838" y="103110"/>
                  </a:lnTo>
                  <a:lnTo>
                    <a:pt x="137006" y="106840"/>
                  </a:lnTo>
                  <a:lnTo>
                    <a:pt x="134939" y="110173"/>
                  </a:lnTo>
                  <a:lnTo>
                    <a:pt x="132713" y="113243"/>
                  </a:lnTo>
                  <a:lnTo>
                    <a:pt x="130383" y="116135"/>
                  </a:lnTo>
                  <a:lnTo>
                    <a:pt x="129676" y="118910"/>
                  </a:lnTo>
                  <a:lnTo>
                    <a:pt x="130051" y="121606"/>
                  </a:lnTo>
                  <a:lnTo>
                    <a:pt x="131148" y="124251"/>
                  </a:lnTo>
                  <a:lnTo>
                    <a:pt x="131879" y="127707"/>
                  </a:lnTo>
                  <a:lnTo>
                    <a:pt x="132367" y="131705"/>
                  </a:lnTo>
                  <a:lnTo>
                    <a:pt x="132693" y="136064"/>
                  </a:lnTo>
                  <a:lnTo>
                    <a:pt x="134602" y="139815"/>
                  </a:lnTo>
                  <a:lnTo>
                    <a:pt x="137569" y="143164"/>
                  </a:lnTo>
                  <a:lnTo>
                    <a:pt x="141240" y="146243"/>
                  </a:lnTo>
                  <a:lnTo>
                    <a:pt x="147074" y="149142"/>
                  </a:lnTo>
                  <a:lnTo>
                    <a:pt x="154350" y="151921"/>
                  </a:lnTo>
                  <a:lnTo>
                    <a:pt x="224782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MARTInkAnnotation161"/>
            <p:cNvSpPr/>
            <p:nvPr/>
          </p:nvSpPr>
          <p:spPr>
            <a:xfrm>
              <a:off x="6987240" y="263628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6563" y="15240"/>
                  </a:lnTo>
                  <a:lnTo>
                    <a:pt x="7761" y="14393"/>
                  </a:lnTo>
                  <a:lnTo>
                    <a:pt x="9407" y="12982"/>
                  </a:lnTo>
                  <a:lnTo>
                    <a:pt x="11351" y="11195"/>
                  </a:lnTo>
                  <a:lnTo>
                    <a:pt x="15188" y="10003"/>
                  </a:lnTo>
                  <a:lnTo>
                    <a:pt x="20286" y="9209"/>
                  </a:lnTo>
                  <a:lnTo>
                    <a:pt x="26224" y="8679"/>
                  </a:lnTo>
                  <a:lnTo>
                    <a:pt x="32724" y="8326"/>
                  </a:lnTo>
                  <a:lnTo>
                    <a:pt x="46717" y="7934"/>
                  </a:lnTo>
                  <a:lnTo>
                    <a:pt x="102133" y="7648"/>
                  </a:lnTo>
                  <a:lnTo>
                    <a:pt x="111270" y="6792"/>
                  </a:lnTo>
                  <a:lnTo>
                    <a:pt x="119900" y="5375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MARTInkAnnotation162"/>
            <p:cNvSpPr/>
            <p:nvPr/>
          </p:nvSpPr>
          <p:spPr>
            <a:xfrm>
              <a:off x="7261560" y="2575440"/>
              <a:ext cx="52920" cy="174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52988" h="175261">
                  <a:moveTo>
                    <a:pt x="52987" y="0"/>
                  </a:moveTo>
                  <a:lnTo>
                    <a:pt x="52987" y="7307"/>
                  </a:lnTo>
                  <a:lnTo>
                    <a:pt x="50729" y="11996"/>
                  </a:lnTo>
                  <a:lnTo>
                    <a:pt x="48942" y="15618"/>
                  </a:lnTo>
                  <a:lnTo>
                    <a:pt x="46904" y="18879"/>
                  </a:lnTo>
                  <a:lnTo>
                    <a:pt x="44698" y="21899"/>
                  </a:lnTo>
                  <a:lnTo>
                    <a:pt x="42381" y="24759"/>
                  </a:lnTo>
                  <a:lnTo>
                    <a:pt x="40837" y="28360"/>
                  </a:lnTo>
                  <a:lnTo>
                    <a:pt x="39806" y="32453"/>
                  </a:lnTo>
                  <a:lnTo>
                    <a:pt x="39120" y="36876"/>
                  </a:lnTo>
                  <a:lnTo>
                    <a:pt x="37816" y="42364"/>
                  </a:lnTo>
                  <a:lnTo>
                    <a:pt x="36099" y="48563"/>
                  </a:lnTo>
                  <a:lnTo>
                    <a:pt x="34108" y="55235"/>
                  </a:lnTo>
                  <a:lnTo>
                    <a:pt x="31935" y="61377"/>
                  </a:lnTo>
                  <a:lnTo>
                    <a:pt x="29639" y="67165"/>
                  </a:lnTo>
                  <a:lnTo>
                    <a:pt x="27261" y="72716"/>
                  </a:lnTo>
                  <a:lnTo>
                    <a:pt x="24830" y="78958"/>
                  </a:lnTo>
                  <a:lnTo>
                    <a:pt x="19871" y="92666"/>
                  </a:lnTo>
                  <a:lnTo>
                    <a:pt x="17364" y="99031"/>
                  </a:lnTo>
                  <a:lnTo>
                    <a:pt x="14844" y="104967"/>
                  </a:lnTo>
                  <a:lnTo>
                    <a:pt x="12319" y="110618"/>
                  </a:lnTo>
                  <a:lnTo>
                    <a:pt x="10635" y="116079"/>
                  </a:lnTo>
                  <a:lnTo>
                    <a:pt x="9511" y="121413"/>
                  </a:lnTo>
                  <a:lnTo>
                    <a:pt x="8764" y="126662"/>
                  </a:lnTo>
                  <a:lnTo>
                    <a:pt x="7418" y="131855"/>
                  </a:lnTo>
                  <a:lnTo>
                    <a:pt x="5674" y="137010"/>
                  </a:lnTo>
                  <a:lnTo>
                    <a:pt x="3665" y="142140"/>
                  </a:lnTo>
                  <a:lnTo>
                    <a:pt x="2326" y="146407"/>
                  </a:lnTo>
                  <a:lnTo>
                    <a:pt x="1433" y="150098"/>
                  </a:lnTo>
                  <a:lnTo>
                    <a:pt x="837" y="153405"/>
                  </a:lnTo>
                  <a:lnTo>
                    <a:pt x="441" y="156457"/>
                  </a:lnTo>
                  <a:lnTo>
                    <a:pt x="176" y="159338"/>
                  </a:lnTo>
                  <a:lnTo>
                    <a:pt x="0" y="162105"/>
                  </a:lnTo>
                  <a:lnTo>
                    <a:pt x="729" y="164797"/>
                  </a:lnTo>
                  <a:lnTo>
                    <a:pt x="2062" y="167438"/>
                  </a:lnTo>
                  <a:lnTo>
                    <a:pt x="7267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SMARTInkAnnotation163"/>
            <p:cNvSpPr/>
            <p:nvPr/>
          </p:nvSpPr>
          <p:spPr>
            <a:xfrm>
              <a:off x="7400520" y="2583000"/>
              <a:ext cx="186840" cy="2037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86884" h="204095">
                  <a:moveTo>
                    <a:pt x="66733" y="0"/>
                  </a:moveTo>
                  <a:lnTo>
                    <a:pt x="56127" y="10606"/>
                  </a:lnTo>
                  <a:lnTo>
                    <a:pt x="53736" y="13844"/>
                  </a:lnTo>
                  <a:lnTo>
                    <a:pt x="51295" y="17696"/>
                  </a:lnTo>
                  <a:lnTo>
                    <a:pt x="48821" y="21957"/>
                  </a:lnTo>
                  <a:lnTo>
                    <a:pt x="41556" y="33466"/>
                  </a:lnTo>
                  <a:lnTo>
                    <a:pt x="37249" y="40090"/>
                  </a:lnTo>
                  <a:lnTo>
                    <a:pt x="33530" y="47047"/>
                  </a:lnTo>
                  <a:lnTo>
                    <a:pt x="30204" y="54225"/>
                  </a:lnTo>
                  <a:lnTo>
                    <a:pt x="27140" y="61550"/>
                  </a:lnTo>
                  <a:lnTo>
                    <a:pt x="23405" y="68973"/>
                  </a:lnTo>
                  <a:lnTo>
                    <a:pt x="19221" y="76462"/>
                  </a:lnTo>
                  <a:lnTo>
                    <a:pt x="14738" y="83995"/>
                  </a:lnTo>
                  <a:lnTo>
                    <a:pt x="10903" y="91557"/>
                  </a:lnTo>
                  <a:lnTo>
                    <a:pt x="7499" y="99138"/>
                  </a:lnTo>
                  <a:lnTo>
                    <a:pt x="4385" y="106732"/>
                  </a:lnTo>
                  <a:lnTo>
                    <a:pt x="2307" y="113488"/>
                  </a:lnTo>
                  <a:lnTo>
                    <a:pt x="922" y="119685"/>
                  </a:lnTo>
                  <a:lnTo>
                    <a:pt x="0" y="125510"/>
                  </a:lnTo>
                  <a:lnTo>
                    <a:pt x="230" y="131934"/>
                  </a:lnTo>
                  <a:lnTo>
                    <a:pt x="1232" y="138756"/>
                  </a:lnTo>
                  <a:lnTo>
                    <a:pt x="2745" y="145844"/>
                  </a:lnTo>
                  <a:lnTo>
                    <a:pt x="4601" y="152263"/>
                  </a:lnTo>
                  <a:lnTo>
                    <a:pt x="6685" y="158235"/>
                  </a:lnTo>
                  <a:lnTo>
                    <a:pt x="8921" y="163910"/>
                  </a:lnTo>
                  <a:lnTo>
                    <a:pt x="12953" y="169387"/>
                  </a:lnTo>
                  <a:lnTo>
                    <a:pt x="18179" y="174731"/>
                  </a:lnTo>
                  <a:lnTo>
                    <a:pt x="24204" y="179988"/>
                  </a:lnTo>
                  <a:lnTo>
                    <a:pt x="29913" y="184338"/>
                  </a:lnTo>
                  <a:lnTo>
                    <a:pt x="35413" y="188086"/>
                  </a:lnTo>
                  <a:lnTo>
                    <a:pt x="40773" y="191431"/>
                  </a:lnTo>
                  <a:lnTo>
                    <a:pt x="47733" y="194507"/>
                  </a:lnTo>
                  <a:lnTo>
                    <a:pt x="55760" y="197405"/>
                  </a:lnTo>
                  <a:lnTo>
                    <a:pt x="64497" y="200183"/>
                  </a:lnTo>
                  <a:lnTo>
                    <a:pt x="72863" y="202035"/>
                  </a:lnTo>
                  <a:lnTo>
                    <a:pt x="80979" y="203271"/>
                  </a:lnTo>
                  <a:lnTo>
                    <a:pt x="88931" y="204094"/>
                  </a:lnTo>
                  <a:lnTo>
                    <a:pt x="96771" y="202949"/>
                  </a:lnTo>
                  <a:lnTo>
                    <a:pt x="104539" y="200493"/>
                  </a:lnTo>
                  <a:lnTo>
                    <a:pt x="112257" y="197162"/>
                  </a:lnTo>
                  <a:lnTo>
                    <a:pt x="119942" y="193248"/>
                  </a:lnTo>
                  <a:lnTo>
                    <a:pt x="127607" y="188946"/>
                  </a:lnTo>
                  <a:lnTo>
                    <a:pt x="135255" y="184384"/>
                  </a:lnTo>
                  <a:lnTo>
                    <a:pt x="150527" y="174800"/>
                  </a:lnTo>
                  <a:lnTo>
                    <a:pt x="158156" y="169873"/>
                  </a:lnTo>
                  <a:lnTo>
                    <a:pt x="164088" y="164049"/>
                  </a:lnTo>
                  <a:lnTo>
                    <a:pt x="168889" y="157626"/>
                  </a:lnTo>
                  <a:lnTo>
                    <a:pt x="172937" y="150804"/>
                  </a:lnTo>
                  <a:lnTo>
                    <a:pt x="176483" y="144563"/>
                  </a:lnTo>
                  <a:lnTo>
                    <a:pt x="182679" y="133112"/>
                  </a:lnTo>
                  <a:lnTo>
                    <a:pt x="184671" y="127688"/>
                  </a:lnTo>
                  <a:lnTo>
                    <a:pt x="185999" y="122379"/>
                  </a:lnTo>
                  <a:lnTo>
                    <a:pt x="186883" y="117146"/>
                  </a:lnTo>
                  <a:lnTo>
                    <a:pt x="186626" y="112811"/>
                  </a:lnTo>
                  <a:lnTo>
                    <a:pt x="185609" y="109074"/>
                  </a:lnTo>
                  <a:lnTo>
                    <a:pt x="184083" y="105736"/>
                  </a:lnTo>
                  <a:lnTo>
                    <a:pt x="180130" y="99769"/>
                  </a:lnTo>
                  <a:lnTo>
                    <a:pt x="177892" y="96993"/>
                  </a:lnTo>
                  <a:lnTo>
                    <a:pt x="175553" y="95142"/>
                  </a:lnTo>
                  <a:lnTo>
                    <a:pt x="173146" y="93908"/>
                  </a:lnTo>
                  <a:lnTo>
                    <a:pt x="170695" y="93085"/>
                  </a:lnTo>
                  <a:lnTo>
                    <a:pt x="167368" y="92537"/>
                  </a:lnTo>
                  <a:lnTo>
                    <a:pt x="163457" y="92171"/>
                  </a:lnTo>
                  <a:lnTo>
                    <a:pt x="159155" y="91928"/>
                  </a:lnTo>
                  <a:lnTo>
                    <a:pt x="154594" y="92612"/>
                  </a:lnTo>
                  <a:lnTo>
                    <a:pt x="149861" y="93915"/>
                  </a:lnTo>
                  <a:lnTo>
                    <a:pt x="145012" y="95630"/>
                  </a:lnTo>
                  <a:lnTo>
                    <a:pt x="140932" y="97620"/>
                  </a:lnTo>
                  <a:lnTo>
                    <a:pt x="137366" y="99793"/>
                  </a:lnTo>
                  <a:lnTo>
                    <a:pt x="134142" y="102089"/>
                  </a:lnTo>
                  <a:lnTo>
                    <a:pt x="131146" y="106159"/>
                  </a:lnTo>
                  <a:lnTo>
                    <a:pt x="128301" y="111413"/>
                  </a:lnTo>
                  <a:lnTo>
                    <a:pt x="125558" y="117455"/>
                  </a:lnTo>
                  <a:lnTo>
                    <a:pt x="123730" y="123177"/>
                  </a:lnTo>
                  <a:lnTo>
                    <a:pt x="122511" y="128685"/>
                  </a:lnTo>
                  <a:lnTo>
                    <a:pt x="121699" y="134050"/>
                  </a:lnTo>
                  <a:lnTo>
                    <a:pt x="121157" y="140167"/>
                  </a:lnTo>
                  <a:lnTo>
                    <a:pt x="120796" y="146784"/>
                  </a:lnTo>
                  <a:lnTo>
                    <a:pt x="120555" y="153736"/>
                  </a:lnTo>
                  <a:lnTo>
                    <a:pt x="121241" y="159218"/>
                  </a:lnTo>
                  <a:lnTo>
                    <a:pt x="122545" y="163719"/>
                  </a:lnTo>
                  <a:lnTo>
                    <a:pt x="124261" y="167566"/>
                  </a:lnTo>
                  <a:lnTo>
                    <a:pt x="125405" y="171824"/>
                  </a:lnTo>
                  <a:lnTo>
                    <a:pt x="126167" y="176356"/>
                  </a:lnTo>
                  <a:lnTo>
                    <a:pt x="127693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SMARTInkAnnotation164"/>
            <p:cNvSpPr/>
            <p:nvPr/>
          </p:nvSpPr>
          <p:spPr>
            <a:xfrm>
              <a:off x="5478480" y="3070800"/>
              <a:ext cx="68400" cy="1598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8581" h="160021">
                  <a:moveTo>
                    <a:pt x="68580" y="0"/>
                  </a:moveTo>
                  <a:lnTo>
                    <a:pt x="64535" y="0"/>
                  </a:lnTo>
                  <a:lnTo>
                    <a:pt x="63343" y="847"/>
                  </a:lnTo>
                  <a:lnTo>
                    <a:pt x="62549" y="2258"/>
                  </a:lnTo>
                  <a:lnTo>
                    <a:pt x="61666" y="6084"/>
                  </a:lnTo>
                  <a:lnTo>
                    <a:pt x="61274" y="10606"/>
                  </a:lnTo>
                  <a:lnTo>
                    <a:pt x="60323" y="13844"/>
                  </a:lnTo>
                  <a:lnTo>
                    <a:pt x="58842" y="17696"/>
                  </a:lnTo>
                  <a:lnTo>
                    <a:pt x="57008" y="21957"/>
                  </a:lnTo>
                  <a:lnTo>
                    <a:pt x="52713" y="31208"/>
                  </a:lnTo>
                  <a:lnTo>
                    <a:pt x="35523" y="66082"/>
                  </a:lnTo>
                  <a:lnTo>
                    <a:pt x="32995" y="71995"/>
                  </a:lnTo>
                  <a:lnTo>
                    <a:pt x="30464" y="78477"/>
                  </a:lnTo>
                  <a:lnTo>
                    <a:pt x="27929" y="85338"/>
                  </a:lnTo>
                  <a:lnTo>
                    <a:pt x="25393" y="91605"/>
                  </a:lnTo>
                  <a:lnTo>
                    <a:pt x="22855" y="97477"/>
                  </a:lnTo>
                  <a:lnTo>
                    <a:pt x="17778" y="108516"/>
                  </a:lnTo>
                  <a:lnTo>
                    <a:pt x="7620" y="129401"/>
                  </a:lnTo>
                  <a:lnTo>
                    <a:pt x="5079" y="134527"/>
                  </a:lnTo>
                  <a:lnTo>
                    <a:pt x="3387" y="138791"/>
                  </a:lnTo>
                  <a:lnTo>
                    <a:pt x="2258" y="142481"/>
                  </a:lnTo>
                  <a:lnTo>
                    <a:pt x="1505" y="145787"/>
                  </a:lnTo>
                  <a:lnTo>
                    <a:pt x="1003" y="148838"/>
                  </a:lnTo>
                  <a:lnTo>
                    <a:pt x="669" y="151719"/>
                  </a:lnTo>
                  <a:lnTo>
                    <a:pt x="0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SMARTInkAnnotation165"/>
            <p:cNvSpPr/>
            <p:nvPr/>
          </p:nvSpPr>
          <p:spPr>
            <a:xfrm>
              <a:off x="5509080" y="3047760"/>
              <a:ext cx="190080" cy="2131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90365" h="213361">
                  <a:moveTo>
                    <a:pt x="121784" y="0"/>
                  </a:moveTo>
                  <a:lnTo>
                    <a:pt x="125829" y="0"/>
                  </a:lnTo>
                  <a:lnTo>
                    <a:pt x="127021" y="847"/>
                  </a:lnTo>
                  <a:lnTo>
                    <a:pt x="127816" y="2258"/>
                  </a:lnTo>
                  <a:lnTo>
                    <a:pt x="128345" y="4045"/>
                  </a:lnTo>
                  <a:lnTo>
                    <a:pt x="127851" y="5237"/>
                  </a:lnTo>
                  <a:lnTo>
                    <a:pt x="126675" y="6031"/>
                  </a:lnTo>
                  <a:lnTo>
                    <a:pt x="122751" y="7306"/>
                  </a:lnTo>
                  <a:lnTo>
                    <a:pt x="118026" y="11573"/>
                  </a:lnTo>
                  <a:lnTo>
                    <a:pt x="113622" y="18126"/>
                  </a:lnTo>
                  <a:lnTo>
                    <a:pt x="111263" y="22244"/>
                  </a:lnTo>
                  <a:lnTo>
                    <a:pt x="108843" y="25836"/>
                  </a:lnTo>
                  <a:lnTo>
                    <a:pt x="103897" y="32085"/>
                  </a:lnTo>
                  <a:lnTo>
                    <a:pt x="101393" y="35783"/>
                  </a:lnTo>
                  <a:lnTo>
                    <a:pt x="98876" y="39942"/>
                  </a:lnTo>
                  <a:lnTo>
                    <a:pt x="96353" y="44408"/>
                  </a:lnTo>
                  <a:lnTo>
                    <a:pt x="92976" y="49925"/>
                  </a:lnTo>
                  <a:lnTo>
                    <a:pt x="84710" y="62829"/>
                  </a:lnTo>
                  <a:lnTo>
                    <a:pt x="79288" y="68979"/>
                  </a:lnTo>
                  <a:lnTo>
                    <a:pt x="73134" y="74773"/>
                  </a:lnTo>
                  <a:lnTo>
                    <a:pt x="66490" y="80329"/>
                  </a:lnTo>
                  <a:lnTo>
                    <a:pt x="60369" y="84879"/>
                  </a:lnTo>
                  <a:lnTo>
                    <a:pt x="54594" y="88760"/>
                  </a:lnTo>
                  <a:lnTo>
                    <a:pt x="49050" y="92193"/>
                  </a:lnTo>
                  <a:lnTo>
                    <a:pt x="43661" y="96175"/>
                  </a:lnTo>
                  <a:lnTo>
                    <a:pt x="38376" y="100524"/>
                  </a:lnTo>
                  <a:lnTo>
                    <a:pt x="28834" y="109024"/>
                  </a:lnTo>
                  <a:lnTo>
                    <a:pt x="21771" y="115624"/>
                  </a:lnTo>
                  <a:lnTo>
                    <a:pt x="13034" y="124100"/>
                  </a:lnTo>
                  <a:lnTo>
                    <a:pt x="10338" y="125913"/>
                  </a:lnTo>
                  <a:lnTo>
                    <a:pt x="5084" y="127928"/>
                  </a:lnTo>
                  <a:lnTo>
                    <a:pt x="3343" y="129312"/>
                  </a:lnTo>
                  <a:lnTo>
                    <a:pt x="2184" y="131082"/>
                  </a:lnTo>
                  <a:lnTo>
                    <a:pt x="322" y="135960"/>
                  </a:lnTo>
                  <a:lnTo>
                    <a:pt x="170" y="135513"/>
                  </a:lnTo>
                  <a:lnTo>
                    <a:pt x="0" y="132759"/>
                  </a:lnTo>
                  <a:lnTo>
                    <a:pt x="1649" y="131686"/>
                  </a:lnTo>
                  <a:lnTo>
                    <a:pt x="4440" y="130971"/>
                  </a:lnTo>
                  <a:lnTo>
                    <a:pt x="7995" y="130494"/>
                  </a:lnTo>
                  <a:lnTo>
                    <a:pt x="11211" y="129329"/>
                  </a:lnTo>
                  <a:lnTo>
                    <a:pt x="17043" y="125777"/>
                  </a:lnTo>
                  <a:lnTo>
                    <a:pt x="20630" y="123645"/>
                  </a:lnTo>
                  <a:lnTo>
                    <a:pt x="24715" y="121377"/>
                  </a:lnTo>
                  <a:lnTo>
                    <a:pt x="33769" y="116599"/>
                  </a:lnTo>
                  <a:lnTo>
                    <a:pt x="43437" y="111653"/>
                  </a:lnTo>
                  <a:lnTo>
                    <a:pt x="49233" y="109995"/>
                  </a:lnTo>
                  <a:lnTo>
                    <a:pt x="55636" y="108890"/>
                  </a:lnTo>
                  <a:lnTo>
                    <a:pt x="62446" y="108154"/>
                  </a:lnTo>
                  <a:lnTo>
                    <a:pt x="69525" y="108509"/>
                  </a:lnTo>
                  <a:lnTo>
                    <a:pt x="76785" y="109593"/>
                  </a:lnTo>
                  <a:lnTo>
                    <a:pt x="84165" y="111162"/>
                  </a:lnTo>
                  <a:lnTo>
                    <a:pt x="90778" y="112208"/>
                  </a:lnTo>
                  <a:lnTo>
                    <a:pt x="96880" y="112906"/>
                  </a:lnTo>
                  <a:lnTo>
                    <a:pt x="102641" y="113370"/>
                  </a:lnTo>
                  <a:lnTo>
                    <a:pt x="108175" y="115373"/>
                  </a:lnTo>
                  <a:lnTo>
                    <a:pt x="113558" y="118402"/>
                  </a:lnTo>
                  <a:lnTo>
                    <a:pt x="118841" y="122115"/>
                  </a:lnTo>
                  <a:lnTo>
                    <a:pt x="124055" y="125437"/>
                  </a:lnTo>
                  <a:lnTo>
                    <a:pt x="129225" y="128498"/>
                  </a:lnTo>
                  <a:lnTo>
                    <a:pt x="134364" y="131385"/>
                  </a:lnTo>
                  <a:lnTo>
                    <a:pt x="138638" y="134157"/>
                  </a:lnTo>
                  <a:lnTo>
                    <a:pt x="142333" y="136851"/>
                  </a:lnTo>
                  <a:lnTo>
                    <a:pt x="145644" y="139494"/>
                  </a:lnTo>
                  <a:lnTo>
                    <a:pt x="148697" y="142950"/>
                  </a:lnTo>
                  <a:lnTo>
                    <a:pt x="151579" y="146947"/>
                  </a:lnTo>
                  <a:lnTo>
                    <a:pt x="154347" y="151305"/>
                  </a:lnTo>
                  <a:lnTo>
                    <a:pt x="156193" y="155056"/>
                  </a:lnTo>
                  <a:lnTo>
                    <a:pt x="159637" y="165228"/>
                  </a:lnTo>
                  <a:lnTo>
                    <a:pt x="161413" y="169419"/>
                  </a:lnTo>
                  <a:lnTo>
                    <a:pt x="163443" y="173906"/>
                  </a:lnTo>
                  <a:lnTo>
                    <a:pt x="164797" y="178591"/>
                  </a:lnTo>
                  <a:lnTo>
                    <a:pt x="165699" y="183408"/>
                  </a:lnTo>
                  <a:lnTo>
                    <a:pt x="166301" y="188312"/>
                  </a:lnTo>
                  <a:lnTo>
                    <a:pt x="166702" y="192428"/>
                  </a:lnTo>
                  <a:lnTo>
                    <a:pt x="166969" y="196019"/>
                  </a:lnTo>
                  <a:lnTo>
                    <a:pt x="167147" y="199259"/>
                  </a:lnTo>
                  <a:lnTo>
                    <a:pt x="168113" y="201419"/>
                  </a:lnTo>
                  <a:lnTo>
                    <a:pt x="169603" y="202860"/>
                  </a:lnTo>
                  <a:lnTo>
                    <a:pt x="171443" y="203820"/>
                  </a:lnTo>
                  <a:lnTo>
                    <a:pt x="172670" y="205307"/>
                  </a:lnTo>
                  <a:lnTo>
                    <a:pt x="173489" y="207145"/>
                  </a:lnTo>
                  <a:lnTo>
                    <a:pt x="174033" y="209217"/>
                  </a:lnTo>
                  <a:lnTo>
                    <a:pt x="175243" y="210598"/>
                  </a:lnTo>
                  <a:lnTo>
                    <a:pt x="176897" y="211518"/>
                  </a:lnTo>
                  <a:lnTo>
                    <a:pt x="181588" y="212996"/>
                  </a:lnTo>
                  <a:lnTo>
                    <a:pt x="184489" y="213198"/>
                  </a:lnTo>
                  <a:lnTo>
                    <a:pt x="190364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MARTInkAnnotation166"/>
            <p:cNvSpPr/>
            <p:nvPr/>
          </p:nvSpPr>
          <p:spPr>
            <a:xfrm>
              <a:off x="5562360" y="3116520"/>
              <a:ext cx="319680" cy="31212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320041" h="312421">
                  <a:moveTo>
                    <a:pt x="320040" y="0"/>
                  </a:moveTo>
                  <a:lnTo>
                    <a:pt x="320040" y="17912"/>
                  </a:lnTo>
                  <a:lnTo>
                    <a:pt x="317782" y="25176"/>
                  </a:lnTo>
                  <a:lnTo>
                    <a:pt x="315995" y="29485"/>
                  </a:lnTo>
                  <a:lnTo>
                    <a:pt x="309494" y="38786"/>
                  </a:lnTo>
                  <a:lnTo>
                    <a:pt x="305389" y="43638"/>
                  </a:lnTo>
                  <a:lnTo>
                    <a:pt x="300113" y="48565"/>
                  </a:lnTo>
                  <a:lnTo>
                    <a:pt x="294055" y="53544"/>
                  </a:lnTo>
                  <a:lnTo>
                    <a:pt x="287477" y="58555"/>
                  </a:lnTo>
                  <a:lnTo>
                    <a:pt x="281398" y="64437"/>
                  </a:lnTo>
                  <a:lnTo>
                    <a:pt x="275652" y="70898"/>
                  </a:lnTo>
                  <a:lnTo>
                    <a:pt x="270128" y="77745"/>
                  </a:lnTo>
                  <a:lnTo>
                    <a:pt x="263905" y="84004"/>
                  </a:lnTo>
                  <a:lnTo>
                    <a:pt x="257217" y="89869"/>
                  </a:lnTo>
                  <a:lnTo>
                    <a:pt x="250218" y="95473"/>
                  </a:lnTo>
                  <a:lnTo>
                    <a:pt x="243012" y="101749"/>
                  </a:lnTo>
                  <a:lnTo>
                    <a:pt x="235668" y="108472"/>
                  </a:lnTo>
                  <a:lnTo>
                    <a:pt x="228232" y="115495"/>
                  </a:lnTo>
                  <a:lnTo>
                    <a:pt x="219888" y="122717"/>
                  </a:lnTo>
                  <a:lnTo>
                    <a:pt x="210939" y="130071"/>
                  </a:lnTo>
                  <a:lnTo>
                    <a:pt x="201586" y="137514"/>
                  </a:lnTo>
                  <a:lnTo>
                    <a:pt x="192810" y="145016"/>
                  </a:lnTo>
                  <a:lnTo>
                    <a:pt x="184420" y="152557"/>
                  </a:lnTo>
                  <a:lnTo>
                    <a:pt x="176287" y="160125"/>
                  </a:lnTo>
                  <a:lnTo>
                    <a:pt x="166631" y="167710"/>
                  </a:lnTo>
                  <a:lnTo>
                    <a:pt x="155961" y="175307"/>
                  </a:lnTo>
                  <a:lnTo>
                    <a:pt x="144614" y="182911"/>
                  </a:lnTo>
                  <a:lnTo>
                    <a:pt x="122975" y="198134"/>
                  </a:lnTo>
                  <a:lnTo>
                    <a:pt x="112464" y="205749"/>
                  </a:lnTo>
                  <a:lnTo>
                    <a:pt x="102915" y="213366"/>
                  </a:lnTo>
                  <a:lnTo>
                    <a:pt x="94011" y="220984"/>
                  </a:lnTo>
                  <a:lnTo>
                    <a:pt x="85533" y="228603"/>
                  </a:lnTo>
                  <a:lnTo>
                    <a:pt x="69342" y="243841"/>
                  </a:lnTo>
                  <a:lnTo>
                    <a:pt x="61468" y="251461"/>
                  </a:lnTo>
                  <a:lnTo>
                    <a:pt x="53679" y="258234"/>
                  </a:lnTo>
                  <a:lnTo>
                    <a:pt x="45946" y="264443"/>
                  </a:lnTo>
                  <a:lnTo>
                    <a:pt x="38251" y="270275"/>
                  </a:lnTo>
                  <a:lnTo>
                    <a:pt x="31427" y="275857"/>
                  </a:lnTo>
                  <a:lnTo>
                    <a:pt x="25185" y="281271"/>
                  </a:lnTo>
                  <a:lnTo>
                    <a:pt x="14580" y="290956"/>
                  </a:lnTo>
                  <a:lnTo>
                    <a:pt x="7044" y="298083"/>
                  </a:lnTo>
                  <a:lnTo>
                    <a:pt x="4696" y="301169"/>
                  </a:lnTo>
                  <a:lnTo>
                    <a:pt x="928" y="309947"/>
                  </a:lnTo>
                  <a:lnTo>
                    <a:pt x="0" y="312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SMARTInkAnnotation167"/>
            <p:cNvSpPr/>
            <p:nvPr/>
          </p:nvSpPr>
          <p:spPr>
            <a:xfrm>
              <a:off x="5810760" y="3253680"/>
              <a:ext cx="162720" cy="1522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63024" h="152390">
                  <a:moveTo>
                    <a:pt x="41103" y="22849"/>
                  </a:moveTo>
                  <a:lnTo>
                    <a:pt x="52676" y="11277"/>
                  </a:lnTo>
                  <a:lnTo>
                    <a:pt x="55591" y="9208"/>
                  </a:lnTo>
                  <a:lnTo>
                    <a:pt x="59229" y="6981"/>
                  </a:lnTo>
                  <a:lnTo>
                    <a:pt x="63347" y="4650"/>
                  </a:lnTo>
                  <a:lnTo>
                    <a:pt x="66938" y="3097"/>
                  </a:lnTo>
                  <a:lnTo>
                    <a:pt x="70180" y="2061"/>
                  </a:lnTo>
                  <a:lnTo>
                    <a:pt x="73188" y="1370"/>
                  </a:lnTo>
                  <a:lnTo>
                    <a:pt x="76887" y="910"/>
                  </a:lnTo>
                  <a:lnTo>
                    <a:pt x="81045" y="603"/>
                  </a:lnTo>
                  <a:lnTo>
                    <a:pt x="85511" y="398"/>
                  </a:lnTo>
                  <a:lnTo>
                    <a:pt x="94989" y="171"/>
                  </a:lnTo>
                  <a:lnTo>
                    <a:pt x="125990" y="0"/>
                  </a:lnTo>
                  <a:lnTo>
                    <a:pt x="129021" y="843"/>
                  </a:lnTo>
                  <a:lnTo>
                    <a:pt x="131888" y="2251"/>
                  </a:lnTo>
                  <a:lnTo>
                    <a:pt x="134647" y="4037"/>
                  </a:lnTo>
                  <a:lnTo>
                    <a:pt x="136485" y="6074"/>
                  </a:lnTo>
                  <a:lnTo>
                    <a:pt x="137711" y="8280"/>
                  </a:lnTo>
                  <a:lnTo>
                    <a:pt x="139074" y="12987"/>
                  </a:lnTo>
                  <a:lnTo>
                    <a:pt x="139436" y="15428"/>
                  </a:lnTo>
                  <a:lnTo>
                    <a:pt x="139679" y="17901"/>
                  </a:lnTo>
                  <a:lnTo>
                    <a:pt x="139841" y="20398"/>
                  </a:lnTo>
                  <a:lnTo>
                    <a:pt x="139948" y="22908"/>
                  </a:lnTo>
                  <a:lnTo>
                    <a:pt x="140019" y="25428"/>
                  </a:lnTo>
                  <a:lnTo>
                    <a:pt x="139220" y="28802"/>
                  </a:lnTo>
                  <a:lnTo>
                    <a:pt x="137841" y="32744"/>
                  </a:lnTo>
                  <a:lnTo>
                    <a:pt x="136075" y="37066"/>
                  </a:lnTo>
                  <a:lnTo>
                    <a:pt x="132358" y="40794"/>
                  </a:lnTo>
                  <a:lnTo>
                    <a:pt x="127339" y="44125"/>
                  </a:lnTo>
                  <a:lnTo>
                    <a:pt x="121454" y="47194"/>
                  </a:lnTo>
                  <a:lnTo>
                    <a:pt x="115837" y="50932"/>
                  </a:lnTo>
                  <a:lnTo>
                    <a:pt x="110400" y="55118"/>
                  </a:lnTo>
                  <a:lnTo>
                    <a:pt x="105080" y="59601"/>
                  </a:lnTo>
                  <a:lnTo>
                    <a:pt x="98994" y="63437"/>
                  </a:lnTo>
                  <a:lnTo>
                    <a:pt x="92397" y="66841"/>
                  </a:lnTo>
                  <a:lnTo>
                    <a:pt x="85460" y="69957"/>
                  </a:lnTo>
                  <a:lnTo>
                    <a:pt x="78294" y="73728"/>
                  </a:lnTo>
                  <a:lnTo>
                    <a:pt x="70977" y="77935"/>
                  </a:lnTo>
                  <a:lnTo>
                    <a:pt x="63559" y="82433"/>
                  </a:lnTo>
                  <a:lnTo>
                    <a:pt x="56074" y="86278"/>
                  </a:lnTo>
                  <a:lnTo>
                    <a:pt x="48544" y="89689"/>
                  </a:lnTo>
                  <a:lnTo>
                    <a:pt x="40984" y="92809"/>
                  </a:lnTo>
                  <a:lnTo>
                    <a:pt x="34250" y="95735"/>
                  </a:lnTo>
                  <a:lnTo>
                    <a:pt x="22254" y="101245"/>
                  </a:lnTo>
                  <a:lnTo>
                    <a:pt x="17529" y="103900"/>
                  </a:lnTo>
                  <a:lnTo>
                    <a:pt x="13534" y="106516"/>
                  </a:lnTo>
                  <a:lnTo>
                    <a:pt x="10024" y="109107"/>
                  </a:lnTo>
                  <a:lnTo>
                    <a:pt x="6837" y="111681"/>
                  </a:lnTo>
                  <a:lnTo>
                    <a:pt x="3865" y="114243"/>
                  </a:lnTo>
                  <a:lnTo>
                    <a:pt x="1038" y="116799"/>
                  </a:lnTo>
                  <a:lnTo>
                    <a:pt x="0" y="119349"/>
                  </a:lnTo>
                  <a:lnTo>
                    <a:pt x="155" y="121896"/>
                  </a:lnTo>
                  <a:lnTo>
                    <a:pt x="1104" y="124440"/>
                  </a:lnTo>
                  <a:lnTo>
                    <a:pt x="2584" y="126983"/>
                  </a:lnTo>
                  <a:lnTo>
                    <a:pt x="4417" y="129525"/>
                  </a:lnTo>
                  <a:lnTo>
                    <a:pt x="6486" y="132066"/>
                  </a:lnTo>
                  <a:lnTo>
                    <a:pt x="9558" y="134607"/>
                  </a:lnTo>
                  <a:lnTo>
                    <a:pt x="13301" y="137148"/>
                  </a:lnTo>
                  <a:lnTo>
                    <a:pt x="17488" y="139688"/>
                  </a:lnTo>
                  <a:lnTo>
                    <a:pt x="22820" y="141382"/>
                  </a:lnTo>
                  <a:lnTo>
                    <a:pt x="28914" y="142511"/>
                  </a:lnTo>
                  <a:lnTo>
                    <a:pt x="35517" y="143264"/>
                  </a:lnTo>
                  <a:lnTo>
                    <a:pt x="42460" y="144612"/>
                  </a:lnTo>
                  <a:lnTo>
                    <a:pt x="49628" y="146358"/>
                  </a:lnTo>
                  <a:lnTo>
                    <a:pt x="56946" y="148368"/>
                  </a:lnTo>
                  <a:lnTo>
                    <a:pt x="65212" y="149708"/>
                  </a:lnTo>
                  <a:lnTo>
                    <a:pt x="74109" y="150602"/>
                  </a:lnTo>
                  <a:lnTo>
                    <a:pt x="83427" y="151198"/>
                  </a:lnTo>
                  <a:lnTo>
                    <a:pt x="93025" y="151595"/>
                  </a:lnTo>
                  <a:lnTo>
                    <a:pt x="112722" y="152036"/>
                  </a:lnTo>
                  <a:lnTo>
                    <a:pt x="163023" y="1523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SMARTInkAnnotation168"/>
            <p:cNvSpPr/>
            <p:nvPr/>
          </p:nvSpPr>
          <p:spPr>
            <a:xfrm>
              <a:off x="6164280" y="323064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21">
                  <a:moveTo>
                    <a:pt x="0" y="7620"/>
                  </a:moveTo>
                  <a:lnTo>
                    <a:pt x="22924" y="7620"/>
                  </a:lnTo>
                  <a:lnTo>
                    <a:pt x="27136" y="6773"/>
                  </a:lnTo>
                  <a:lnTo>
                    <a:pt x="31637" y="5362"/>
                  </a:lnTo>
                  <a:lnTo>
                    <a:pt x="36331" y="3575"/>
                  </a:lnTo>
                  <a:lnTo>
                    <a:pt x="42001" y="2383"/>
                  </a:lnTo>
                  <a:lnTo>
                    <a:pt x="48321" y="1589"/>
                  </a:lnTo>
                  <a:lnTo>
                    <a:pt x="55074" y="1059"/>
                  </a:lnTo>
                  <a:lnTo>
                    <a:pt x="61269" y="706"/>
                  </a:lnTo>
                  <a:lnTo>
                    <a:pt x="72669" y="314"/>
                  </a:lnTo>
                  <a:lnTo>
                    <a:pt x="100714" y="6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MARTInkAnnotation169"/>
            <p:cNvSpPr/>
            <p:nvPr/>
          </p:nvSpPr>
          <p:spPr>
            <a:xfrm>
              <a:off x="6232680" y="3299400"/>
              <a:ext cx="198000" cy="151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98121" h="15233">
                  <a:moveTo>
                    <a:pt x="0" y="0"/>
                  </a:moveTo>
                  <a:lnTo>
                    <a:pt x="0" y="6561"/>
                  </a:lnTo>
                  <a:lnTo>
                    <a:pt x="846" y="6914"/>
                  </a:lnTo>
                  <a:lnTo>
                    <a:pt x="4046" y="7306"/>
                  </a:lnTo>
                  <a:lnTo>
                    <a:pt x="6930" y="7411"/>
                  </a:lnTo>
                  <a:lnTo>
                    <a:pt x="14651" y="7527"/>
                  </a:lnTo>
                  <a:lnTo>
                    <a:pt x="19080" y="8405"/>
                  </a:lnTo>
                  <a:lnTo>
                    <a:pt x="23727" y="9837"/>
                  </a:lnTo>
                  <a:lnTo>
                    <a:pt x="28519" y="11638"/>
                  </a:lnTo>
                  <a:lnTo>
                    <a:pt x="34252" y="12839"/>
                  </a:lnTo>
                  <a:lnTo>
                    <a:pt x="40614" y="13639"/>
                  </a:lnTo>
                  <a:lnTo>
                    <a:pt x="47397" y="14173"/>
                  </a:lnTo>
                  <a:lnTo>
                    <a:pt x="54458" y="14528"/>
                  </a:lnTo>
                  <a:lnTo>
                    <a:pt x="69077" y="14924"/>
                  </a:lnTo>
                  <a:lnTo>
                    <a:pt x="144479" y="15232"/>
                  </a:lnTo>
                  <a:lnTo>
                    <a:pt x="152199" y="14388"/>
                  </a:lnTo>
                  <a:lnTo>
                    <a:pt x="159886" y="12979"/>
                  </a:lnTo>
                  <a:lnTo>
                    <a:pt x="167550" y="11193"/>
                  </a:lnTo>
                  <a:lnTo>
                    <a:pt x="173507" y="10002"/>
                  </a:lnTo>
                  <a:lnTo>
                    <a:pt x="178325" y="9208"/>
                  </a:lnTo>
                  <a:lnTo>
                    <a:pt x="182384" y="8679"/>
                  </a:lnTo>
                  <a:lnTo>
                    <a:pt x="185935" y="8326"/>
                  </a:lnTo>
                  <a:lnTo>
                    <a:pt x="189151" y="8091"/>
                  </a:lnTo>
                  <a:lnTo>
                    <a:pt x="19812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MARTInkAnnotation170"/>
            <p:cNvSpPr/>
            <p:nvPr/>
          </p:nvSpPr>
          <p:spPr>
            <a:xfrm>
              <a:off x="6651720" y="3192480"/>
              <a:ext cx="159840" cy="226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60021" h="22861">
                  <a:moveTo>
                    <a:pt x="0" y="22860"/>
                  </a:moveTo>
                  <a:lnTo>
                    <a:pt x="4045" y="22860"/>
                  </a:lnTo>
                  <a:lnTo>
                    <a:pt x="6083" y="22014"/>
                  </a:lnTo>
                  <a:lnTo>
                    <a:pt x="8288" y="20602"/>
                  </a:lnTo>
                  <a:lnTo>
                    <a:pt x="10606" y="18815"/>
                  </a:lnTo>
                  <a:lnTo>
                    <a:pt x="13844" y="17623"/>
                  </a:lnTo>
                  <a:lnTo>
                    <a:pt x="17696" y="16829"/>
                  </a:lnTo>
                  <a:lnTo>
                    <a:pt x="21957" y="16299"/>
                  </a:lnTo>
                  <a:lnTo>
                    <a:pt x="26491" y="15100"/>
                  </a:lnTo>
                  <a:lnTo>
                    <a:pt x="31207" y="13453"/>
                  </a:lnTo>
                  <a:lnTo>
                    <a:pt x="36045" y="11509"/>
                  </a:lnTo>
                  <a:lnTo>
                    <a:pt x="40963" y="10212"/>
                  </a:lnTo>
                  <a:lnTo>
                    <a:pt x="45936" y="9348"/>
                  </a:lnTo>
                  <a:lnTo>
                    <a:pt x="50944" y="8772"/>
                  </a:lnTo>
                  <a:lnTo>
                    <a:pt x="56823" y="8388"/>
                  </a:lnTo>
                  <a:lnTo>
                    <a:pt x="63282" y="8132"/>
                  </a:lnTo>
                  <a:lnTo>
                    <a:pt x="70128" y="7961"/>
                  </a:lnTo>
                  <a:lnTo>
                    <a:pt x="77232" y="7001"/>
                  </a:lnTo>
                  <a:lnTo>
                    <a:pt x="84508" y="5514"/>
                  </a:lnTo>
                  <a:lnTo>
                    <a:pt x="91899" y="3676"/>
                  </a:lnTo>
                  <a:lnTo>
                    <a:pt x="100212" y="2451"/>
                  </a:lnTo>
                  <a:lnTo>
                    <a:pt x="109141" y="1634"/>
                  </a:lnTo>
                  <a:lnTo>
                    <a:pt x="125554" y="726"/>
                  </a:lnTo>
                  <a:lnTo>
                    <a:pt x="135671" y="32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MARTInkAnnotation171"/>
            <p:cNvSpPr/>
            <p:nvPr/>
          </p:nvSpPr>
          <p:spPr>
            <a:xfrm>
              <a:off x="6926040" y="3124080"/>
              <a:ext cx="22680" cy="1674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2861" h="167641">
                  <a:moveTo>
                    <a:pt x="0" y="0"/>
                  </a:moveTo>
                  <a:lnTo>
                    <a:pt x="0" y="57745"/>
                  </a:lnTo>
                  <a:lnTo>
                    <a:pt x="847" y="63050"/>
                  </a:lnTo>
                  <a:lnTo>
                    <a:pt x="2258" y="68280"/>
                  </a:lnTo>
                  <a:lnTo>
                    <a:pt x="4046" y="73460"/>
                  </a:lnTo>
                  <a:lnTo>
                    <a:pt x="5237" y="78607"/>
                  </a:lnTo>
                  <a:lnTo>
                    <a:pt x="6032" y="83731"/>
                  </a:lnTo>
                  <a:lnTo>
                    <a:pt x="6562" y="88841"/>
                  </a:lnTo>
                  <a:lnTo>
                    <a:pt x="6914" y="94787"/>
                  </a:lnTo>
                  <a:lnTo>
                    <a:pt x="7307" y="108168"/>
                  </a:lnTo>
                  <a:lnTo>
                    <a:pt x="7558" y="126134"/>
                  </a:lnTo>
                  <a:lnTo>
                    <a:pt x="7611" y="146035"/>
                  </a:lnTo>
                  <a:lnTo>
                    <a:pt x="8461" y="149004"/>
                  </a:lnTo>
                  <a:lnTo>
                    <a:pt x="9874" y="151829"/>
                  </a:lnTo>
                  <a:lnTo>
                    <a:pt x="11663" y="154560"/>
                  </a:lnTo>
                  <a:lnTo>
                    <a:pt x="13702" y="156380"/>
                  </a:lnTo>
                  <a:lnTo>
                    <a:pt x="15908" y="157593"/>
                  </a:lnTo>
                  <a:lnTo>
                    <a:pt x="18226" y="158402"/>
                  </a:lnTo>
                  <a:lnTo>
                    <a:pt x="19770" y="159788"/>
                  </a:lnTo>
                  <a:lnTo>
                    <a:pt x="20801" y="161559"/>
                  </a:lnTo>
                  <a:lnTo>
                    <a:pt x="2286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SMARTInkAnnotation172"/>
            <p:cNvSpPr/>
            <p:nvPr/>
          </p:nvSpPr>
          <p:spPr>
            <a:xfrm>
              <a:off x="7055640" y="3108960"/>
              <a:ext cx="251280" cy="1900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51461" h="190110">
                  <a:moveTo>
                    <a:pt x="0" y="37748"/>
                  </a:moveTo>
                  <a:lnTo>
                    <a:pt x="4046" y="37748"/>
                  </a:lnTo>
                  <a:lnTo>
                    <a:pt x="5237" y="36901"/>
                  </a:lnTo>
                  <a:lnTo>
                    <a:pt x="6032" y="35490"/>
                  </a:lnTo>
                  <a:lnTo>
                    <a:pt x="7307" y="31187"/>
                  </a:lnTo>
                  <a:lnTo>
                    <a:pt x="11573" y="26397"/>
                  </a:lnTo>
                  <a:lnTo>
                    <a:pt x="18199" y="19615"/>
                  </a:lnTo>
                  <a:lnTo>
                    <a:pt x="25305" y="14731"/>
                  </a:lnTo>
                  <a:lnTo>
                    <a:pt x="29570" y="12243"/>
                  </a:lnTo>
                  <a:lnTo>
                    <a:pt x="34106" y="10585"/>
                  </a:lnTo>
                  <a:lnTo>
                    <a:pt x="38825" y="9479"/>
                  </a:lnTo>
                  <a:lnTo>
                    <a:pt x="43663" y="8742"/>
                  </a:lnTo>
                  <a:lnTo>
                    <a:pt x="48583" y="7404"/>
                  </a:lnTo>
                  <a:lnTo>
                    <a:pt x="53555" y="5666"/>
                  </a:lnTo>
                  <a:lnTo>
                    <a:pt x="58564" y="3660"/>
                  </a:lnTo>
                  <a:lnTo>
                    <a:pt x="64443" y="2322"/>
                  </a:lnTo>
                  <a:lnTo>
                    <a:pt x="70902" y="1431"/>
                  </a:lnTo>
                  <a:lnTo>
                    <a:pt x="77748" y="837"/>
                  </a:lnTo>
                  <a:lnTo>
                    <a:pt x="84852" y="440"/>
                  </a:lnTo>
                  <a:lnTo>
                    <a:pt x="99518" y="0"/>
                  </a:lnTo>
                  <a:lnTo>
                    <a:pt x="106139" y="730"/>
                  </a:lnTo>
                  <a:lnTo>
                    <a:pt x="112246" y="2062"/>
                  </a:lnTo>
                  <a:lnTo>
                    <a:pt x="118010" y="3797"/>
                  </a:lnTo>
                  <a:lnTo>
                    <a:pt x="122701" y="4954"/>
                  </a:lnTo>
                  <a:lnTo>
                    <a:pt x="130169" y="6240"/>
                  </a:lnTo>
                  <a:lnTo>
                    <a:pt x="134193" y="7429"/>
                  </a:lnTo>
                  <a:lnTo>
                    <a:pt x="138569" y="9069"/>
                  </a:lnTo>
                  <a:lnTo>
                    <a:pt x="143179" y="11009"/>
                  </a:lnTo>
                  <a:lnTo>
                    <a:pt x="150559" y="15421"/>
                  </a:lnTo>
                  <a:lnTo>
                    <a:pt x="156662" y="20205"/>
                  </a:lnTo>
                  <a:lnTo>
                    <a:pt x="162197" y="25153"/>
                  </a:lnTo>
                  <a:lnTo>
                    <a:pt x="163164" y="27658"/>
                  </a:lnTo>
                  <a:lnTo>
                    <a:pt x="162963" y="30175"/>
                  </a:lnTo>
                  <a:lnTo>
                    <a:pt x="160481" y="36075"/>
                  </a:lnTo>
                  <a:lnTo>
                    <a:pt x="156556" y="44342"/>
                  </a:lnTo>
                  <a:lnTo>
                    <a:pt x="149587" y="58517"/>
                  </a:lnTo>
                  <a:lnTo>
                    <a:pt x="146291" y="63447"/>
                  </a:lnTo>
                  <a:lnTo>
                    <a:pt x="142401" y="68427"/>
                  </a:lnTo>
                  <a:lnTo>
                    <a:pt x="138114" y="73441"/>
                  </a:lnTo>
                  <a:lnTo>
                    <a:pt x="133562" y="78477"/>
                  </a:lnTo>
                  <a:lnTo>
                    <a:pt x="123990" y="88587"/>
                  </a:lnTo>
                  <a:lnTo>
                    <a:pt x="119066" y="94501"/>
                  </a:lnTo>
                  <a:lnTo>
                    <a:pt x="114091" y="100983"/>
                  </a:lnTo>
                  <a:lnTo>
                    <a:pt x="109081" y="107845"/>
                  </a:lnTo>
                  <a:lnTo>
                    <a:pt x="104047" y="114113"/>
                  </a:lnTo>
                  <a:lnTo>
                    <a:pt x="98998" y="119984"/>
                  </a:lnTo>
                  <a:lnTo>
                    <a:pt x="89719" y="130177"/>
                  </a:lnTo>
                  <a:lnTo>
                    <a:pt x="82773" y="137530"/>
                  </a:lnTo>
                  <a:lnTo>
                    <a:pt x="79735" y="141523"/>
                  </a:lnTo>
                  <a:lnTo>
                    <a:pt x="76863" y="145878"/>
                  </a:lnTo>
                  <a:lnTo>
                    <a:pt x="74103" y="150475"/>
                  </a:lnTo>
                  <a:lnTo>
                    <a:pt x="72262" y="154386"/>
                  </a:lnTo>
                  <a:lnTo>
                    <a:pt x="71034" y="157840"/>
                  </a:lnTo>
                  <a:lnTo>
                    <a:pt x="70216" y="160989"/>
                  </a:lnTo>
                  <a:lnTo>
                    <a:pt x="69306" y="166746"/>
                  </a:lnTo>
                  <a:lnTo>
                    <a:pt x="69064" y="169467"/>
                  </a:lnTo>
                  <a:lnTo>
                    <a:pt x="69750" y="172127"/>
                  </a:lnTo>
                  <a:lnTo>
                    <a:pt x="72769" y="177341"/>
                  </a:lnTo>
                  <a:lnTo>
                    <a:pt x="76933" y="182480"/>
                  </a:lnTo>
                  <a:lnTo>
                    <a:pt x="79229" y="185036"/>
                  </a:lnTo>
                  <a:lnTo>
                    <a:pt x="82453" y="186740"/>
                  </a:lnTo>
                  <a:lnTo>
                    <a:pt x="86294" y="187876"/>
                  </a:lnTo>
                  <a:lnTo>
                    <a:pt x="90550" y="188633"/>
                  </a:lnTo>
                  <a:lnTo>
                    <a:pt x="95926" y="189138"/>
                  </a:lnTo>
                  <a:lnTo>
                    <a:pt x="102051" y="189475"/>
                  </a:lnTo>
                  <a:lnTo>
                    <a:pt x="115629" y="189849"/>
                  </a:lnTo>
                  <a:lnTo>
                    <a:pt x="156620" y="190109"/>
                  </a:lnTo>
                  <a:lnTo>
                    <a:pt x="165373" y="189275"/>
                  </a:lnTo>
                  <a:lnTo>
                    <a:pt x="173749" y="187873"/>
                  </a:lnTo>
                  <a:lnTo>
                    <a:pt x="181873" y="186091"/>
                  </a:lnTo>
                  <a:lnTo>
                    <a:pt x="189828" y="184903"/>
                  </a:lnTo>
                  <a:lnTo>
                    <a:pt x="197672" y="184112"/>
                  </a:lnTo>
                  <a:lnTo>
                    <a:pt x="205441" y="183584"/>
                  </a:lnTo>
                  <a:lnTo>
                    <a:pt x="218589" y="182997"/>
                  </a:lnTo>
                  <a:lnTo>
                    <a:pt x="224467" y="182841"/>
                  </a:lnTo>
                  <a:lnTo>
                    <a:pt x="230078" y="181890"/>
                  </a:lnTo>
                  <a:lnTo>
                    <a:pt x="235512" y="180409"/>
                  </a:lnTo>
                  <a:lnTo>
                    <a:pt x="251460" y="1749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MARTInkAnnotation173"/>
            <p:cNvSpPr/>
            <p:nvPr/>
          </p:nvSpPr>
          <p:spPr>
            <a:xfrm>
              <a:off x="5258880" y="3223080"/>
              <a:ext cx="66600" cy="37800"/>
            </a:xfrm>
            <a:custGeom>
              <a:avLst/>
              <a:gdLst>
                <a:gd name="textAreaLeft" fmla="*/ 0 w 66600"/>
                <a:gd name="textAreaRight" fmla="*/ 66600 w 666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961" h="38068">
                  <a:moveTo>
                    <a:pt x="21355" y="15210"/>
                  </a:moveTo>
                  <a:lnTo>
                    <a:pt x="50432" y="15210"/>
                  </a:lnTo>
                  <a:lnTo>
                    <a:pt x="41106" y="15210"/>
                  </a:lnTo>
                  <a:lnTo>
                    <a:pt x="38756" y="16057"/>
                  </a:lnTo>
                  <a:lnTo>
                    <a:pt x="36342" y="17468"/>
                  </a:lnTo>
                  <a:lnTo>
                    <a:pt x="33886" y="19255"/>
                  </a:lnTo>
                  <a:lnTo>
                    <a:pt x="31403" y="20447"/>
                  </a:lnTo>
                  <a:lnTo>
                    <a:pt x="28901" y="21241"/>
                  </a:lnTo>
                  <a:lnTo>
                    <a:pt x="26385" y="21771"/>
                  </a:lnTo>
                  <a:lnTo>
                    <a:pt x="23862" y="22124"/>
                  </a:lnTo>
                  <a:lnTo>
                    <a:pt x="21333" y="22360"/>
                  </a:lnTo>
                  <a:lnTo>
                    <a:pt x="18800" y="22516"/>
                  </a:lnTo>
                  <a:lnTo>
                    <a:pt x="13729" y="22691"/>
                  </a:lnTo>
                  <a:lnTo>
                    <a:pt x="3574" y="22802"/>
                  </a:lnTo>
                  <a:lnTo>
                    <a:pt x="1881" y="21965"/>
                  </a:lnTo>
                  <a:lnTo>
                    <a:pt x="752" y="20560"/>
                  </a:lnTo>
                  <a:lnTo>
                    <a:pt x="0" y="18777"/>
                  </a:lnTo>
                  <a:lnTo>
                    <a:pt x="345" y="17588"/>
                  </a:lnTo>
                  <a:lnTo>
                    <a:pt x="1421" y="16795"/>
                  </a:lnTo>
                  <a:lnTo>
                    <a:pt x="2986" y="16267"/>
                  </a:lnTo>
                  <a:lnTo>
                    <a:pt x="5722" y="15068"/>
                  </a:lnTo>
                  <a:lnTo>
                    <a:pt x="13278" y="11478"/>
                  </a:lnTo>
                  <a:lnTo>
                    <a:pt x="16817" y="10182"/>
                  </a:lnTo>
                  <a:lnTo>
                    <a:pt x="20024" y="9318"/>
                  </a:lnTo>
                  <a:lnTo>
                    <a:pt x="23007" y="8742"/>
                  </a:lnTo>
                  <a:lnTo>
                    <a:pt x="26689" y="7512"/>
                  </a:lnTo>
                  <a:lnTo>
                    <a:pt x="30838" y="5844"/>
                  </a:lnTo>
                  <a:lnTo>
                    <a:pt x="35297" y="3886"/>
                  </a:lnTo>
                  <a:lnTo>
                    <a:pt x="39964" y="2581"/>
                  </a:lnTo>
                  <a:lnTo>
                    <a:pt x="44767" y="1711"/>
                  </a:lnTo>
                  <a:lnTo>
                    <a:pt x="56554" y="314"/>
                  </a:lnTo>
                  <a:lnTo>
                    <a:pt x="58368" y="199"/>
                  </a:lnTo>
                  <a:lnTo>
                    <a:pt x="60424" y="123"/>
                  </a:lnTo>
                  <a:lnTo>
                    <a:pt x="65761" y="0"/>
                  </a:lnTo>
                  <a:lnTo>
                    <a:pt x="66199" y="837"/>
                  </a:lnTo>
                  <a:lnTo>
                    <a:pt x="66492" y="2241"/>
                  </a:lnTo>
                  <a:lnTo>
                    <a:pt x="66960" y="6534"/>
                  </a:lnTo>
                  <a:lnTo>
                    <a:pt x="66151" y="7733"/>
                  </a:lnTo>
                  <a:lnTo>
                    <a:pt x="64767" y="9379"/>
                  </a:lnTo>
                  <a:lnTo>
                    <a:pt x="62996" y="11322"/>
                  </a:lnTo>
                  <a:lnTo>
                    <a:pt x="58771" y="15740"/>
                  </a:lnTo>
                  <a:lnTo>
                    <a:pt x="56459" y="18103"/>
                  </a:lnTo>
                  <a:lnTo>
                    <a:pt x="54071" y="19679"/>
                  </a:lnTo>
                  <a:lnTo>
                    <a:pt x="51633" y="20729"/>
                  </a:lnTo>
                  <a:lnTo>
                    <a:pt x="49160" y="21430"/>
                  </a:lnTo>
                  <a:lnTo>
                    <a:pt x="46666" y="22743"/>
                  </a:lnTo>
                  <a:lnTo>
                    <a:pt x="44155" y="24465"/>
                  </a:lnTo>
                  <a:lnTo>
                    <a:pt x="41635" y="26460"/>
                  </a:lnTo>
                  <a:lnTo>
                    <a:pt x="39109" y="28637"/>
                  </a:lnTo>
                  <a:lnTo>
                    <a:pt x="36578" y="30935"/>
                  </a:lnTo>
                  <a:lnTo>
                    <a:pt x="34043" y="33313"/>
                  </a:lnTo>
                  <a:lnTo>
                    <a:pt x="31507" y="34899"/>
                  </a:lnTo>
                  <a:lnTo>
                    <a:pt x="28970" y="35956"/>
                  </a:lnTo>
                  <a:lnTo>
                    <a:pt x="26432" y="36661"/>
                  </a:lnTo>
                  <a:lnTo>
                    <a:pt x="23893" y="37130"/>
                  </a:lnTo>
                  <a:lnTo>
                    <a:pt x="21354" y="37444"/>
                  </a:lnTo>
                  <a:lnTo>
                    <a:pt x="13774" y="38067"/>
                  </a:lnTo>
                  <a:lnTo>
                    <a:pt x="13747" y="34024"/>
                  </a:lnTo>
                  <a:lnTo>
                    <a:pt x="14589" y="31986"/>
                  </a:lnTo>
                  <a:lnTo>
                    <a:pt x="15999" y="29781"/>
                  </a:lnTo>
                  <a:lnTo>
                    <a:pt x="17784" y="27464"/>
                  </a:lnTo>
                  <a:lnTo>
                    <a:pt x="19821" y="25919"/>
                  </a:lnTo>
                  <a:lnTo>
                    <a:pt x="22026" y="24890"/>
                  </a:lnTo>
                  <a:lnTo>
                    <a:pt x="24343" y="24203"/>
                  </a:lnTo>
                  <a:lnTo>
                    <a:pt x="26733" y="22899"/>
                  </a:lnTo>
                  <a:lnTo>
                    <a:pt x="29175" y="21183"/>
                  </a:lnTo>
                  <a:lnTo>
                    <a:pt x="31647" y="19192"/>
                  </a:lnTo>
                  <a:lnTo>
                    <a:pt x="34990" y="17865"/>
                  </a:lnTo>
                  <a:lnTo>
                    <a:pt x="38912" y="16980"/>
                  </a:lnTo>
                  <a:lnTo>
                    <a:pt x="51836" y="15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SMARTInkAnnotation174"/>
            <p:cNvSpPr/>
            <p:nvPr/>
          </p:nvSpPr>
          <p:spPr>
            <a:xfrm>
              <a:off x="4945680" y="3162240"/>
              <a:ext cx="136080" cy="1292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36374" h="129513">
                  <a:moveTo>
                    <a:pt x="22337" y="7592"/>
                  </a:moveTo>
                  <a:lnTo>
                    <a:pt x="28898" y="7592"/>
                  </a:lnTo>
                  <a:lnTo>
                    <a:pt x="30944" y="6745"/>
                  </a:lnTo>
                  <a:lnTo>
                    <a:pt x="34002" y="5334"/>
                  </a:lnTo>
                  <a:lnTo>
                    <a:pt x="37734" y="3547"/>
                  </a:lnTo>
                  <a:lnTo>
                    <a:pt x="41915" y="2355"/>
                  </a:lnTo>
                  <a:lnTo>
                    <a:pt x="46395" y="1561"/>
                  </a:lnTo>
                  <a:lnTo>
                    <a:pt x="51076" y="1031"/>
                  </a:lnTo>
                  <a:lnTo>
                    <a:pt x="55889" y="678"/>
                  </a:lnTo>
                  <a:lnTo>
                    <a:pt x="60792" y="443"/>
                  </a:lnTo>
                  <a:lnTo>
                    <a:pt x="70755" y="181"/>
                  </a:lnTo>
                  <a:lnTo>
                    <a:pt x="96018" y="0"/>
                  </a:lnTo>
                  <a:lnTo>
                    <a:pt x="101091" y="837"/>
                  </a:lnTo>
                  <a:lnTo>
                    <a:pt x="106166" y="2242"/>
                  </a:lnTo>
                  <a:lnTo>
                    <a:pt x="111243" y="4025"/>
                  </a:lnTo>
                  <a:lnTo>
                    <a:pt x="116321" y="5214"/>
                  </a:lnTo>
                  <a:lnTo>
                    <a:pt x="121400" y="6007"/>
                  </a:lnTo>
                  <a:lnTo>
                    <a:pt x="126479" y="6535"/>
                  </a:lnTo>
                  <a:lnTo>
                    <a:pt x="129865" y="7734"/>
                  </a:lnTo>
                  <a:lnTo>
                    <a:pt x="132122" y="9380"/>
                  </a:lnTo>
                  <a:lnTo>
                    <a:pt x="133627" y="11324"/>
                  </a:lnTo>
                  <a:lnTo>
                    <a:pt x="134631" y="13467"/>
                  </a:lnTo>
                  <a:lnTo>
                    <a:pt x="135299" y="15742"/>
                  </a:lnTo>
                  <a:lnTo>
                    <a:pt x="135745" y="18105"/>
                  </a:lnTo>
                  <a:lnTo>
                    <a:pt x="136043" y="20528"/>
                  </a:lnTo>
                  <a:lnTo>
                    <a:pt x="136241" y="22989"/>
                  </a:lnTo>
                  <a:lnTo>
                    <a:pt x="136373" y="25476"/>
                  </a:lnTo>
                  <a:lnTo>
                    <a:pt x="135614" y="27982"/>
                  </a:lnTo>
                  <a:lnTo>
                    <a:pt x="134262" y="30498"/>
                  </a:lnTo>
                  <a:lnTo>
                    <a:pt x="132513" y="33023"/>
                  </a:lnTo>
                  <a:lnTo>
                    <a:pt x="130501" y="35553"/>
                  </a:lnTo>
                  <a:lnTo>
                    <a:pt x="128314" y="38086"/>
                  </a:lnTo>
                  <a:lnTo>
                    <a:pt x="126008" y="40621"/>
                  </a:lnTo>
                  <a:lnTo>
                    <a:pt x="121931" y="43158"/>
                  </a:lnTo>
                  <a:lnTo>
                    <a:pt x="116673" y="45696"/>
                  </a:lnTo>
                  <a:lnTo>
                    <a:pt x="110628" y="48235"/>
                  </a:lnTo>
                  <a:lnTo>
                    <a:pt x="104904" y="51620"/>
                  </a:lnTo>
                  <a:lnTo>
                    <a:pt x="99395" y="55571"/>
                  </a:lnTo>
                  <a:lnTo>
                    <a:pt x="94029" y="59898"/>
                  </a:lnTo>
                  <a:lnTo>
                    <a:pt x="87911" y="63629"/>
                  </a:lnTo>
                  <a:lnTo>
                    <a:pt x="81293" y="66964"/>
                  </a:lnTo>
                  <a:lnTo>
                    <a:pt x="74341" y="70033"/>
                  </a:lnTo>
                  <a:lnTo>
                    <a:pt x="67167" y="72926"/>
                  </a:lnTo>
                  <a:lnTo>
                    <a:pt x="52421" y="78398"/>
                  </a:lnTo>
                  <a:lnTo>
                    <a:pt x="29839" y="86239"/>
                  </a:lnTo>
                  <a:lnTo>
                    <a:pt x="23952" y="88810"/>
                  </a:lnTo>
                  <a:lnTo>
                    <a:pt x="19180" y="91371"/>
                  </a:lnTo>
                  <a:lnTo>
                    <a:pt x="15152" y="93924"/>
                  </a:lnTo>
                  <a:lnTo>
                    <a:pt x="11620" y="96473"/>
                  </a:lnTo>
                  <a:lnTo>
                    <a:pt x="8419" y="99020"/>
                  </a:lnTo>
                  <a:lnTo>
                    <a:pt x="5438" y="101564"/>
                  </a:lnTo>
                  <a:lnTo>
                    <a:pt x="3451" y="104107"/>
                  </a:lnTo>
                  <a:lnTo>
                    <a:pt x="2126" y="106649"/>
                  </a:lnTo>
                  <a:lnTo>
                    <a:pt x="1243" y="109190"/>
                  </a:lnTo>
                  <a:lnTo>
                    <a:pt x="654" y="111731"/>
                  </a:lnTo>
                  <a:lnTo>
                    <a:pt x="262" y="114271"/>
                  </a:lnTo>
                  <a:lnTo>
                    <a:pt x="0" y="116811"/>
                  </a:lnTo>
                  <a:lnTo>
                    <a:pt x="672" y="118505"/>
                  </a:lnTo>
                  <a:lnTo>
                    <a:pt x="1967" y="119634"/>
                  </a:lnTo>
                  <a:lnTo>
                    <a:pt x="3677" y="120387"/>
                  </a:lnTo>
                  <a:lnTo>
                    <a:pt x="7357" y="121735"/>
                  </a:lnTo>
                  <a:lnTo>
                    <a:pt x="18220" y="125491"/>
                  </a:lnTo>
                  <a:lnTo>
                    <a:pt x="24672" y="126831"/>
                  </a:lnTo>
                  <a:lnTo>
                    <a:pt x="31514" y="127725"/>
                  </a:lnTo>
                  <a:lnTo>
                    <a:pt x="38614" y="128321"/>
                  </a:lnTo>
                  <a:lnTo>
                    <a:pt x="45888" y="128718"/>
                  </a:lnTo>
                  <a:lnTo>
                    <a:pt x="60745" y="129159"/>
                  </a:lnTo>
                  <a:lnTo>
                    <a:pt x="129017" y="1295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SMARTInkAnnotation175"/>
            <p:cNvSpPr/>
            <p:nvPr/>
          </p:nvSpPr>
          <p:spPr>
            <a:xfrm>
              <a:off x="7444440" y="3162240"/>
              <a:ext cx="98640" cy="442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8898" h="44538">
                  <a:moveTo>
                    <a:pt x="76037" y="37976"/>
                  </a:moveTo>
                  <a:lnTo>
                    <a:pt x="61386" y="37976"/>
                  </a:lnTo>
                  <a:lnTo>
                    <a:pt x="57803" y="38823"/>
                  </a:lnTo>
                  <a:lnTo>
                    <a:pt x="54568" y="40234"/>
                  </a:lnTo>
                  <a:lnTo>
                    <a:pt x="51564" y="42022"/>
                  </a:lnTo>
                  <a:lnTo>
                    <a:pt x="47868" y="43213"/>
                  </a:lnTo>
                  <a:lnTo>
                    <a:pt x="43711" y="44008"/>
                  </a:lnTo>
                  <a:lnTo>
                    <a:pt x="39246" y="44537"/>
                  </a:lnTo>
                  <a:lnTo>
                    <a:pt x="35423" y="44043"/>
                  </a:lnTo>
                  <a:lnTo>
                    <a:pt x="32027" y="42868"/>
                  </a:lnTo>
                  <a:lnTo>
                    <a:pt x="28917" y="41237"/>
                  </a:lnTo>
                  <a:lnTo>
                    <a:pt x="25151" y="40150"/>
                  </a:lnTo>
                  <a:lnTo>
                    <a:pt x="20945" y="39426"/>
                  </a:lnTo>
                  <a:lnTo>
                    <a:pt x="16450" y="38942"/>
                  </a:lnTo>
                  <a:lnTo>
                    <a:pt x="12605" y="37774"/>
                  </a:lnTo>
                  <a:lnTo>
                    <a:pt x="9195" y="36148"/>
                  </a:lnTo>
                  <a:lnTo>
                    <a:pt x="1686" y="31500"/>
                  </a:lnTo>
                  <a:lnTo>
                    <a:pt x="1070" y="30272"/>
                  </a:lnTo>
                  <a:lnTo>
                    <a:pt x="660" y="28607"/>
                  </a:lnTo>
                  <a:lnTo>
                    <a:pt x="385" y="26650"/>
                  </a:lnTo>
                  <a:lnTo>
                    <a:pt x="202" y="24499"/>
                  </a:lnTo>
                  <a:lnTo>
                    <a:pt x="81" y="22218"/>
                  </a:lnTo>
                  <a:lnTo>
                    <a:pt x="0" y="19850"/>
                  </a:lnTo>
                  <a:lnTo>
                    <a:pt x="792" y="18272"/>
                  </a:lnTo>
                  <a:lnTo>
                    <a:pt x="2167" y="17220"/>
                  </a:lnTo>
                  <a:lnTo>
                    <a:pt x="3930" y="16519"/>
                  </a:lnTo>
                  <a:lnTo>
                    <a:pt x="5953" y="15205"/>
                  </a:lnTo>
                  <a:lnTo>
                    <a:pt x="8148" y="13482"/>
                  </a:lnTo>
                  <a:lnTo>
                    <a:pt x="10457" y="11486"/>
                  </a:lnTo>
                  <a:lnTo>
                    <a:pt x="13690" y="9310"/>
                  </a:lnTo>
                  <a:lnTo>
                    <a:pt x="17539" y="7012"/>
                  </a:lnTo>
                  <a:lnTo>
                    <a:pt x="21799" y="4633"/>
                  </a:lnTo>
                  <a:lnTo>
                    <a:pt x="25484" y="3047"/>
                  </a:lnTo>
                  <a:lnTo>
                    <a:pt x="28789" y="1990"/>
                  </a:lnTo>
                  <a:lnTo>
                    <a:pt x="31839" y="1285"/>
                  </a:lnTo>
                  <a:lnTo>
                    <a:pt x="35564" y="816"/>
                  </a:lnTo>
                  <a:lnTo>
                    <a:pt x="39742" y="502"/>
                  </a:lnTo>
                  <a:lnTo>
                    <a:pt x="44220" y="294"/>
                  </a:lnTo>
                  <a:lnTo>
                    <a:pt x="53712" y="61"/>
                  </a:lnTo>
                  <a:lnTo>
                    <a:pt x="58614" y="0"/>
                  </a:lnTo>
                  <a:lnTo>
                    <a:pt x="62728" y="805"/>
                  </a:lnTo>
                  <a:lnTo>
                    <a:pt x="66318" y="2189"/>
                  </a:lnTo>
                  <a:lnTo>
                    <a:pt x="74117" y="6448"/>
                  </a:lnTo>
                  <a:lnTo>
                    <a:pt x="75604" y="6797"/>
                  </a:lnTo>
                  <a:lnTo>
                    <a:pt x="77442" y="7030"/>
                  </a:lnTo>
                  <a:lnTo>
                    <a:pt x="79513" y="7185"/>
                  </a:lnTo>
                  <a:lnTo>
                    <a:pt x="80048" y="8135"/>
                  </a:lnTo>
                  <a:lnTo>
                    <a:pt x="79558" y="9616"/>
                  </a:lnTo>
                  <a:lnTo>
                    <a:pt x="76733" y="14030"/>
                  </a:lnTo>
                  <a:lnTo>
                    <a:pt x="75654" y="15238"/>
                  </a:lnTo>
                  <a:lnTo>
                    <a:pt x="72199" y="18839"/>
                  </a:lnTo>
                  <a:lnTo>
                    <a:pt x="70092" y="20138"/>
                  </a:lnTo>
                  <a:lnTo>
                    <a:pt x="67841" y="21004"/>
                  </a:lnTo>
                  <a:lnTo>
                    <a:pt x="65493" y="21581"/>
                  </a:lnTo>
                  <a:lnTo>
                    <a:pt x="63081" y="21967"/>
                  </a:lnTo>
                  <a:lnTo>
                    <a:pt x="60626" y="22223"/>
                  </a:lnTo>
                  <a:lnTo>
                    <a:pt x="58144" y="22394"/>
                  </a:lnTo>
                  <a:lnTo>
                    <a:pt x="55642" y="23355"/>
                  </a:lnTo>
                  <a:lnTo>
                    <a:pt x="53127" y="24842"/>
                  </a:lnTo>
                  <a:lnTo>
                    <a:pt x="50603" y="26680"/>
                  </a:lnTo>
                  <a:lnTo>
                    <a:pt x="48075" y="27058"/>
                  </a:lnTo>
                  <a:lnTo>
                    <a:pt x="45542" y="26464"/>
                  </a:lnTo>
                  <a:lnTo>
                    <a:pt x="43007" y="25222"/>
                  </a:lnTo>
                  <a:lnTo>
                    <a:pt x="40471" y="24393"/>
                  </a:lnTo>
                  <a:lnTo>
                    <a:pt x="37933" y="23841"/>
                  </a:lnTo>
                  <a:lnTo>
                    <a:pt x="31821" y="22954"/>
                  </a:lnTo>
                  <a:lnTo>
                    <a:pt x="30473" y="22881"/>
                  </a:lnTo>
                  <a:lnTo>
                    <a:pt x="23888" y="22755"/>
                  </a:lnTo>
                  <a:lnTo>
                    <a:pt x="27095" y="22742"/>
                  </a:lnTo>
                  <a:lnTo>
                    <a:pt x="29016" y="21893"/>
                  </a:lnTo>
                  <a:lnTo>
                    <a:pt x="31143" y="20481"/>
                  </a:lnTo>
                  <a:lnTo>
                    <a:pt x="33408" y="18692"/>
                  </a:lnTo>
                  <a:lnTo>
                    <a:pt x="35764" y="17500"/>
                  </a:lnTo>
                  <a:lnTo>
                    <a:pt x="38181" y="16706"/>
                  </a:lnTo>
                  <a:lnTo>
                    <a:pt x="40640" y="16176"/>
                  </a:lnTo>
                  <a:lnTo>
                    <a:pt x="43972" y="15823"/>
                  </a:lnTo>
                  <a:lnTo>
                    <a:pt x="47887" y="15587"/>
                  </a:lnTo>
                  <a:lnTo>
                    <a:pt x="55907" y="15325"/>
                  </a:lnTo>
                  <a:lnTo>
                    <a:pt x="66028" y="15178"/>
                  </a:lnTo>
                  <a:lnTo>
                    <a:pt x="98535" y="15116"/>
                  </a:lnTo>
                  <a:lnTo>
                    <a:pt x="98655" y="15963"/>
                  </a:lnTo>
                  <a:lnTo>
                    <a:pt x="98737" y="17374"/>
                  </a:lnTo>
                  <a:lnTo>
                    <a:pt x="98897" y="227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MARTInkAnnotation176"/>
            <p:cNvSpPr/>
            <p:nvPr/>
          </p:nvSpPr>
          <p:spPr>
            <a:xfrm>
              <a:off x="7715880" y="3108600"/>
              <a:ext cx="192600" cy="18252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92975" h="182881">
                  <a:moveTo>
                    <a:pt x="48194" y="0"/>
                  </a:moveTo>
                  <a:lnTo>
                    <a:pt x="66106" y="0"/>
                  </a:lnTo>
                  <a:lnTo>
                    <a:pt x="70296" y="847"/>
                  </a:lnTo>
                  <a:lnTo>
                    <a:pt x="75628" y="2258"/>
                  </a:lnTo>
                  <a:lnTo>
                    <a:pt x="81723" y="4046"/>
                  </a:lnTo>
                  <a:lnTo>
                    <a:pt x="87480" y="5237"/>
                  </a:lnTo>
                  <a:lnTo>
                    <a:pt x="93011" y="6031"/>
                  </a:lnTo>
                  <a:lnTo>
                    <a:pt x="98392" y="6561"/>
                  </a:lnTo>
                  <a:lnTo>
                    <a:pt x="103672" y="7760"/>
                  </a:lnTo>
                  <a:lnTo>
                    <a:pt x="108886" y="9407"/>
                  </a:lnTo>
                  <a:lnTo>
                    <a:pt x="114055" y="11352"/>
                  </a:lnTo>
                  <a:lnTo>
                    <a:pt x="119195" y="12648"/>
                  </a:lnTo>
                  <a:lnTo>
                    <a:pt x="124315" y="13512"/>
                  </a:lnTo>
                  <a:lnTo>
                    <a:pt x="129420" y="14088"/>
                  </a:lnTo>
                  <a:lnTo>
                    <a:pt x="134519" y="15319"/>
                  </a:lnTo>
                  <a:lnTo>
                    <a:pt x="139610" y="16986"/>
                  </a:lnTo>
                  <a:lnTo>
                    <a:pt x="144698" y="18944"/>
                  </a:lnTo>
                  <a:lnTo>
                    <a:pt x="149784" y="20249"/>
                  </a:lnTo>
                  <a:lnTo>
                    <a:pt x="154868" y="21120"/>
                  </a:lnTo>
                  <a:lnTo>
                    <a:pt x="159950" y="21700"/>
                  </a:lnTo>
                  <a:lnTo>
                    <a:pt x="163338" y="22933"/>
                  </a:lnTo>
                  <a:lnTo>
                    <a:pt x="165596" y="24602"/>
                  </a:lnTo>
                  <a:lnTo>
                    <a:pt x="169222" y="29319"/>
                  </a:lnTo>
                  <a:lnTo>
                    <a:pt x="169717" y="32222"/>
                  </a:lnTo>
                  <a:lnTo>
                    <a:pt x="169850" y="34181"/>
                  </a:lnTo>
                  <a:lnTo>
                    <a:pt x="169091" y="35487"/>
                  </a:lnTo>
                  <a:lnTo>
                    <a:pt x="167738" y="36358"/>
                  </a:lnTo>
                  <a:lnTo>
                    <a:pt x="165990" y="36939"/>
                  </a:lnTo>
                  <a:lnTo>
                    <a:pt x="161790" y="39842"/>
                  </a:lnTo>
                  <a:lnTo>
                    <a:pt x="159485" y="41801"/>
                  </a:lnTo>
                  <a:lnTo>
                    <a:pt x="154561" y="43954"/>
                  </a:lnTo>
                  <a:lnTo>
                    <a:pt x="147892" y="46236"/>
                  </a:lnTo>
                  <a:lnTo>
                    <a:pt x="132298" y="51030"/>
                  </a:lnTo>
                  <a:lnTo>
                    <a:pt x="93951" y="63530"/>
                  </a:lnTo>
                  <a:lnTo>
                    <a:pt x="86319" y="66907"/>
                  </a:lnTo>
                  <a:lnTo>
                    <a:pt x="78691" y="70851"/>
                  </a:lnTo>
                  <a:lnTo>
                    <a:pt x="71065" y="75174"/>
                  </a:lnTo>
                  <a:lnTo>
                    <a:pt x="62595" y="78056"/>
                  </a:lnTo>
                  <a:lnTo>
                    <a:pt x="53561" y="79978"/>
                  </a:lnTo>
                  <a:lnTo>
                    <a:pt x="44153" y="81258"/>
                  </a:lnTo>
                  <a:lnTo>
                    <a:pt x="37033" y="82959"/>
                  </a:lnTo>
                  <a:lnTo>
                    <a:pt x="31440" y="84939"/>
                  </a:lnTo>
                  <a:lnTo>
                    <a:pt x="26865" y="87107"/>
                  </a:lnTo>
                  <a:lnTo>
                    <a:pt x="22121" y="90244"/>
                  </a:lnTo>
                  <a:lnTo>
                    <a:pt x="17264" y="94029"/>
                  </a:lnTo>
                  <a:lnTo>
                    <a:pt x="12334" y="98246"/>
                  </a:lnTo>
                  <a:lnTo>
                    <a:pt x="8201" y="101904"/>
                  </a:lnTo>
                  <a:lnTo>
                    <a:pt x="1351" y="108226"/>
                  </a:lnTo>
                  <a:lnTo>
                    <a:pt x="31" y="111098"/>
                  </a:lnTo>
                  <a:lnTo>
                    <a:pt x="0" y="113858"/>
                  </a:lnTo>
                  <a:lnTo>
                    <a:pt x="824" y="116546"/>
                  </a:lnTo>
                  <a:lnTo>
                    <a:pt x="3999" y="121789"/>
                  </a:lnTo>
                  <a:lnTo>
                    <a:pt x="8232" y="126942"/>
                  </a:lnTo>
                  <a:lnTo>
                    <a:pt x="12934" y="132054"/>
                  </a:lnTo>
                  <a:lnTo>
                    <a:pt x="17068" y="135449"/>
                  </a:lnTo>
                  <a:lnTo>
                    <a:pt x="22363" y="139407"/>
                  </a:lnTo>
                  <a:lnTo>
                    <a:pt x="28434" y="143738"/>
                  </a:lnTo>
                  <a:lnTo>
                    <a:pt x="35020" y="147472"/>
                  </a:lnTo>
                  <a:lnTo>
                    <a:pt x="41951" y="150808"/>
                  </a:lnTo>
                  <a:lnTo>
                    <a:pt x="49112" y="153878"/>
                  </a:lnTo>
                  <a:lnTo>
                    <a:pt x="56426" y="156772"/>
                  </a:lnTo>
                  <a:lnTo>
                    <a:pt x="71326" y="162245"/>
                  </a:lnTo>
                  <a:lnTo>
                    <a:pt x="78855" y="164044"/>
                  </a:lnTo>
                  <a:lnTo>
                    <a:pt x="86415" y="165242"/>
                  </a:lnTo>
                  <a:lnTo>
                    <a:pt x="93995" y="166042"/>
                  </a:lnTo>
                  <a:lnTo>
                    <a:pt x="102434" y="167421"/>
                  </a:lnTo>
                  <a:lnTo>
                    <a:pt x="111448" y="169188"/>
                  </a:lnTo>
                  <a:lnTo>
                    <a:pt x="120843" y="171211"/>
                  </a:lnTo>
                  <a:lnTo>
                    <a:pt x="129647" y="172561"/>
                  </a:lnTo>
                  <a:lnTo>
                    <a:pt x="138055" y="173461"/>
                  </a:lnTo>
                  <a:lnTo>
                    <a:pt x="146202" y="174060"/>
                  </a:lnTo>
                  <a:lnTo>
                    <a:pt x="153326" y="175307"/>
                  </a:lnTo>
                  <a:lnTo>
                    <a:pt x="159769" y="176985"/>
                  </a:lnTo>
                  <a:lnTo>
                    <a:pt x="165757" y="178950"/>
                  </a:lnTo>
                  <a:lnTo>
                    <a:pt x="171443" y="180260"/>
                  </a:lnTo>
                  <a:lnTo>
                    <a:pt x="176927" y="181133"/>
                  </a:lnTo>
                  <a:lnTo>
                    <a:pt x="192974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MARTInkAnnotation177"/>
            <p:cNvSpPr/>
            <p:nvPr/>
          </p:nvSpPr>
          <p:spPr>
            <a:xfrm>
              <a:off x="4929840" y="3131640"/>
              <a:ext cx="533160" cy="2437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33401" h="243841">
                  <a:moveTo>
                    <a:pt x="0" y="0"/>
                  </a:moveTo>
                  <a:lnTo>
                    <a:pt x="4044" y="0"/>
                  </a:lnTo>
                  <a:lnTo>
                    <a:pt x="6083" y="847"/>
                  </a:lnTo>
                  <a:lnTo>
                    <a:pt x="13867" y="6561"/>
                  </a:lnTo>
                  <a:lnTo>
                    <a:pt x="26968" y="11352"/>
                  </a:lnTo>
                  <a:lnTo>
                    <a:pt x="35411" y="15769"/>
                  </a:lnTo>
                  <a:lnTo>
                    <a:pt x="55819" y="29550"/>
                  </a:lnTo>
                  <a:lnTo>
                    <a:pt x="67424" y="36558"/>
                  </a:lnTo>
                  <a:lnTo>
                    <a:pt x="78226" y="42495"/>
                  </a:lnTo>
                  <a:lnTo>
                    <a:pt x="88671" y="47955"/>
                  </a:lnTo>
                  <a:lnTo>
                    <a:pt x="101216" y="53205"/>
                  </a:lnTo>
                  <a:lnTo>
                    <a:pt x="115258" y="58360"/>
                  </a:lnTo>
                  <a:lnTo>
                    <a:pt x="129966" y="63474"/>
                  </a:lnTo>
                  <a:lnTo>
                    <a:pt x="144969" y="70826"/>
                  </a:lnTo>
                  <a:lnTo>
                    <a:pt x="152526" y="75158"/>
                  </a:lnTo>
                  <a:lnTo>
                    <a:pt x="167696" y="82228"/>
                  </a:lnTo>
                  <a:lnTo>
                    <a:pt x="182905" y="88193"/>
                  </a:lnTo>
                  <a:lnTo>
                    <a:pt x="198131" y="93666"/>
                  </a:lnTo>
                  <a:lnTo>
                    <a:pt x="213364" y="101178"/>
                  </a:lnTo>
                  <a:lnTo>
                    <a:pt x="220983" y="105552"/>
                  </a:lnTo>
                  <a:lnTo>
                    <a:pt x="229449" y="109315"/>
                  </a:lnTo>
                  <a:lnTo>
                    <a:pt x="238478" y="112670"/>
                  </a:lnTo>
                  <a:lnTo>
                    <a:pt x="273260" y="124138"/>
                  </a:lnTo>
                  <a:lnTo>
                    <a:pt x="289089" y="131655"/>
                  </a:lnTo>
                  <a:lnTo>
                    <a:pt x="296866" y="136030"/>
                  </a:lnTo>
                  <a:lnTo>
                    <a:pt x="312280" y="143149"/>
                  </a:lnTo>
                  <a:lnTo>
                    <a:pt x="327597" y="149982"/>
                  </a:lnTo>
                  <a:lnTo>
                    <a:pt x="335238" y="154174"/>
                  </a:lnTo>
                  <a:lnTo>
                    <a:pt x="342872" y="158663"/>
                  </a:lnTo>
                  <a:lnTo>
                    <a:pt x="351348" y="162502"/>
                  </a:lnTo>
                  <a:lnTo>
                    <a:pt x="360385" y="165908"/>
                  </a:lnTo>
                  <a:lnTo>
                    <a:pt x="369796" y="169025"/>
                  </a:lnTo>
                  <a:lnTo>
                    <a:pt x="379458" y="171950"/>
                  </a:lnTo>
                  <a:lnTo>
                    <a:pt x="399223" y="177458"/>
                  </a:lnTo>
                  <a:lnTo>
                    <a:pt x="408389" y="180959"/>
                  </a:lnTo>
                  <a:lnTo>
                    <a:pt x="417038" y="184986"/>
                  </a:lnTo>
                  <a:lnTo>
                    <a:pt x="425346" y="189364"/>
                  </a:lnTo>
                  <a:lnTo>
                    <a:pt x="433423" y="193976"/>
                  </a:lnTo>
                  <a:lnTo>
                    <a:pt x="441349" y="198744"/>
                  </a:lnTo>
                  <a:lnTo>
                    <a:pt x="449173" y="203616"/>
                  </a:lnTo>
                  <a:lnTo>
                    <a:pt x="457775" y="207711"/>
                  </a:lnTo>
                  <a:lnTo>
                    <a:pt x="466897" y="211287"/>
                  </a:lnTo>
                  <a:lnTo>
                    <a:pt x="476364" y="214518"/>
                  </a:lnTo>
                  <a:lnTo>
                    <a:pt x="491399" y="220366"/>
                  </a:lnTo>
                  <a:lnTo>
                    <a:pt x="503726" y="225787"/>
                  </a:lnTo>
                  <a:lnTo>
                    <a:pt x="514849" y="231019"/>
                  </a:lnTo>
                  <a:lnTo>
                    <a:pt x="523180" y="236166"/>
                  </a:lnTo>
                  <a:lnTo>
                    <a:pt x="533400" y="2438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SMARTInkAnnotation178"/>
            <p:cNvSpPr/>
            <p:nvPr/>
          </p:nvSpPr>
          <p:spPr>
            <a:xfrm>
              <a:off x="5562360" y="3283920"/>
              <a:ext cx="525600" cy="1216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5781" h="121921">
                  <a:moveTo>
                    <a:pt x="0" y="0"/>
                  </a:moveTo>
                  <a:lnTo>
                    <a:pt x="44403" y="0"/>
                  </a:lnTo>
                  <a:lnTo>
                    <a:pt x="53883" y="2258"/>
                  </a:lnTo>
                  <a:lnTo>
                    <a:pt x="58782" y="4046"/>
                  </a:lnTo>
                  <a:lnTo>
                    <a:pt x="70999" y="6031"/>
                  </a:lnTo>
                  <a:lnTo>
                    <a:pt x="84048" y="7760"/>
                  </a:lnTo>
                  <a:lnTo>
                    <a:pt x="95493" y="11352"/>
                  </a:lnTo>
                  <a:lnTo>
                    <a:pt x="111456" y="14088"/>
                  </a:lnTo>
                  <a:lnTo>
                    <a:pt x="124043" y="14728"/>
                  </a:lnTo>
                  <a:lnTo>
                    <a:pt x="138104" y="15860"/>
                  </a:lnTo>
                  <a:lnTo>
                    <a:pt x="152819" y="19185"/>
                  </a:lnTo>
                  <a:lnTo>
                    <a:pt x="160300" y="21257"/>
                  </a:lnTo>
                  <a:lnTo>
                    <a:pt x="175384" y="25816"/>
                  </a:lnTo>
                  <a:lnTo>
                    <a:pt x="190555" y="28407"/>
                  </a:lnTo>
                  <a:lnTo>
                    <a:pt x="205765" y="30406"/>
                  </a:lnTo>
                  <a:lnTo>
                    <a:pt x="220992" y="34116"/>
                  </a:lnTo>
                  <a:lnTo>
                    <a:pt x="228607" y="36290"/>
                  </a:lnTo>
                  <a:lnTo>
                    <a:pt x="252309" y="43397"/>
                  </a:lnTo>
                  <a:lnTo>
                    <a:pt x="270747" y="48356"/>
                  </a:lnTo>
                  <a:lnTo>
                    <a:pt x="279557" y="50018"/>
                  </a:lnTo>
                  <a:lnTo>
                    <a:pt x="287972" y="51125"/>
                  </a:lnTo>
                  <a:lnTo>
                    <a:pt x="304094" y="53202"/>
                  </a:lnTo>
                  <a:lnTo>
                    <a:pt x="319727" y="56948"/>
                  </a:lnTo>
                  <a:lnTo>
                    <a:pt x="327451" y="59132"/>
                  </a:lnTo>
                  <a:lnTo>
                    <a:pt x="342807" y="63817"/>
                  </a:lnTo>
                  <a:lnTo>
                    <a:pt x="388612" y="78768"/>
                  </a:lnTo>
                  <a:lnTo>
                    <a:pt x="397082" y="81299"/>
                  </a:lnTo>
                  <a:lnTo>
                    <a:pt x="415522" y="86368"/>
                  </a:lnTo>
                  <a:lnTo>
                    <a:pt x="423488" y="88906"/>
                  </a:lnTo>
                  <a:lnTo>
                    <a:pt x="430492" y="91444"/>
                  </a:lnTo>
                  <a:lnTo>
                    <a:pt x="436855" y="93983"/>
                  </a:lnTo>
                  <a:lnTo>
                    <a:pt x="444483" y="96522"/>
                  </a:lnTo>
                  <a:lnTo>
                    <a:pt x="452956" y="99061"/>
                  </a:lnTo>
                  <a:lnTo>
                    <a:pt x="461991" y="101601"/>
                  </a:lnTo>
                  <a:lnTo>
                    <a:pt x="478802" y="106680"/>
                  </a:lnTo>
                  <a:lnTo>
                    <a:pt x="486842" y="109220"/>
                  </a:lnTo>
                  <a:lnTo>
                    <a:pt x="502202" y="112795"/>
                  </a:lnTo>
                  <a:lnTo>
                    <a:pt x="511349" y="115889"/>
                  </a:lnTo>
                  <a:lnTo>
                    <a:pt x="5257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SMARTInkAnnotation179"/>
            <p:cNvSpPr/>
            <p:nvPr/>
          </p:nvSpPr>
          <p:spPr>
            <a:xfrm>
              <a:off x="5806080" y="3520080"/>
              <a:ext cx="30240" cy="205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0480" h="205741">
                  <a:moveTo>
                    <a:pt x="30479" y="0"/>
                  </a:moveTo>
                  <a:lnTo>
                    <a:pt x="30479" y="44402"/>
                  </a:lnTo>
                  <a:lnTo>
                    <a:pt x="29633" y="49075"/>
                  </a:lnTo>
                  <a:lnTo>
                    <a:pt x="28222" y="53883"/>
                  </a:lnTo>
                  <a:lnTo>
                    <a:pt x="26434" y="58782"/>
                  </a:lnTo>
                  <a:lnTo>
                    <a:pt x="25243" y="63741"/>
                  </a:lnTo>
                  <a:lnTo>
                    <a:pt x="24448" y="68741"/>
                  </a:lnTo>
                  <a:lnTo>
                    <a:pt x="23918" y="73767"/>
                  </a:lnTo>
                  <a:lnTo>
                    <a:pt x="22719" y="78812"/>
                  </a:lnTo>
                  <a:lnTo>
                    <a:pt x="21072" y="83868"/>
                  </a:lnTo>
                  <a:lnTo>
                    <a:pt x="19128" y="88932"/>
                  </a:lnTo>
                  <a:lnTo>
                    <a:pt x="17832" y="94848"/>
                  </a:lnTo>
                  <a:lnTo>
                    <a:pt x="16968" y="101332"/>
                  </a:lnTo>
                  <a:lnTo>
                    <a:pt x="16392" y="108194"/>
                  </a:lnTo>
                  <a:lnTo>
                    <a:pt x="15161" y="114463"/>
                  </a:lnTo>
                  <a:lnTo>
                    <a:pt x="13494" y="120335"/>
                  </a:lnTo>
                  <a:lnTo>
                    <a:pt x="11536" y="125944"/>
                  </a:lnTo>
                  <a:lnTo>
                    <a:pt x="9383" y="130529"/>
                  </a:lnTo>
                  <a:lnTo>
                    <a:pt x="7102" y="134433"/>
                  </a:lnTo>
                  <a:lnTo>
                    <a:pt x="4735" y="137882"/>
                  </a:lnTo>
                  <a:lnTo>
                    <a:pt x="3157" y="141874"/>
                  </a:lnTo>
                  <a:lnTo>
                    <a:pt x="2104" y="146230"/>
                  </a:lnTo>
                  <a:lnTo>
                    <a:pt x="1403" y="150827"/>
                  </a:lnTo>
                  <a:lnTo>
                    <a:pt x="935" y="155584"/>
                  </a:lnTo>
                  <a:lnTo>
                    <a:pt x="623" y="160449"/>
                  </a:lnTo>
                  <a:lnTo>
                    <a:pt x="277" y="169524"/>
                  </a:lnTo>
                  <a:lnTo>
                    <a:pt x="82" y="179393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MARTInkAnnotation180"/>
            <p:cNvSpPr/>
            <p:nvPr/>
          </p:nvSpPr>
          <p:spPr>
            <a:xfrm>
              <a:off x="5836680" y="3573360"/>
              <a:ext cx="235800" cy="1904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35987" h="190501">
                  <a:moveTo>
                    <a:pt x="144545" y="0"/>
                  </a:moveTo>
                  <a:lnTo>
                    <a:pt x="140500" y="4045"/>
                  </a:lnTo>
                  <a:lnTo>
                    <a:pt x="138462" y="5236"/>
                  </a:lnTo>
                  <a:lnTo>
                    <a:pt x="131548" y="7760"/>
                  </a:lnTo>
                  <a:lnTo>
                    <a:pt x="126633" y="11352"/>
                  </a:lnTo>
                  <a:lnTo>
                    <a:pt x="124137" y="14341"/>
                  </a:lnTo>
                  <a:lnTo>
                    <a:pt x="121626" y="18027"/>
                  </a:lnTo>
                  <a:lnTo>
                    <a:pt x="119106" y="22178"/>
                  </a:lnTo>
                  <a:lnTo>
                    <a:pt x="115732" y="25792"/>
                  </a:lnTo>
                  <a:lnTo>
                    <a:pt x="111790" y="29048"/>
                  </a:lnTo>
                  <a:lnTo>
                    <a:pt x="107469" y="32065"/>
                  </a:lnTo>
                  <a:lnTo>
                    <a:pt x="102894" y="34923"/>
                  </a:lnTo>
                  <a:lnTo>
                    <a:pt x="98151" y="37676"/>
                  </a:lnTo>
                  <a:lnTo>
                    <a:pt x="93296" y="40357"/>
                  </a:lnTo>
                  <a:lnTo>
                    <a:pt x="88365" y="43838"/>
                  </a:lnTo>
                  <a:lnTo>
                    <a:pt x="83386" y="47852"/>
                  </a:lnTo>
                  <a:lnTo>
                    <a:pt x="78372" y="52222"/>
                  </a:lnTo>
                  <a:lnTo>
                    <a:pt x="72490" y="55981"/>
                  </a:lnTo>
                  <a:lnTo>
                    <a:pt x="66028" y="59334"/>
                  </a:lnTo>
                  <a:lnTo>
                    <a:pt x="59180" y="62416"/>
                  </a:lnTo>
                  <a:lnTo>
                    <a:pt x="53769" y="65317"/>
                  </a:lnTo>
                  <a:lnTo>
                    <a:pt x="49314" y="68098"/>
                  </a:lnTo>
                  <a:lnTo>
                    <a:pt x="45498" y="70799"/>
                  </a:lnTo>
                  <a:lnTo>
                    <a:pt x="41261" y="73446"/>
                  </a:lnTo>
                  <a:lnTo>
                    <a:pt x="36742" y="76057"/>
                  </a:lnTo>
                  <a:lnTo>
                    <a:pt x="32036" y="78645"/>
                  </a:lnTo>
                  <a:lnTo>
                    <a:pt x="28052" y="80370"/>
                  </a:lnTo>
                  <a:lnTo>
                    <a:pt x="21369" y="82287"/>
                  </a:lnTo>
                  <a:lnTo>
                    <a:pt x="17554" y="83644"/>
                  </a:lnTo>
                  <a:lnTo>
                    <a:pt x="13318" y="85396"/>
                  </a:lnTo>
                  <a:lnTo>
                    <a:pt x="0" y="91335"/>
                  </a:lnTo>
                  <a:lnTo>
                    <a:pt x="3880" y="91409"/>
                  </a:lnTo>
                  <a:lnTo>
                    <a:pt x="10343" y="89168"/>
                  </a:lnTo>
                  <a:lnTo>
                    <a:pt x="14437" y="87386"/>
                  </a:lnTo>
                  <a:lnTo>
                    <a:pt x="21243" y="85404"/>
                  </a:lnTo>
                  <a:lnTo>
                    <a:pt x="27938" y="84524"/>
                  </a:lnTo>
                  <a:lnTo>
                    <a:pt x="32094" y="84290"/>
                  </a:lnTo>
                  <a:lnTo>
                    <a:pt x="36557" y="84133"/>
                  </a:lnTo>
                  <a:lnTo>
                    <a:pt x="54975" y="83913"/>
                  </a:lnTo>
                  <a:lnTo>
                    <a:pt x="76519" y="83848"/>
                  </a:lnTo>
                  <a:lnTo>
                    <a:pt x="83954" y="84685"/>
                  </a:lnTo>
                  <a:lnTo>
                    <a:pt x="91451" y="86090"/>
                  </a:lnTo>
                  <a:lnTo>
                    <a:pt x="98989" y="87873"/>
                  </a:lnTo>
                  <a:lnTo>
                    <a:pt x="106555" y="89909"/>
                  </a:lnTo>
                  <a:lnTo>
                    <a:pt x="121734" y="94428"/>
                  </a:lnTo>
                  <a:lnTo>
                    <a:pt x="144560" y="101733"/>
                  </a:lnTo>
                  <a:lnTo>
                    <a:pt x="151328" y="104228"/>
                  </a:lnTo>
                  <a:lnTo>
                    <a:pt x="157534" y="106739"/>
                  </a:lnTo>
                  <a:lnTo>
                    <a:pt x="163364" y="109260"/>
                  </a:lnTo>
                  <a:lnTo>
                    <a:pt x="174358" y="114317"/>
                  </a:lnTo>
                  <a:lnTo>
                    <a:pt x="195213" y="124464"/>
                  </a:lnTo>
                  <a:lnTo>
                    <a:pt x="200337" y="127849"/>
                  </a:lnTo>
                  <a:lnTo>
                    <a:pt x="205446" y="131799"/>
                  </a:lnTo>
                  <a:lnTo>
                    <a:pt x="210546" y="136126"/>
                  </a:lnTo>
                  <a:lnTo>
                    <a:pt x="214793" y="139858"/>
                  </a:lnTo>
                  <a:lnTo>
                    <a:pt x="221769" y="146261"/>
                  </a:lnTo>
                  <a:lnTo>
                    <a:pt x="223968" y="149154"/>
                  </a:lnTo>
                  <a:lnTo>
                    <a:pt x="226411" y="154627"/>
                  </a:lnTo>
                  <a:lnTo>
                    <a:pt x="229755" y="159880"/>
                  </a:lnTo>
                  <a:lnTo>
                    <a:pt x="234754" y="166108"/>
                  </a:lnTo>
                  <a:lnTo>
                    <a:pt x="235438" y="169217"/>
                  </a:lnTo>
                  <a:lnTo>
                    <a:pt x="235742" y="173421"/>
                  </a:lnTo>
                  <a:lnTo>
                    <a:pt x="235954" y="181467"/>
                  </a:lnTo>
                  <a:lnTo>
                    <a:pt x="235986" y="1905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MARTInkAnnotation181"/>
            <p:cNvSpPr/>
            <p:nvPr/>
          </p:nvSpPr>
          <p:spPr>
            <a:xfrm>
              <a:off x="6225120" y="3649680"/>
              <a:ext cx="228240" cy="75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28601" h="7621">
                  <a:moveTo>
                    <a:pt x="0" y="0"/>
                  </a:moveTo>
                  <a:lnTo>
                    <a:pt x="179989" y="0"/>
                  </a:lnTo>
                  <a:lnTo>
                    <a:pt x="185186" y="847"/>
                  </a:lnTo>
                  <a:lnTo>
                    <a:pt x="190344" y="2258"/>
                  </a:lnTo>
                  <a:lnTo>
                    <a:pt x="195476" y="4045"/>
                  </a:lnTo>
                  <a:lnTo>
                    <a:pt x="200590" y="5237"/>
                  </a:lnTo>
                  <a:lnTo>
                    <a:pt x="205693" y="6031"/>
                  </a:lnTo>
                  <a:lnTo>
                    <a:pt x="217960" y="7306"/>
                  </a:lnTo>
                  <a:lnTo>
                    <a:pt x="221896" y="7481"/>
                  </a:lnTo>
                  <a:lnTo>
                    <a:pt x="22860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MARTInkAnnotation182"/>
            <p:cNvSpPr/>
            <p:nvPr/>
          </p:nvSpPr>
          <p:spPr>
            <a:xfrm>
              <a:off x="6278400" y="3702960"/>
              <a:ext cx="159840" cy="15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0021" h="15241">
                  <a:moveTo>
                    <a:pt x="0" y="15240"/>
                  </a:moveTo>
                  <a:lnTo>
                    <a:pt x="55302" y="15240"/>
                  </a:lnTo>
                  <a:lnTo>
                    <a:pt x="62269" y="14393"/>
                  </a:lnTo>
                  <a:lnTo>
                    <a:pt x="69452" y="12983"/>
                  </a:lnTo>
                  <a:lnTo>
                    <a:pt x="76781" y="11195"/>
                  </a:lnTo>
                  <a:lnTo>
                    <a:pt x="83361" y="10004"/>
                  </a:lnTo>
                  <a:lnTo>
                    <a:pt x="89441" y="9209"/>
                  </a:lnTo>
                  <a:lnTo>
                    <a:pt x="95188" y="8679"/>
                  </a:lnTo>
                  <a:lnTo>
                    <a:pt x="101558" y="8326"/>
                  </a:lnTo>
                  <a:lnTo>
                    <a:pt x="115410" y="7934"/>
                  </a:lnTo>
                  <a:lnTo>
                    <a:pt x="135968" y="7662"/>
                  </a:lnTo>
                  <a:lnTo>
                    <a:pt x="138906" y="7648"/>
                  </a:lnTo>
                  <a:lnTo>
                    <a:pt x="141710" y="6792"/>
                  </a:lnTo>
                  <a:lnTo>
                    <a:pt x="144427" y="5375"/>
                  </a:lnTo>
                  <a:lnTo>
                    <a:pt x="147085" y="3583"/>
                  </a:lnTo>
                  <a:lnTo>
                    <a:pt x="149703" y="2389"/>
                  </a:lnTo>
                  <a:lnTo>
                    <a:pt x="152295" y="1593"/>
                  </a:lnTo>
                  <a:lnTo>
                    <a:pt x="1600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MARTInkAnnotation183"/>
            <p:cNvSpPr/>
            <p:nvPr/>
          </p:nvSpPr>
          <p:spPr>
            <a:xfrm>
              <a:off x="6613560" y="3603960"/>
              <a:ext cx="182520" cy="75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82881" h="7621">
                  <a:moveTo>
                    <a:pt x="0" y="7620"/>
                  </a:moveTo>
                  <a:lnTo>
                    <a:pt x="133543" y="7620"/>
                  </a:lnTo>
                  <a:lnTo>
                    <a:pt x="138135" y="6773"/>
                  </a:lnTo>
                  <a:lnTo>
                    <a:pt x="142044" y="5363"/>
                  </a:lnTo>
                  <a:lnTo>
                    <a:pt x="145496" y="3575"/>
                  </a:lnTo>
                  <a:lnTo>
                    <a:pt x="149491" y="2383"/>
                  </a:lnTo>
                  <a:lnTo>
                    <a:pt x="153847" y="1589"/>
                  </a:lnTo>
                  <a:lnTo>
                    <a:pt x="158445" y="1059"/>
                  </a:lnTo>
                  <a:lnTo>
                    <a:pt x="162357" y="706"/>
                  </a:lnTo>
                  <a:lnTo>
                    <a:pt x="165811" y="471"/>
                  </a:lnTo>
                  <a:lnTo>
                    <a:pt x="168961" y="314"/>
                  </a:lnTo>
                  <a:lnTo>
                    <a:pt x="174719" y="139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SMARTInkAnnotation184"/>
            <p:cNvSpPr/>
            <p:nvPr/>
          </p:nvSpPr>
          <p:spPr>
            <a:xfrm>
              <a:off x="6949080" y="3513600"/>
              <a:ext cx="220680" cy="1738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220981" h="174133">
                  <a:moveTo>
                    <a:pt x="0" y="21772"/>
                  </a:moveTo>
                  <a:lnTo>
                    <a:pt x="0" y="14466"/>
                  </a:lnTo>
                  <a:lnTo>
                    <a:pt x="4046" y="10200"/>
                  </a:lnTo>
                  <a:lnTo>
                    <a:pt x="6930" y="8977"/>
                  </a:lnTo>
                  <a:lnTo>
                    <a:pt x="10548" y="8163"/>
                  </a:lnTo>
                  <a:lnTo>
                    <a:pt x="14651" y="7619"/>
                  </a:lnTo>
                  <a:lnTo>
                    <a:pt x="21469" y="7015"/>
                  </a:lnTo>
                  <a:lnTo>
                    <a:pt x="24473" y="6854"/>
                  </a:lnTo>
                  <a:lnTo>
                    <a:pt x="28169" y="5900"/>
                  </a:lnTo>
                  <a:lnTo>
                    <a:pt x="32326" y="4418"/>
                  </a:lnTo>
                  <a:lnTo>
                    <a:pt x="36791" y="2582"/>
                  </a:lnTo>
                  <a:lnTo>
                    <a:pt x="42308" y="1359"/>
                  </a:lnTo>
                  <a:lnTo>
                    <a:pt x="48525" y="544"/>
                  </a:lnTo>
                  <a:lnTo>
                    <a:pt x="55211" y="0"/>
                  </a:lnTo>
                  <a:lnTo>
                    <a:pt x="62206" y="484"/>
                  </a:lnTo>
                  <a:lnTo>
                    <a:pt x="69411" y="1654"/>
                  </a:lnTo>
                  <a:lnTo>
                    <a:pt x="76754" y="3280"/>
                  </a:lnTo>
                  <a:lnTo>
                    <a:pt x="84190" y="4364"/>
                  </a:lnTo>
                  <a:lnTo>
                    <a:pt x="91688" y="5087"/>
                  </a:lnTo>
                  <a:lnTo>
                    <a:pt x="99225" y="5568"/>
                  </a:lnTo>
                  <a:lnTo>
                    <a:pt x="112117" y="6104"/>
                  </a:lnTo>
                  <a:lnTo>
                    <a:pt x="117924" y="6247"/>
                  </a:lnTo>
                  <a:lnTo>
                    <a:pt x="123490" y="7188"/>
                  </a:lnTo>
                  <a:lnTo>
                    <a:pt x="128893" y="8663"/>
                  </a:lnTo>
                  <a:lnTo>
                    <a:pt x="134188" y="10493"/>
                  </a:lnTo>
                  <a:lnTo>
                    <a:pt x="139413" y="12559"/>
                  </a:lnTo>
                  <a:lnTo>
                    <a:pt x="144589" y="14784"/>
                  </a:lnTo>
                  <a:lnTo>
                    <a:pt x="156972" y="20392"/>
                  </a:lnTo>
                  <a:lnTo>
                    <a:pt x="163162" y="25408"/>
                  </a:lnTo>
                  <a:lnTo>
                    <a:pt x="164655" y="27583"/>
                  </a:lnTo>
                  <a:lnTo>
                    <a:pt x="166314" y="32257"/>
                  </a:lnTo>
                  <a:lnTo>
                    <a:pt x="165063" y="34689"/>
                  </a:lnTo>
                  <a:lnTo>
                    <a:pt x="159156" y="39648"/>
                  </a:lnTo>
                  <a:lnTo>
                    <a:pt x="153145" y="44675"/>
                  </a:lnTo>
                  <a:lnTo>
                    <a:pt x="146804" y="49731"/>
                  </a:lnTo>
                  <a:lnTo>
                    <a:pt x="142743" y="52265"/>
                  </a:lnTo>
                  <a:lnTo>
                    <a:pt x="138343" y="54801"/>
                  </a:lnTo>
                  <a:lnTo>
                    <a:pt x="132869" y="57338"/>
                  </a:lnTo>
                  <a:lnTo>
                    <a:pt x="126679" y="59876"/>
                  </a:lnTo>
                  <a:lnTo>
                    <a:pt x="120012" y="62415"/>
                  </a:lnTo>
                  <a:lnTo>
                    <a:pt x="113875" y="65801"/>
                  </a:lnTo>
                  <a:lnTo>
                    <a:pt x="108091" y="69751"/>
                  </a:lnTo>
                  <a:lnTo>
                    <a:pt x="102540" y="74078"/>
                  </a:lnTo>
                  <a:lnTo>
                    <a:pt x="95453" y="77810"/>
                  </a:lnTo>
                  <a:lnTo>
                    <a:pt x="87344" y="81144"/>
                  </a:lnTo>
                  <a:lnTo>
                    <a:pt x="78549" y="84213"/>
                  </a:lnTo>
                  <a:lnTo>
                    <a:pt x="70992" y="87953"/>
                  </a:lnTo>
                  <a:lnTo>
                    <a:pt x="64261" y="92139"/>
                  </a:lnTo>
                  <a:lnTo>
                    <a:pt x="58081" y="96624"/>
                  </a:lnTo>
                  <a:lnTo>
                    <a:pt x="52268" y="101306"/>
                  </a:lnTo>
                  <a:lnTo>
                    <a:pt x="46700" y="106122"/>
                  </a:lnTo>
                  <a:lnTo>
                    <a:pt x="41293" y="111025"/>
                  </a:lnTo>
                  <a:lnTo>
                    <a:pt x="35996" y="115141"/>
                  </a:lnTo>
                  <a:lnTo>
                    <a:pt x="30770" y="118731"/>
                  </a:lnTo>
                  <a:lnTo>
                    <a:pt x="25594" y="121972"/>
                  </a:lnTo>
                  <a:lnTo>
                    <a:pt x="21297" y="124978"/>
                  </a:lnTo>
                  <a:lnTo>
                    <a:pt x="17585" y="127830"/>
                  </a:lnTo>
                  <a:lnTo>
                    <a:pt x="14263" y="130577"/>
                  </a:lnTo>
                  <a:lnTo>
                    <a:pt x="11203" y="134102"/>
                  </a:lnTo>
                  <a:lnTo>
                    <a:pt x="8316" y="138145"/>
                  </a:lnTo>
                  <a:lnTo>
                    <a:pt x="5544" y="142534"/>
                  </a:lnTo>
                  <a:lnTo>
                    <a:pt x="3696" y="146307"/>
                  </a:lnTo>
                  <a:lnTo>
                    <a:pt x="2465" y="149669"/>
                  </a:lnTo>
                  <a:lnTo>
                    <a:pt x="1643" y="152757"/>
                  </a:lnTo>
                  <a:lnTo>
                    <a:pt x="1943" y="155662"/>
                  </a:lnTo>
                  <a:lnTo>
                    <a:pt x="2988" y="158445"/>
                  </a:lnTo>
                  <a:lnTo>
                    <a:pt x="4532" y="161148"/>
                  </a:lnTo>
                  <a:lnTo>
                    <a:pt x="10763" y="166408"/>
                  </a:lnTo>
                  <a:lnTo>
                    <a:pt x="14795" y="168996"/>
                  </a:lnTo>
                  <a:lnTo>
                    <a:pt x="19177" y="170721"/>
                  </a:lnTo>
                  <a:lnTo>
                    <a:pt x="23792" y="171871"/>
                  </a:lnTo>
                  <a:lnTo>
                    <a:pt x="28561" y="172638"/>
                  </a:lnTo>
                  <a:lnTo>
                    <a:pt x="33435" y="173150"/>
                  </a:lnTo>
                  <a:lnTo>
                    <a:pt x="38377" y="173490"/>
                  </a:lnTo>
                  <a:lnTo>
                    <a:pt x="43365" y="173718"/>
                  </a:lnTo>
                  <a:lnTo>
                    <a:pt x="70611" y="174037"/>
                  </a:lnTo>
                  <a:lnTo>
                    <a:pt x="101450" y="174132"/>
                  </a:lnTo>
                  <a:lnTo>
                    <a:pt x="110813" y="173299"/>
                  </a:lnTo>
                  <a:lnTo>
                    <a:pt x="119595" y="171897"/>
                  </a:lnTo>
                  <a:lnTo>
                    <a:pt x="160031" y="163562"/>
                  </a:lnTo>
                  <a:lnTo>
                    <a:pt x="169341" y="162019"/>
                  </a:lnTo>
                  <a:lnTo>
                    <a:pt x="177240" y="160990"/>
                  </a:lnTo>
                  <a:lnTo>
                    <a:pt x="184201" y="160304"/>
                  </a:lnTo>
                  <a:lnTo>
                    <a:pt x="191380" y="159000"/>
                  </a:lnTo>
                  <a:lnTo>
                    <a:pt x="198707" y="157284"/>
                  </a:lnTo>
                  <a:lnTo>
                    <a:pt x="220980" y="151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MARTInkAnnotation185"/>
            <p:cNvSpPr/>
            <p:nvPr/>
          </p:nvSpPr>
          <p:spPr>
            <a:xfrm>
              <a:off x="7262640" y="3489840"/>
              <a:ext cx="219600" cy="1137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19694" h="113937">
                  <a:moveTo>
                    <a:pt x="52053" y="7617"/>
                  </a:moveTo>
                  <a:lnTo>
                    <a:pt x="59580" y="90"/>
                  </a:lnTo>
                  <a:lnTo>
                    <a:pt x="66227" y="5"/>
                  </a:lnTo>
                  <a:lnTo>
                    <a:pt x="62931" y="0"/>
                  </a:lnTo>
                  <a:lnTo>
                    <a:pt x="61846" y="845"/>
                  </a:lnTo>
                  <a:lnTo>
                    <a:pt x="61121" y="2256"/>
                  </a:lnTo>
                  <a:lnTo>
                    <a:pt x="60639" y="4043"/>
                  </a:lnTo>
                  <a:lnTo>
                    <a:pt x="59470" y="5235"/>
                  </a:lnTo>
                  <a:lnTo>
                    <a:pt x="57844" y="6029"/>
                  </a:lnTo>
                  <a:lnTo>
                    <a:pt x="55914" y="6558"/>
                  </a:lnTo>
                  <a:lnTo>
                    <a:pt x="54626" y="7758"/>
                  </a:lnTo>
                  <a:lnTo>
                    <a:pt x="53768" y="9404"/>
                  </a:lnTo>
                  <a:lnTo>
                    <a:pt x="53197" y="11348"/>
                  </a:lnTo>
                  <a:lnTo>
                    <a:pt x="51122" y="14338"/>
                  </a:lnTo>
                  <a:lnTo>
                    <a:pt x="48045" y="18024"/>
                  </a:lnTo>
                  <a:lnTo>
                    <a:pt x="44301" y="22175"/>
                  </a:lnTo>
                  <a:lnTo>
                    <a:pt x="40959" y="26636"/>
                  </a:lnTo>
                  <a:lnTo>
                    <a:pt x="37883" y="31303"/>
                  </a:lnTo>
                  <a:lnTo>
                    <a:pt x="34987" y="36107"/>
                  </a:lnTo>
                  <a:lnTo>
                    <a:pt x="32208" y="40157"/>
                  </a:lnTo>
                  <a:lnTo>
                    <a:pt x="29510" y="43704"/>
                  </a:lnTo>
                  <a:lnTo>
                    <a:pt x="26865" y="46915"/>
                  </a:lnTo>
                  <a:lnTo>
                    <a:pt x="23407" y="50749"/>
                  </a:lnTo>
                  <a:lnTo>
                    <a:pt x="15050" y="59525"/>
                  </a:lnTo>
                  <a:lnTo>
                    <a:pt x="12145" y="63389"/>
                  </a:lnTo>
                  <a:lnTo>
                    <a:pt x="10207" y="66811"/>
                  </a:lnTo>
                  <a:lnTo>
                    <a:pt x="8915" y="69940"/>
                  </a:lnTo>
                  <a:lnTo>
                    <a:pt x="7208" y="72873"/>
                  </a:lnTo>
                  <a:lnTo>
                    <a:pt x="5223" y="75674"/>
                  </a:lnTo>
                  <a:lnTo>
                    <a:pt x="3053" y="78389"/>
                  </a:lnTo>
                  <a:lnTo>
                    <a:pt x="1606" y="81891"/>
                  </a:lnTo>
                  <a:lnTo>
                    <a:pt x="641" y="85920"/>
                  </a:lnTo>
                  <a:lnTo>
                    <a:pt x="0" y="90299"/>
                  </a:lnTo>
                  <a:lnTo>
                    <a:pt x="417" y="94065"/>
                  </a:lnTo>
                  <a:lnTo>
                    <a:pt x="1543" y="97422"/>
                  </a:lnTo>
                  <a:lnTo>
                    <a:pt x="3139" y="100507"/>
                  </a:lnTo>
                  <a:lnTo>
                    <a:pt x="5050" y="102564"/>
                  </a:lnTo>
                  <a:lnTo>
                    <a:pt x="7171" y="103935"/>
                  </a:lnTo>
                  <a:lnTo>
                    <a:pt x="9432" y="104849"/>
                  </a:lnTo>
                  <a:lnTo>
                    <a:pt x="14201" y="108122"/>
                  </a:lnTo>
                  <a:lnTo>
                    <a:pt x="16658" y="110180"/>
                  </a:lnTo>
                  <a:lnTo>
                    <a:pt x="20836" y="111553"/>
                  </a:lnTo>
                  <a:lnTo>
                    <a:pt x="26162" y="112468"/>
                  </a:lnTo>
                  <a:lnTo>
                    <a:pt x="32253" y="113078"/>
                  </a:lnTo>
                  <a:lnTo>
                    <a:pt x="38853" y="113484"/>
                  </a:lnTo>
                  <a:lnTo>
                    <a:pt x="52959" y="113936"/>
                  </a:lnTo>
                  <a:lnTo>
                    <a:pt x="61124" y="113210"/>
                  </a:lnTo>
                  <a:lnTo>
                    <a:pt x="69953" y="111879"/>
                  </a:lnTo>
                  <a:lnTo>
                    <a:pt x="79227" y="110145"/>
                  </a:lnTo>
                  <a:lnTo>
                    <a:pt x="88796" y="108989"/>
                  </a:lnTo>
                  <a:lnTo>
                    <a:pt x="98561" y="108219"/>
                  </a:lnTo>
                  <a:lnTo>
                    <a:pt x="108458" y="107705"/>
                  </a:lnTo>
                  <a:lnTo>
                    <a:pt x="118444" y="106516"/>
                  </a:lnTo>
                  <a:lnTo>
                    <a:pt x="128486" y="104876"/>
                  </a:lnTo>
                  <a:lnTo>
                    <a:pt x="138569" y="102936"/>
                  </a:lnTo>
                  <a:lnTo>
                    <a:pt x="147831" y="99950"/>
                  </a:lnTo>
                  <a:lnTo>
                    <a:pt x="156544" y="96266"/>
                  </a:lnTo>
                  <a:lnTo>
                    <a:pt x="164894" y="92116"/>
                  </a:lnTo>
                  <a:lnTo>
                    <a:pt x="173001" y="88503"/>
                  </a:lnTo>
                  <a:lnTo>
                    <a:pt x="180945" y="85248"/>
                  </a:lnTo>
                  <a:lnTo>
                    <a:pt x="188781" y="82231"/>
                  </a:lnTo>
                  <a:lnTo>
                    <a:pt x="195699" y="80219"/>
                  </a:lnTo>
                  <a:lnTo>
                    <a:pt x="202004" y="78879"/>
                  </a:lnTo>
                  <a:lnTo>
                    <a:pt x="207899" y="77985"/>
                  </a:lnTo>
                  <a:lnTo>
                    <a:pt x="211832" y="76542"/>
                  </a:lnTo>
                  <a:lnTo>
                    <a:pt x="214452" y="74734"/>
                  </a:lnTo>
                  <a:lnTo>
                    <a:pt x="219693" y="685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MARTInkAnnotation186"/>
            <p:cNvSpPr/>
            <p:nvPr/>
          </p:nvSpPr>
          <p:spPr>
            <a:xfrm>
              <a:off x="7413840" y="3474360"/>
              <a:ext cx="75960" cy="2512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76201" h="251461">
                  <a:moveTo>
                    <a:pt x="76200" y="0"/>
                  </a:moveTo>
                  <a:lnTo>
                    <a:pt x="76200" y="4045"/>
                  </a:lnTo>
                  <a:lnTo>
                    <a:pt x="75353" y="6083"/>
                  </a:lnTo>
                  <a:lnTo>
                    <a:pt x="73942" y="8289"/>
                  </a:lnTo>
                  <a:lnTo>
                    <a:pt x="72155" y="10606"/>
                  </a:lnTo>
                  <a:lnTo>
                    <a:pt x="70116" y="12997"/>
                  </a:lnTo>
                  <a:lnTo>
                    <a:pt x="67911" y="15439"/>
                  </a:lnTo>
                  <a:lnTo>
                    <a:pt x="65594" y="17912"/>
                  </a:lnTo>
                  <a:lnTo>
                    <a:pt x="63203" y="21255"/>
                  </a:lnTo>
                  <a:lnTo>
                    <a:pt x="60762" y="25176"/>
                  </a:lnTo>
                  <a:lnTo>
                    <a:pt x="58288" y="29484"/>
                  </a:lnTo>
                  <a:lnTo>
                    <a:pt x="55792" y="34896"/>
                  </a:lnTo>
                  <a:lnTo>
                    <a:pt x="53282" y="41044"/>
                  </a:lnTo>
                  <a:lnTo>
                    <a:pt x="50761" y="47683"/>
                  </a:lnTo>
                  <a:lnTo>
                    <a:pt x="48234" y="53802"/>
                  </a:lnTo>
                  <a:lnTo>
                    <a:pt x="45702" y="59575"/>
                  </a:lnTo>
                  <a:lnTo>
                    <a:pt x="43169" y="65117"/>
                  </a:lnTo>
                  <a:lnTo>
                    <a:pt x="40632" y="71351"/>
                  </a:lnTo>
                  <a:lnTo>
                    <a:pt x="38095" y="78047"/>
                  </a:lnTo>
                  <a:lnTo>
                    <a:pt x="33017" y="92261"/>
                  </a:lnTo>
                  <a:lnTo>
                    <a:pt x="20320" y="129648"/>
                  </a:lnTo>
                  <a:lnTo>
                    <a:pt x="17779" y="136386"/>
                  </a:lnTo>
                  <a:lnTo>
                    <a:pt x="15240" y="142570"/>
                  </a:lnTo>
                  <a:lnTo>
                    <a:pt x="12700" y="148387"/>
                  </a:lnTo>
                  <a:lnTo>
                    <a:pt x="10160" y="154805"/>
                  </a:lnTo>
                  <a:lnTo>
                    <a:pt x="5079" y="168709"/>
                  </a:lnTo>
                  <a:lnTo>
                    <a:pt x="3386" y="175973"/>
                  </a:lnTo>
                  <a:lnTo>
                    <a:pt x="2259" y="183355"/>
                  </a:lnTo>
                  <a:lnTo>
                    <a:pt x="1505" y="190817"/>
                  </a:lnTo>
                  <a:lnTo>
                    <a:pt x="1004" y="198331"/>
                  </a:lnTo>
                  <a:lnTo>
                    <a:pt x="669" y="205881"/>
                  </a:lnTo>
                  <a:lnTo>
                    <a:pt x="132" y="228157"/>
                  </a:lnTo>
                  <a:lnTo>
                    <a:pt x="0" y="251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following Two-Step Equations and check your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152280" y="1905120"/>
          <a:ext cx="27561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27561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876920" y="1905120"/>
          <a:ext cx="2361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905120"/>
                    <a:ext cx="236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Group 5156"/>
          <p:cNvGrpSpPr/>
          <p:nvPr/>
        </p:nvGrpSpPr>
        <p:grpSpPr>
          <a:xfrm>
            <a:off x="98280" y="2454120"/>
            <a:ext cx="8025120" cy="1554480"/>
            <a:chOff x="98280" y="2454120"/>
            <a:chExt cx="8025120" cy="1554480"/>
          </a:xfrm>
        </p:grpSpPr>
        <p:sp>
          <p:nvSpPr>
            <p:cNvPr id="174" name="SMARTInkAnnotation39"/>
            <p:cNvSpPr/>
            <p:nvPr/>
          </p:nvSpPr>
          <p:spPr>
            <a:xfrm>
              <a:off x="966960" y="2881080"/>
              <a:ext cx="266400" cy="1440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66701" h="144248">
                  <a:moveTo>
                    <a:pt x="30480" y="7225"/>
                  </a:moveTo>
                  <a:lnTo>
                    <a:pt x="30480" y="25358"/>
                  </a:lnTo>
                  <a:lnTo>
                    <a:pt x="29633" y="27780"/>
                  </a:lnTo>
                  <a:lnTo>
                    <a:pt x="28222" y="30242"/>
                  </a:lnTo>
                  <a:lnTo>
                    <a:pt x="26435" y="32730"/>
                  </a:lnTo>
                  <a:lnTo>
                    <a:pt x="25243" y="35235"/>
                  </a:lnTo>
                  <a:lnTo>
                    <a:pt x="24449" y="37752"/>
                  </a:lnTo>
                  <a:lnTo>
                    <a:pt x="23919" y="40276"/>
                  </a:lnTo>
                  <a:lnTo>
                    <a:pt x="22720" y="44499"/>
                  </a:lnTo>
                  <a:lnTo>
                    <a:pt x="19129" y="55965"/>
                  </a:lnTo>
                  <a:lnTo>
                    <a:pt x="17832" y="61732"/>
                  </a:lnTo>
                  <a:lnTo>
                    <a:pt x="16968" y="67270"/>
                  </a:lnTo>
                  <a:lnTo>
                    <a:pt x="16392" y="72654"/>
                  </a:lnTo>
                  <a:lnTo>
                    <a:pt x="16008" y="77938"/>
                  </a:lnTo>
                  <a:lnTo>
                    <a:pt x="15752" y="83154"/>
                  </a:lnTo>
                  <a:lnTo>
                    <a:pt x="15581" y="88324"/>
                  </a:lnTo>
                  <a:lnTo>
                    <a:pt x="14621" y="94311"/>
                  </a:lnTo>
                  <a:lnTo>
                    <a:pt x="13134" y="100842"/>
                  </a:lnTo>
                  <a:lnTo>
                    <a:pt x="11296" y="107736"/>
                  </a:lnTo>
                  <a:lnTo>
                    <a:pt x="9224" y="113180"/>
                  </a:lnTo>
                  <a:lnTo>
                    <a:pt x="6996" y="117654"/>
                  </a:lnTo>
                  <a:lnTo>
                    <a:pt x="4664" y="121485"/>
                  </a:lnTo>
                  <a:lnTo>
                    <a:pt x="3109" y="124885"/>
                  </a:lnTo>
                  <a:lnTo>
                    <a:pt x="2073" y="127998"/>
                  </a:lnTo>
                  <a:lnTo>
                    <a:pt x="1382" y="130920"/>
                  </a:lnTo>
                  <a:lnTo>
                    <a:pt x="921" y="133715"/>
                  </a:lnTo>
                  <a:lnTo>
                    <a:pt x="614" y="136425"/>
                  </a:lnTo>
                  <a:lnTo>
                    <a:pt x="11" y="144247"/>
                  </a:lnTo>
                  <a:lnTo>
                    <a:pt x="0" y="122424"/>
                  </a:lnTo>
                  <a:lnTo>
                    <a:pt x="847" y="117045"/>
                  </a:lnTo>
                  <a:lnTo>
                    <a:pt x="2258" y="110918"/>
                  </a:lnTo>
                  <a:lnTo>
                    <a:pt x="4045" y="104293"/>
                  </a:lnTo>
                  <a:lnTo>
                    <a:pt x="6084" y="98184"/>
                  </a:lnTo>
                  <a:lnTo>
                    <a:pt x="8289" y="92418"/>
                  </a:lnTo>
                  <a:lnTo>
                    <a:pt x="10606" y="86880"/>
                  </a:lnTo>
                  <a:lnTo>
                    <a:pt x="12998" y="80648"/>
                  </a:lnTo>
                  <a:lnTo>
                    <a:pt x="17912" y="66951"/>
                  </a:lnTo>
                  <a:lnTo>
                    <a:pt x="21255" y="59742"/>
                  </a:lnTo>
                  <a:lnTo>
                    <a:pt x="25177" y="52397"/>
                  </a:lnTo>
                  <a:lnTo>
                    <a:pt x="29484" y="44960"/>
                  </a:lnTo>
                  <a:lnTo>
                    <a:pt x="34050" y="39155"/>
                  </a:lnTo>
                  <a:lnTo>
                    <a:pt x="38787" y="34438"/>
                  </a:lnTo>
                  <a:lnTo>
                    <a:pt x="43638" y="30447"/>
                  </a:lnTo>
                  <a:lnTo>
                    <a:pt x="47719" y="26093"/>
                  </a:lnTo>
                  <a:lnTo>
                    <a:pt x="51286" y="21497"/>
                  </a:lnTo>
                  <a:lnTo>
                    <a:pt x="54511" y="16740"/>
                  </a:lnTo>
                  <a:lnTo>
                    <a:pt x="58354" y="13569"/>
                  </a:lnTo>
                  <a:lnTo>
                    <a:pt x="62609" y="11454"/>
                  </a:lnTo>
                  <a:lnTo>
                    <a:pt x="67139" y="10044"/>
                  </a:lnTo>
                  <a:lnTo>
                    <a:pt x="71853" y="9105"/>
                  </a:lnTo>
                  <a:lnTo>
                    <a:pt x="76689" y="8478"/>
                  </a:lnTo>
                  <a:lnTo>
                    <a:pt x="81606" y="8061"/>
                  </a:lnTo>
                  <a:lnTo>
                    <a:pt x="89327" y="7596"/>
                  </a:lnTo>
                  <a:lnTo>
                    <a:pt x="95581" y="7390"/>
                  </a:lnTo>
                  <a:lnTo>
                    <a:pt x="101183" y="7298"/>
                  </a:lnTo>
                  <a:lnTo>
                    <a:pt x="103862" y="8967"/>
                  </a:lnTo>
                  <a:lnTo>
                    <a:pt x="106495" y="11773"/>
                  </a:lnTo>
                  <a:lnTo>
                    <a:pt x="109096" y="15337"/>
                  </a:lnTo>
                  <a:lnTo>
                    <a:pt x="110831" y="18560"/>
                  </a:lnTo>
                  <a:lnTo>
                    <a:pt x="111988" y="21555"/>
                  </a:lnTo>
                  <a:lnTo>
                    <a:pt x="112758" y="24398"/>
                  </a:lnTo>
                  <a:lnTo>
                    <a:pt x="113272" y="27987"/>
                  </a:lnTo>
                  <a:lnTo>
                    <a:pt x="113615" y="32073"/>
                  </a:lnTo>
                  <a:lnTo>
                    <a:pt x="113843" y="36491"/>
                  </a:lnTo>
                  <a:lnTo>
                    <a:pt x="114097" y="45914"/>
                  </a:lnTo>
                  <a:lnTo>
                    <a:pt x="114297" y="92090"/>
                  </a:lnTo>
                  <a:lnTo>
                    <a:pt x="113451" y="94281"/>
                  </a:lnTo>
                  <a:lnTo>
                    <a:pt x="112041" y="95743"/>
                  </a:lnTo>
                  <a:lnTo>
                    <a:pt x="110254" y="96717"/>
                  </a:lnTo>
                  <a:lnTo>
                    <a:pt x="109063" y="98213"/>
                  </a:lnTo>
                  <a:lnTo>
                    <a:pt x="108268" y="100057"/>
                  </a:lnTo>
                  <a:lnTo>
                    <a:pt x="107739" y="102133"/>
                  </a:lnTo>
                  <a:lnTo>
                    <a:pt x="108233" y="102670"/>
                  </a:lnTo>
                  <a:lnTo>
                    <a:pt x="109408" y="102182"/>
                  </a:lnTo>
                  <a:lnTo>
                    <a:pt x="113334" y="99360"/>
                  </a:lnTo>
                  <a:lnTo>
                    <a:pt x="113656" y="98282"/>
                  </a:lnTo>
                  <a:lnTo>
                    <a:pt x="114014" y="94826"/>
                  </a:lnTo>
                  <a:lnTo>
                    <a:pt x="115803" y="91872"/>
                  </a:lnTo>
                  <a:lnTo>
                    <a:pt x="118688" y="88210"/>
                  </a:lnTo>
                  <a:lnTo>
                    <a:pt x="122305" y="84075"/>
                  </a:lnTo>
                  <a:lnTo>
                    <a:pt x="125564" y="79625"/>
                  </a:lnTo>
                  <a:lnTo>
                    <a:pt x="128583" y="74965"/>
                  </a:lnTo>
                  <a:lnTo>
                    <a:pt x="131442" y="70165"/>
                  </a:lnTo>
                  <a:lnTo>
                    <a:pt x="134194" y="64425"/>
                  </a:lnTo>
                  <a:lnTo>
                    <a:pt x="136876" y="58058"/>
                  </a:lnTo>
                  <a:lnTo>
                    <a:pt x="139511" y="51274"/>
                  </a:lnTo>
                  <a:lnTo>
                    <a:pt x="142961" y="45057"/>
                  </a:lnTo>
                  <a:lnTo>
                    <a:pt x="146954" y="39220"/>
                  </a:lnTo>
                  <a:lnTo>
                    <a:pt x="151309" y="33635"/>
                  </a:lnTo>
                  <a:lnTo>
                    <a:pt x="155059" y="28218"/>
                  </a:lnTo>
                  <a:lnTo>
                    <a:pt x="158406" y="22914"/>
                  </a:lnTo>
                  <a:lnTo>
                    <a:pt x="161484" y="17685"/>
                  </a:lnTo>
                  <a:lnTo>
                    <a:pt x="165229" y="14198"/>
                  </a:lnTo>
                  <a:lnTo>
                    <a:pt x="169420" y="11874"/>
                  </a:lnTo>
                  <a:lnTo>
                    <a:pt x="177744" y="8444"/>
                  </a:lnTo>
                  <a:lnTo>
                    <a:pt x="184266" y="4098"/>
                  </a:lnTo>
                  <a:lnTo>
                    <a:pt x="188653" y="937"/>
                  </a:lnTo>
                  <a:lnTo>
                    <a:pt x="191937" y="197"/>
                  </a:lnTo>
                  <a:lnTo>
                    <a:pt x="193998" y="0"/>
                  </a:lnTo>
                  <a:lnTo>
                    <a:pt x="196219" y="715"/>
                  </a:lnTo>
                  <a:lnTo>
                    <a:pt x="200944" y="3767"/>
                  </a:lnTo>
                  <a:lnTo>
                    <a:pt x="202542" y="6613"/>
                  </a:lnTo>
                  <a:lnTo>
                    <a:pt x="203608" y="10204"/>
                  </a:lnTo>
                  <a:lnTo>
                    <a:pt x="204319" y="14291"/>
                  </a:lnTo>
                  <a:lnTo>
                    <a:pt x="205639" y="17862"/>
                  </a:lnTo>
                  <a:lnTo>
                    <a:pt x="207366" y="21090"/>
                  </a:lnTo>
                  <a:lnTo>
                    <a:pt x="209364" y="24088"/>
                  </a:lnTo>
                  <a:lnTo>
                    <a:pt x="210696" y="28627"/>
                  </a:lnTo>
                  <a:lnTo>
                    <a:pt x="211584" y="34193"/>
                  </a:lnTo>
                  <a:lnTo>
                    <a:pt x="212176" y="40444"/>
                  </a:lnTo>
                  <a:lnTo>
                    <a:pt x="213418" y="46304"/>
                  </a:lnTo>
                  <a:lnTo>
                    <a:pt x="215091" y="51905"/>
                  </a:lnTo>
                  <a:lnTo>
                    <a:pt x="217055" y="57331"/>
                  </a:lnTo>
                  <a:lnTo>
                    <a:pt x="219210" y="62642"/>
                  </a:lnTo>
                  <a:lnTo>
                    <a:pt x="221493" y="67877"/>
                  </a:lnTo>
                  <a:lnTo>
                    <a:pt x="223862" y="73059"/>
                  </a:lnTo>
                  <a:lnTo>
                    <a:pt x="226288" y="77361"/>
                  </a:lnTo>
                  <a:lnTo>
                    <a:pt x="228752" y="81076"/>
                  </a:lnTo>
                  <a:lnTo>
                    <a:pt x="231241" y="84399"/>
                  </a:lnTo>
                  <a:lnTo>
                    <a:pt x="233748" y="87461"/>
                  </a:lnTo>
                  <a:lnTo>
                    <a:pt x="236265" y="90349"/>
                  </a:lnTo>
                  <a:lnTo>
                    <a:pt x="238790" y="93121"/>
                  </a:lnTo>
                  <a:lnTo>
                    <a:pt x="241320" y="94969"/>
                  </a:lnTo>
                  <a:lnTo>
                    <a:pt x="248926" y="98417"/>
                  </a:lnTo>
                  <a:lnTo>
                    <a:pt x="254003" y="102224"/>
                  </a:lnTo>
                  <a:lnTo>
                    <a:pt x="256542" y="103577"/>
                  </a:lnTo>
                  <a:lnTo>
                    <a:pt x="259081" y="104480"/>
                  </a:lnTo>
                  <a:lnTo>
                    <a:pt x="266700" y="1062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0"/>
            <p:cNvSpPr/>
            <p:nvPr/>
          </p:nvSpPr>
          <p:spPr>
            <a:xfrm>
              <a:off x="1279440" y="2903760"/>
              <a:ext cx="83520" cy="22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83821" h="22861">
                  <a:moveTo>
                    <a:pt x="0" y="0"/>
                  </a:moveTo>
                  <a:lnTo>
                    <a:pt x="0" y="4046"/>
                  </a:lnTo>
                  <a:lnTo>
                    <a:pt x="847" y="5237"/>
                  </a:lnTo>
                  <a:lnTo>
                    <a:pt x="2258" y="6031"/>
                  </a:lnTo>
                  <a:lnTo>
                    <a:pt x="6561" y="7306"/>
                  </a:lnTo>
                  <a:lnTo>
                    <a:pt x="7760" y="7411"/>
                  </a:lnTo>
                  <a:lnTo>
                    <a:pt x="9407" y="7480"/>
                  </a:lnTo>
                  <a:lnTo>
                    <a:pt x="11352" y="7527"/>
                  </a:lnTo>
                  <a:lnTo>
                    <a:pt x="12648" y="8405"/>
                  </a:lnTo>
                  <a:lnTo>
                    <a:pt x="13512" y="9837"/>
                  </a:lnTo>
                  <a:lnTo>
                    <a:pt x="14088" y="11638"/>
                  </a:lnTo>
                  <a:lnTo>
                    <a:pt x="16166" y="13685"/>
                  </a:lnTo>
                  <a:lnTo>
                    <a:pt x="19243" y="15897"/>
                  </a:lnTo>
                  <a:lnTo>
                    <a:pt x="22989" y="18218"/>
                  </a:lnTo>
                  <a:lnTo>
                    <a:pt x="26333" y="19766"/>
                  </a:lnTo>
                  <a:lnTo>
                    <a:pt x="29409" y="20797"/>
                  </a:lnTo>
                  <a:lnTo>
                    <a:pt x="32306" y="21485"/>
                  </a:lnTo>
                  <a:lnTo>
                    <a:pt x="35931" y="21943"/>
                  </a:lnTo>
                  <a:lnTo>
                    <a:pt x="40041" y="22249"/>
                  </a:lnTo>
                  <a:lnTo>
                    <a:pt x="44474" y="22453"/>
                  </a:lnTo>
                  <a:lnTo>
                    <a:pt x="53915" y="22679"/>
                  </a:lnTo>
                  <a:lnTo>
                    <a:pt x="83820" y="228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1"/>
            <p:cNvSpPr/>
            <p:nvPr/>
          </p:nvSpPr>
          <p:spPr>
            <a:xfrm>
              <a:off x="1325160" y="2949480"/>
              <a:ext cx="121680" cy="226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21921" h="22760">
                  <a:moveTo>
                    <a:pt x="0" y="0"/>
                  </a:moveTo>
                  <a:lnTo>
                    <a:pt x="0" y="11638"/>
                  </a:lnTo>
                  <a:lnTo>
                    <a:pt x="1694" y="12839"/>
                  </a:lnTo>
                  <a:lnTo>
                    <a:pt x="4516" y="13639"/>
                  </a:lnTo>
                  <a:lnTo>
                    <a:pt x="8091" y="14173"/>
                  </a:lnTo>
                  <a:lnTo>
                    <a:pt x="11320" y="15375"/>
                  </a:lnTo>
                  <a:lnTo>
                    <a:pt x="14320" y="17024"/>
                  </a:lnTo>
                  <a:lnTo>
                    <a:pt x="17167" y="18969"/>
                  </a:lnTo>
                  <a:lnTo>
                    <a:pt x="20758" y="20266"/>
                  </a:lnTo>
                  <a:lnTo>
                    <a:pt x="24846" y="21131"/>
                  </a:lnTo>
                  <a:lnTo>
                    <a:pt x="29264" y="21707"/>
                  </a:lnTo>
                  <a:lnTo>
                    <a:pt x="33903" y="22092"/>
                  </a:lnTo>
                  <a:lnTo>
                    <a:pt x="38689" y="22347"/>
                  </a:lnTo>
                  <a:lnTo>
                    <a:pt x="43572" y="22519"/>
                  </a:lnTo>
                  <a:lnTo>
                    <a:pt x="62581" y="22759"/>
                  </a:lnTo>
                  <a:lnTo>
                    <a:pt x="69661" y="21946"/>
                  </a:lnTo>
                  <a:lnTo>
                    <a:pt x="76921" y="20558"/>
                  </a:lnTo>
                  <a:lnTo>
                    <a:pt x="84300" y="18785"/>
                  </a:lnTo>
                  <a:lnTo>
                    <a:pt x="90067" y="17604"/>
                  </a:lnTo>
                  <a:lnTo>
                    <a:pt x="94758" y="16816"/>
                  </a:lnTo>
                  <a:lnTo>
                    <a:pt x="98732" y="16290"/>
                  </a:lnTo>
                  <a:lnTo>
                    <a:pt x="103075" y="15940"/>
                  </a:lnTo>
                  <a:lnTo>
                    <a:pt x="107663" y="15707"/>
                  </a:lnTo>
                  <a:lnTo>
                    <a:pt x="12192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2"/>
            <p:cNvSpPr/>
            <p:nvPr/>
          </p:nvSpPr>
          <p:spPr>
            <a:xfrm>
              <a:off x="1569240" y="2774160"/>
              <a:ext cx="136800" cy="910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37031" h="91337">
                  <a:moveTo>
                    <a:pt x="45590" y="0"/>
                  </a:moveTo>
                  <a:lnTo>
                    <a:pt x="45590" y="11351"/>
                  </a:lnTo>
                  <a:lnTo>
                    <a:pt x="44743" y="13494"/>
                  </a:lnTo>
                  <a:lnTo>
                    <a:pt x="43332" y="15770"/>
                  </a:lnTo>
                  <a:lnTo>
                    <a:pt x="41545" y="18133"/>
                  </a:lnTo>
                  <a:lnTo>
                    <a:pt x="38660" y="20555"/>
                  </a:lnTo>
                  <a:lnTo>
                    <a:pt x="35043" y="23017"/>
                  </a:lnTo>
                  <a:lnTo>
                    <a:pt x="30939" y="25504"/>
                  </a:lnTo>
                  <a:lnTo>
                    <a:pt x="28202" y="28856"/>
                  </a:lnTo>
                  <a:lnTo>
                    <a:pt x="26379" y="32784"/>
                  </a:lnTo>
                  <a:lnTo>
                    <a:pt x="25162" y="37096"/>
                  </a:lnTo>
                  <a:lnTo>
                    <a:pt x="23505" y="40818"/>
                  </a:lnTo>
                  <a:lnTo>
                    <a:pt x="21553" y="44145"/>
                  </a:lnTo>
                  <a:lnTo>
                    <a:pt x="19406" y="47210"/>
                  </a:lnTo>
                  <a:lnTo>
                    <a:pt x="17127" y="50100"/>
                  </a:lnTo>
                  <a:lnTo>
                    <a:pt x="14761" y="52873"/>
                  </a:lnTo>
                  <a:lnTo>
                    <a:pt x="12338" y="55569"/>
                  </a:lnTo>
                  <a:lnTo>
                    <a:pt x="7387" y="60822"/>
                  </a:lnTo>
                  <a:lnTo>
                    <a:pt x="4881" y="63408"/>
                  </a:lnTo>
                  <a:lnTo>
                    <a:pt x="3211" y="65979"/>
                  </a:lnTo>
                  <a:lnTo>
                    <a:pt x="2097" y="68539"/>
                  </a:lnTo>
                  <a:lnTo>
                    <a:pt x="1355" y="71093"/>
                  </a:lnTo>
                  <a:lnTo>
                    <a:pt x="860" y="73642"/>
                  </a:lnTo>
                  <a:lnTo>
                    <a:pt x="530" y="76188"/>
                  </a:lnTo>
                  <a:lnTo>
                    <a:pt x="0" y="82313"/>
                  </a:lnTo>
                  <a:lnTo>
                    <a:pt x="1650" y="83662"/>
                  </a:lnTo>
                  <a:lnTo>
                    <a:pt x="4444" y="85408"/>
                  </a:lnTo>
                  <a:lnTo>
                    <a:pt x="7999" y="87419"/>
                  </a:lnTo>
                  <a:lnTo>
                    <a:pt x="11216" y="88759"/>
                  </a:lnTo>
                  <a:lnTo>
                    <a:pt x="14207" y="89653"/>
                  </a:lnTo>
                  <a:lnTo>
                    <a:pt x="17048" y="90249"/>
                  </a:lnTo>
                  <a:lnTo>
                    <a:pt x="20635" y="90646"/>
                  </a:lnTo>
                  <a:lnTo>
                    <a:pt x="24720" y="90911"/>
                  </a:lnTo>
                  <a:lnTo>
                    <a:pt x="29137" y="91087"/>
                  </a:lnTo>
                  <a:lnTo>
                    <a:pt x="47489" y="91336"/>
                  </a:lnTo>
                  <a:lnTo>
                    <a:pt x="54475" y="90524"/>
                  </a:lnTo>
                  <a:lnTo>
                    <a:pt x="61674" y="89136"/>
                  </a:lnTo>
                  <a:lnTo>
                    <a:pt x="69013" y="87364"/>
                  </a:lnTo>
                  <a:lnTo>
                    <a:pt x="75598" y="86183"/>
                  </a:lnTo>
                  <a:lnTo>
                    <a:pt x="81683" y="85395"/>
                  </a:lnTo>
                  <a:lnTo>
                    <a:pt x="87432" y="84871"/>
                  </a:lnTo>
                  <a:lnTo>
                    <a:pt x="93804" y="83674"/>
                  </a:lnTo>
                  <a:lnTo>
                    <a:pt x="100593" y="82029"/>
                  </a:lnTo>
                  <a:lnTo>
                    <a:pt x="107659" y="80086"/>
                  </a:lnTo>
                  <a:lnTo>
                    <a:pt x="113216" y="77944"/>
                  </a:lnTo>
                  <a:lnTo>
                    <a:pt x="117767" y="75670"/>
                  </a:lnTo>
                  <a:lnTo>
                    <a:pt x="121648" y="73306"/>
                  </a:lnTo>
                  <a:lnTo>
                    <a:pt x="125082" y="71731"/>
                  </a:lnTo>
                  <a:lnTo>
                    <a:pt x="128218" y="70681"/>
                  </a:lnTo>
                  <a:lnTo>
                    <a:pt x="137030" y="685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SMARTInkAnnotation43"/>
            <p:cNvSpPr/>
            <p:nvPr/>
          </p:nvSpPr>
          <p:spPr>
            <a:xfrm>
              <a:off x="1721520" y="2766600"/>
              <a:ext cx="22680" cy="20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858" h="205741">
                  <a:moveTo>
                    <a:pt x="22857" y="0"/>
                  </a:moveTo>
                  <a:lnTo>
                    <a:pt x="22857" y="6561"/>
                  </a:lnTo>
                  <a:lnTo>
                    <a:pt x="22010" y="7760"/>
                  </a:lnTo>
                  <a:lnTo>
                    <a:pt x="20599" y="9407"/>
                  </a:lnTo>
                  <a:lnTo>
                    <a:pt x="18812" y="11352"/>
                  </a:lnTo>
                  <a:lnTo>
                    <a:pt x="17620" y="13494"/>
                  </a:lnTo>
                  <a:lnTo>
                    <a:pt x="16826" y="15769"/>
                  </a:lnTo>
                  <a:lnTo>
                    <a:pt x="16296" y="18133"/>
                  </a:lnTo>
                  <a:lnTo>
                    <a:pt x="15097" y="21402"/>
                  </a:lnTo>
                  <a:lnTo>
                    <a:pt x="13450" y="25275"/>
                  </a:lnTo>
                  <a:lnTo>
                    <a:pt x="11505" y="29550"/>
                  </a:lnTo>
                  <a:lnTo>
                    <a:pt x="10209" y="34093"/>
                  </a:lnTo>
                  <a:lnTo>
                    <a:pt x="9345" y="38815"/>
                  </a:lnTo>
                  <a:lnTo>
                    <a:pt x="8769" y="43657"/>
                  </a:lnTo>
                  <a:lnTo>
                    <a:pt x="8385" y="48578"/>
                  </a:lnTo>
                  <a:lnTo>
                    <a:pt x="8129" y="53552"/>
                  </a:lnTo>
                  <a:lnTo>
                    <a:pt x="7958" y="58561"/>
                  </a:lnTo>
                  <a:lnTo>
                    <a:pt x="6998" y="64441"/>
                  </a:lnTo>
                  <a:lnTo>
                    <a:pt x="5511" y="70901"/>
                  </a:lnTo>
                  <a:lnTo>
                    <a:pt x="3673" y="77747"/>
                  </a:lnTo>
                  <a:lnTo>
                    <a:pt x="2448" y="84851"/>
                  </a:lnTo>
                  <a:lnTo>
                    <a:pt x="1631" y="92127"/>
                  </a:lnTo>
                  <a:lnTo>
                    <a:pt x="1086" y="99518"/>
                  </a:lnTo>
                  <a:lnTo>
                    <a:pt x="723" y="106139"/>
                  </a:lnTo>
                  <a:lnTo>
                    <a:pt x="320" y="118011"/>
                  </a:lnTo>
                  <a:lnTo>
                    <a:pt x="39" y="150631"/>
                  </a:lnTo>
                  <a:lnTo>
                    <a:pt x="0" y="183811"/>
                  </a:lnTo>
                  <a:lnTo>
                    <a:pt x="845" y="186887"/>
                  </a:lnTo>
                  <a:lnTo>
                    <a:pt x="2256" y="189785"/>
                  </a:lnTo>
                  <a:lnTo>
                    <a:pt x="4043" y="192563"/>
                  </a:lnTo>
                  <a:lnTo>
                    <a:pt x="6081" y="195262"/>
                  </a:lnTo>
                  <a:lnTo>
                    <a:pt x="8286" y="197908"/>
                  </a:lnTo>
                  <a:lnTo>
                    <a:pt x="15237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SMARTInkAnnotation44"/>
            <p:cNvSpPr/>
            <p:nvPr/>
          </p:nvSpPr>
          <p:spPr>
            <a:xfrm>
              <a:off x="1813320" y="2714400"/>
              <a:ext cx="146880" cy="165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46958" h="165971">
                  <a:moveTo>
                    <a:pt x="121681" y="29298"/>
                  </a:moveTo>
                  <a:lnTo>
                    <a:pt x="121681" y="7839"/>
                  </a:lnTo>
                  <a:lnTo>
                    <a:pt x="119423" y="4803"/>
                  </a:lnTo>
                  <a:lnTo>
                    <a:pt x="115120" y="0"/>
                  </a:lnTo>
                  <a:lnTo>
                    <a:pt x="113921" y="453"/>
                  </a:lnTo>
                  <a:lnTo>
                    <a:pt x="110330" y="3214"/>
                  </a:lnTo>
                  <a:lnTo>
                    <a:pt x="107340" y="4288"/>
                  </a:lnTo>
                  <a:lnTo>
                    <a:pt x="103654" y="5005"/>
                  </a:lnTo>
                  <a:lnTo>
                    <a:pt x="99503" y="5483"/>
                  </a:lnTo>
                  <a:lnTo>
                    <a:pt x="95042" y="7494"/>
                  </a:lnTo>
                  <a:lnTo>
                    <a:pt x="90375" y="10529"/>
                  </a:lnTo>
                  <a:lnTo>
                    <a:pt x="85571" y="14245"/>
                  </a:lnTo>
                  <a:lnTo>
                    <a:pt x="80674" y="18416"/>
                  </a:lnTo>
                  <a:lnTo>
                    <a:pt x="75716" y="22890"/>
                  </a:lnTo>
                  <a:lnTo>
                    <a:pt x="70718" y="27566"/>
                  </a:lnTo>
                  <a:lnTo>
                    <a:pt x="51548" y="46282"/>
                  </a:lnTo>
                  <a:lnTo>
                    <a:pt x="45292" y="53321"/>
                  </a:lnTo>
                  <a:lnTo>
                    <a:pt x="39428" y="60553"/>
                  </a:lnTo>
                  <a:lnTo>
                    <a:pt x="33826" y="67915"/>
                  </a:lnTo>
                  <a:lnTo>
                    <a:pt x="29244" y="74516"/>
                  </a:lnTo>
                  <a:lnTo>
                    <a:pt x="25343" y="80610"/>
                  </a:lnTo>
                  <a:lnTo>
                    <a:pt x="21896" y="86366"/>
                  </a:lnTo>
                  <a:lnTo>
                    <a:pt x="13550" y="99535"/>
                  </a:lnTo>
                  <a:lnTo>
                    <a:pt x="8953" y="106603"/>
                  </a:lnTo>
                  <a:lnTo>
                    <a:pt x="5889" y="113008"/>
                  </a:lnTo>
                  <a:lnTo>
                    <a:pt x="3847" y="118971"/>
                  </a:lnTo>
                  <a:lnTo>
                    <a:pt x="2485" y="124640"/>
                  </a:lnTo>
                  <a:lnTo>
                    <a:pt x="1577" y="130113"/>
                  </a:lnTo>
                  <a:lnTo>
                    <a:pt x="971" y="135455"/>
                  </a:lnTo>
                  <a:lnTo>
                    <a:pt x="568" y="140709"/>
                  </a:lnTo>
                  <a:lnTo>
                    <a:pt x="120" y="148805"/>
                  </a:lnTo>
                  <a:lnTo>
                    <a:pt x="0" y="152149"/>
                  </a:lnTo>
                  <a:lnTo>
                    <a:pt x="1613" y="155226"/>
                  </a:lnTo>
                  <a:lnTo>
                    <a:pt x="4383" y="158123"/>
                  </a:lnTo>
                  <a:lnTo>
                    <a:pt x="7922" y="160901"/>
                  </a:lnTo>
                  <a:lnTo>
                    <a:pt x="11975" y="162754"/>
                  </a:lnTo>
                  <a:lnTo>
                    <a:pt x="16370" y="163989"/>
                  </a:lnTo>
                  <a:lnTo>
                    <a:pt x="20994" y="164812"/>
                  </a:lnTo>
                  <a:lnTo>
                    <a:pt x="25770" y="165361"/>
                  </a:lnTo>
                  <a:lnTo>
                    <a:pt x="30647" y="165726"/>
                  </a:lnTo>
                  <a:lnTo>
                    <a:pt x="35591" y="165970"/>
                  </a:lnTo>
                  <a:lnTo>
                    <a:pt x="42275" y="165286"/>
                  </a:lnTo>
                  <a:lnTo>
                    <a:pt x="50117" y="163983"/>
                  </a:lnTo>
                  <a:lnTo>
                    <a:pt x="58732" y="162268"/>
                  </a:lnTo>
                  <a:lnTo>
                    <a:pt x="67014" y="159431"/>
                  </a:lnTo>
                  <a:lnTo>
                    <a:pt x="75077" y="155847"/>
                  </a:lnTo>
                  <a:lnTo>
                    <a:pt x="82992" y="151764"/>
                  </a:lnTo>
                  <a:lnTo>
                    <a:pt x="89961" y="147349"/>
                  </a:lnTo>
                  <a:lnTo>
                    <a:pt x="96301" y="142712"/>
                  </a:lnTo>
                  <a:lnTo>
                    <a:pt x="102221" y="137927"/>
                  </a:lnTo>
                  <a:lnTo>
                    <a:pt x="107861" y="133044"/>
                  </a:lnTo>
                  <a:lnTo>
                    <a:pt x="113314" y="128095"/>
                  </a:lnTo>
                  <a:lnTo>
                    <a:pt x="118644" y="123103"/>
                  </a:lnTo>
                  <a:lnTo>
                    <a:pt x="123890" y="117234"/>
                  </a:lnTo>
                  <a:lnTo>
                    <a:pt x="129080" y="110783"/>
                  </a:lnTo>
                  <a:lnTo>
                    <a:pt x="134234" y="103941"/>
                  </a:lnTo>
                  <a:lnTo>
                    <a:pt x="138516" y="97687"/>
                  </a:lnTo>
                  <a:lnTo>
                    <a:pt x="142218" y="91824"/>
                  </a:lnTo>
                  <a:lnTo>
                    <a:pt x="145532" y="86222"/>
                  </a:lnTo>
                  <a:lnTo>
                    <a:pt x="146895" y="79947"/>
                  </a:lnTo>
                  <a:lnTo>
                    <a:pt x="146957" y="73224"/>
                  </a:lnTo>
                  <a:lnTo>
                    <a:pt x="146152" y="66202"/>
                  </a:lnTo>
                  <a:lnTo>
                    <a:pt x="145615" y="60674"/>
                  </a:lnTo>
                  <a:lnTo>
                    <a:pt x="145257" y="56142"/>
                  </a:lnTo>
                  <a:lnTo>
                    <a:pt x="145018" y="52274"/>
                  </a:lnTo>
                  <a:lnTo>
                    <a:pt x="144013" y="48849"/>
                  </a:lnTo>
                  <a:lnTo>
                    <a:pt x="142496" y="45718"/>
                  </a:lnTo>
                  <a:lnTo>
                    <a:pt x="140637" y="42785"/>
                  </a:lnTo>
                  <a:lnTo>
                    <a:pt x="138552" y="39983"/>
                  </a:lnTo>
                  <a:lnTo>
                    <a:pt x="136315" y="37268"/>
                  </a:lnTo>
                  <a:lnTo>
                    <a:pt x="133977" y="34611"/>
                  </a:lnTo>
                  <a:lnTo>
                    <a:pt x="131572" y="32840"/>
                  </a:lnTo>
                  <a:lnTo>
                    <a:pt x="129122" y="31659"/>
                  </a:lnTo>
                  <a:lnTo>
                    <a:pt x="126641" y="30872"/>
                  </a:lnTo>
                  <a:lnTo>
                    <a:pt x="124141" y="30348"/>
                  </a:lnTo>
                  <a:lnTo>
                    <a:pt x="121628" y="29998"/>
                  </a:lnTo>
                  <a:lnTo>
                    <a:pt x="114061" y="292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MARTInkAnnotation45"/>
            <p:cNvSpPr/>
            <p:nvPr/>
          </p:nvSpPr>
          <p:spPr>
            <a:xfrm>
              <a:off x="1851480" y="2873160"/>
              <a:ext cx="98280" cy="1328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98316" h="132844">
                  <a:moveTo>
                    <a:pt x="60487" y="15240"/>
                  </a:moveTo>
                  <a:lnTo>
                    <a:pt x="56442" y="15240"/>
                  </a:lnTo>
                  <a:lnTo>
                    <a:pt x="54404" y="16087"/>
                  </a:lnTo>
                  <a:lnTo>
                    <a:pt x="52198" y="17498"/>
                  </a:lnTo>
                  <a:lnTo>
                    <a:pt x="49881" y="19285"/>
                  </a:lnTo>
                  <a:lnTo>
                    <a:pt x="47490" y="21324"/>
                  </a:lnTo>
                  <a:lnTo>
                    <a:pt x="45049" y="23529"/>
                  </a:lnTo>
                  <a:lnTo>
                    <a:pt x="40079" y="28238"/>
                  </a:lnTo>
                  <a:lnTo>
                    <a:pt x="23410" y="44725"/>
                  </a:lnTo>
                  <a:lnTo>
                    <a:pt x="19682" y="50136"/>
                  </a:lnTo>
                  <a:lnTo>
                    <a:pt x="16351" y="56284"/>
                  </a:lnTo>
                  <a:lnTo>
                    <a:pt x="13283" y="62923"/>
                  </a:lnTo>
                  <a:lnTo>
                    <a:pt x="10391" y="68195"/>
                  </a:lnTo>
                  <a:lnTo>
                    <a:pt x="7616" y="72557"/>
                  </a:lnTo>
                  <a:lnTo>
                    <a:pt x="4920" y="76311"/>
                  </a:lnTo>
                  <a:lnTo>
                    <a:pt x="3122" y="80507"/>
                  </a:lnTo>
                  <a:lnTo>
                    <a:pt x="1924" y="84998"/>
                  </a:lnTo>
                  <a:lnTo>
                    <a:pt x="1125" y="89686"/>
                  </a:lnTo>
                  <a:lnTo>
                    <a:pt x="592" y="94504"/>
                  </a:lnTo>
                  <a:lnTo>
                    <a:pt x="237" y="99409"/>
                  </a:lnTo>
                  <a:lnTo>
                    <a:pt x="0" y="104373"/>
                  </a:lnTo>
                  <a:lnTo>
                    <a:pt x="689" y="108529"/>
                  </a:lnTo>
                  <a:lnTo>
                    <a:pt x="1995" y="112146"/>
                  </a:lnTo>
                  <a:lnTo>
                    <a:pt x="3713" y="115404"/>
                  </a:lnTo>
                  <a:lnTo>
                    <a:pt x="5704" y="118423"/>
                  </a:lnTo>
                  <a:lnTo>
                    <a:pt x="7878" y="121282"/>
                  </a:lnTo>
                  <a:lnTo>
                    <a:pt x="10175" y="124035"/>
                  </a:lnTo>
                  <a:lnTo>
                    <a:pt x="13399" y="126716"/>
                  </a:lnTo>
                  <a:lnTo>
                    <a:pt x="17242" y="129351"/>
                  </a:lnTo>
                  <a:lnTo>
                    <a:pt x="21497" y="131954"/>
                  </a:lnTo>
                  <a:lnTo>
                    <a:pt x="26027" y="132843"/>
                  </a:lnTo>
                  <a:lnTo>
                    <a:pt x="30740" y="132589"/>
                  </a:lnTo>
                  <a:lnTo>
                    <a:pt x="35576" y="131573"/>
                  </a:lnTo>
                  <a:lnTo>
                    <a:pt x="41340" y="130048"/>
                  </a:lnTo>
                  <a:lnTo>
                    <a:pt x="47722" y="128186"/>
                  </a:lnTo>
                  <a:lnTo>
                    <a:pt x="54517" y="126097"/>
                  </a:lnTo>
                  <a:lnTo>
                    <a:pt x="60740" y="123858"/>
                  </a:lnTo>
                  <a:lnTo>
                    <a:pt x="66582" y="121519"/>
                  </a:lnTo>
                  <a:lnTo>
                    <a:pt x="72170" y="119113"/>
                  </a:lnTo>
                  <a:lnTo>
                    <a:pt x="77590" y="115815"/>
                  </a:lnTo>
                  <a:lnTo>
                    <a:pt x="82895" y="111923"/>
                  </a:lnTo>
                  <a:lnTo>
                    <a:pt x="88126" y="107636"/>
                  </a:lnTo>
                  <a:lnTo>
                    <a:pt x="91613" y="103084"/>
                  </a:lnTo>
                  <a:lnTo>
                    <a:pt x="93937" y="98356"/>
                  </a:lnTo>
                  <a:lnTo>
                    <a:pt x="95487" y="93511"/>
                  </a:lnTo>
                  <a:lnTo>
                    <a:pt x="96521" y="87740"/>
                  </a:lnTo>
                  <a:lnTo>
                    <a:pt x="97209" y="81354"/>
                  </a:lnTo>
                  <a:lnTo>
                    <a:pt x="97668" y="74556"/>
                  </a:lnTo>
                  <a:lnTo>
                    <a:pt x="97975" y="68330"/>
                  </a:lnTo>
                  <a:lnTo>
                    <a:pt x="98315" y="56898"/>
                  </a:lnTo>
                  <a:lnTo>
                    <a:pt x="97559" y="51479"/>
                  </a:lnTo>
                  <a:lnTo>
                    <a:pt x="96208" y="46173"/>
                  </a:lnTo>
                  <a:lnTo>
                    <a:pt x="94461" y="40942"/>
                  </a:lnTo>
                  <a:lnTo>
                    <a:pt x="92450" y="35761"/>
                  </a:lnTo>
                  <a:lnTo>
                    <a:pt x="90262" y="30614"/>
                  </a:lnTo>
                  <a:lnTo>
                    <a:pt x="87957" y="25489"/>
                  </a:lnTo>
                  <a:lnTo>
                    <a:pt x="84727" y="21226"/>
                  </a:lnTo>
                  <a:lnTo>
                    <a:pt x="80880" y="17537"/>
                  </a:lnTo>
                  <a:lnTo>
                    <a:pt x="76622" y="14232"/>
                  </a:lnTo>
                  <a:lnTo>
                    <a:pt x="72090" y="12028"/>
                  </a:lnTo>
                  <a:lnTo>
                    <a:pt x="67376" y="10559"/>
                  </a:lnTo>
                  <a:lnTo>
                    <a:pt x="62539" y="9579"/>
                  </a:lnTo>
                  <a:lnTo>
                    <a:pt x="58469" y="8079"/>
                  </a:lnTo>
                  <a:lnTo>
                    <a:pt x="54908" y="6233"/>
                  </a:lnTo>
                  <a:lnTo>
                    <a:pt x="51688" y="4155"/>
                  </a:lnTo>
                  <a:lnTo>
                    <a:pt x="48694" y="2770"/>
                  </a:lnTo>
                  <a:lnTo>
                    <a:pt x="45852" y="1847"/>
                  </a:lnTo>
                  <a:lnTo>
                    <a:pt x="3762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MARTInkAnnotation46"/>
            <p:cNvSpPr/>
            <p:nvPr/>
          </p:nvSpPr>
          <p:spPr>
            <a:xfrm>
              <a:off x="5326560" y="2804400"/>
              <a:ext cx="251280" cy="22068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1461" h="220981">
                  <a:moveTo>
                    <a:pt x="251460" y="0"/>
                  </a:moveTo>
                  <a:lnTo>
                    <a:pt x="244899" y="6561"/>
                  </a:lnTo>
                  <a:lnTo>
                    <a:pt x="242052" y="11665"/>
                  </a:lnTo>
                  <a:lnTo>
                    <a:pt x="233327" y="28739"/>
                  </a:lnTo>
                  <a:lnTo>
                    <a:pt x="230058" y="33553"/>
                  </a:lnTo>
                  <a:lnTo>
                    <a:pt x="226185" y="38455"/>
                  </a:lnTo>
                  <a:lnTo>
                    <a:pt x="221910" y="43417"/>
                  </a:lnTo>
                  <a:lnTo>
                    <a:pt x="218213" y="48418"/>
                  </a:lnTo>
                  <a:lnTo>
                    <a:pt x="214902" y="53445"/>
                  </a:lnTo>
                  <a:lnTo>
                    <a:pt x="211848" y="58490"/>
                  </a:lnTo>
                  <a:lnTo>
                    <a:pt x="203939" y="70869"/>
                  </a:lnTo>
                  <a:lnTo>
                    <a:pt x="199459" y="77726"/>
                  </a:lnTo>
                  <a:lnTo>
                    <a:pt x="193933" y="83991"/>
                  </a:lnTo>
                  <a:lnTo>
                    <a:pt x="187708" y="89860"/>
                  </a:lnTo>
                  <a:lnTo>
                    <a:pt x="181019" y="95467"/>
                  </a:lnTo>
                  <a:lnTo>
                    <a:pt x="174866" y="101744"/>
                  </a:lnTo>
                  <a:lnTo>
                    <a:pt x="169071" y="108470"/>
                  </a:lnTo>
                  <a:lnTo>
                    <a:pt x="163514" y="115493"/>
                  </a:lnTo>
                  <a:lnTo>
                    <a:pt x="157269" y="122715"/>
                  </a:lnTo>
                  <a:lnTo>
                    <a:pt x="150566" y="130070"/>
                  </a:lnTo>
                  <a:lnTo>
                    <a:pt x="136345" y="145016"/>
                  </a:lnTo>
                  <a:lnTo>
                    <a:pt x="121557" y="160125"/>
                  </a:lnTo>
                  <a:lnTo>
                    <a:pt x="114059" y="166863"/>
                  </a:lnTo>
                  <a:lnTo>
                    <a:pt x="106519" y="173049"/>
                  </a:lnTo>
                  <a:lnTo>
                    <a:pt x="98953" y="178866"/>
                  </a:lnTo>
                  <a:lnTo>
                    <a:pt x="90522" y="184437"/>
                  </a:lnTo>
                  <a:lnTo>
                    <a:pt x="81515" y="189845"/>
                  </a:lnTo>
                  <a:lnTo>
                    <a:pt x="72123" y="195143"/>
                  </a:lnTo>
                  <a:lnTo>
                    <a:pt x="63322" y="199522"/>
                  </a:lnTo>
                  <a:lnTo>
                    <a:pt x="54915" y="203288"/>
                  </a:lnTo>
                  <a:lnTo>
                    <a:pt x="46770" y="206645"/>
                  </a:lnTo>
                  <a:lnTo>
                    <a:pt x="39646" y="209730"/>
                  </a:lnTo>
                  <a:lnTo>
                    <a:pt x="27216" y="215416"/>
                  </a:lnTo>
                  <a:lnTo>
                    <a:pt x="21531" y="217271"/>
                  </a:lnTo>
                  <a:lnTo>
                    <a:pt x="16047" y="218507"/>
                  </a:lnTo>
                  <a:lnTo>
                    <a:pt x="0" y="2209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SMARTInkAnnotation47"/>
            <p:cNvSpPr/>
            <p:nvPr/>
          </p:nvSpPr>
          <p:spPr>
            <a:xfrm>
              <a:off x="5341680" y="2865600"/>
              <a:ext cx="220680" cy="1292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220981" h="129541">
                  <a:moveTo>
                    <a:pt x="0" y="0"/>
                  </a:moveTo>
                  <a:lnTo>
                    <a:pt x="0" y="4046"/>
                  </a:lnTo>
                  <a:lnTo>
                    <a:pt x="1694" y="5237"/>
                  </a:lnTo>
                  <a:lnTo>
                    <a:pt x="8091" y="6561"/>
                  </a:lnTo>
                  <a:lnTo>
                    <a:pt x="10474" y="7761"/>
                  </a:lnTo>
                  <a:lnTo>
                    <a:pt x="12063" y="9407"/>
                  </a:lnTo>
                  <a:lnTo>
                    <a:pt x="13122" y="11352"/>
                  </a:lnTo>
                  <a:lnTo>
                    <a:pt x="15521" y="13494"/>
                  </a:lnTo>
                  <a:lnTo>
                    <a:pt x="18814" y="15769"/>
                  </a:lnTo>
                  <a:lnTo>
                    <a:pt x="22703" y="18133"/>
                  </a:lnTo>
                  <a:lnTo>
                    <a:pt x="40312" y="29550"/>
                  </a:lnTo>
                  <a:lnTo>
                    <a:pt x="46348" y="33247"/>
                  </a:lnTo>
                  <a:lnTo>
                    <a:pt x="52066" y="36558"/>
                  </a:lnTo>
                  <a:lnTo>
                    <a:pt x="57570" y="39612"/>
                  </a:lnTo>
                  <a:lnTo>
                    <a:pt x="63780" y="43341"/>
                  </a:lnTo>
                  <a:lnTo>
                    <a:pt x="77453" y="52001"/>
                  </a:lnTo>
                  <a:lnTo>
                    <a:pt x="83809" y="57527"/>
                  </a:lnTo>
                  <a:lnTo>
                    <a:pt x="89740" y="63752"/>
                  </a:lnTo>
                  <a:lnTo>
                    <a:pt x="95387" y="70441"/>
                  </a:lnTo>
                  <a:lnTo>
                    <a:pt x="100845" y="76594"/>
                  </a:lnTo>
                  <a:lnTo>
                    <a:pt x="111424" y="87946"/>
                  </a:lnTo>
                  <a:lnTo>
                    <a:pt x="117463" y="92498"/>
                  </a:lnTo>
                  <a:lnTo>
                    <a:pt x="124029" y="96378"/>
                  </a:lnTo>
                  <a:lnTo>
                    <a:pt x="130946" y="99812"/>
                  </a:lnTo>
                  <a:lnTo>
                    <a:pt x="138097" y="102948"/>
                  </a:lnTo>
                  <a:lnTo>
                    <a:pt x="145405" y="105885"/>
                  </a:lnTo>
                  <a:lnTo>
                    <a:pt x="152816" y="108691"/>
                  </a:lnTo>
                  <a:lnTo>
                    <a:pt x="159451" y="111407"/>
                  </a:lnTo>
                  <a:lnTo>
                    <a:pt x="165567" y="114065"/>
                  </a:lnTo>
                  <a:lnTo>
                    <a:pt x="171338" y="116683"/>
                  </a:lnTo>
                  <a:lnTo>
                    <a:pt x="178572" y="119275"/>
                  </a:lnTo>
                  <a:lnTo>
                    <a:pt x="186782" y="121850"/>
                  </a:lnTo>
                  <a:lnTo>
                    <a:pt x="195642" y="124414"/>
                  </a:lnTo>
                  <a:lnTo>
                    <a:pt x="202395" y="126122"/>
                  </a:lnTo>
                  <a:lnTo>
                    <a:pt x="207743" y="127261"/>
                  </a:lnTo>
                  <a:lnTo>
                    <a:pt x="220980" y="1295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MARTInkAnnotation48"/>
            <p:cNvSpPr/>
            <p:nvPr/>
          </p:nvSpPr>
          <p:spPr>
            <a:xfrm>
              <a:off x="5699880" y="2888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2" h="7621">
                  <a:moveTo>
                    <a:pt x="0" y="0"/>
                  </a:moveTo>
                  <a:lnTo>
                    <a:pt x="101726" y="0"/>
                  </a:lnTo>
                  <a:lnTo>
                    <a:pt x="108457" y="847"/>
                  </a:lnTo>
                  <a:lnTo>
                    <a:pt x="115485" y="2258"/>
                  </a:lnTo>
                  <a:lnTo>
                    <a:pt x="122710" y="4045"/>
                  </a:lnTo>
                  <a:lnTo>
                    <a:pt x="128373" y="5237"/>
                  </a:lnTo>
                  <a:lnTo>
                    <a:pt x="132996" y="6032"/>
                  </a:lnTo>
                  <a:lnTo>
                    <a:pt x="144781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MARTInkAnnotation49"/>
            <p:cNvSpPr/>
            <p:nvPr/>
          </p:nvSpPr>
          <p:spPr>
            <a:xfrm>
              <a:off x="5740920" y="2949480"/>
              <a:ext cx="141840" cy="2268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41987" h="22831">
                  <a:moveTo>
                    <a:pt x="12445" y="0"/>
                  </a:moveTo>
                  <a:lnTo>
                    <a:pt x="8400" y="0"/>
                  </a:lnTo>
                  <a:lnTo>
                    <a:pt x="6362" y="847"/>
                  </a:lnTo>
                  <a:lnTo>
                    <a:pt x="4156" y="2258"/>
                  </a:lnTo>
                  <a:lnTo>
                    <a:pt x="1839" y="4045"/>
                  </a:lnTo>
                  <a:lnTo>
                    <a:pt x="1141" y="5237"/>
                  </a:lnTo>
                  <a:lnTo>
                    <a:pt x="1522" y="6031"/>
                  </a:lnTo>
                  <a:lnTo>
                    <a:pt x="2623" y="6561"/>
                  </a:lnTo>
                  <a:lnTo>
                    <a:pt x="2510" y="7760"/>
                  </a:lnTo>
                  <a:lnTo>
                    <a:pt x="1589" y="9407"/>
                  </a:lnTo>
                  <a:lnTo>
                    <a:pt x="128" y="11352"/>
                  </a:lnTo>
                  <a:lnTo>
                    <a:pt x="0" y="12648"/>
                  </a:lnTo>
                  <a:lnTo>
                    <a:pt x="762" y="13512"/>
                  </a:lnTo>
                  <a:lnTo>
                    <a:pt x="2116" y="14088"/>
                  </a:lnTo>
                  <a:lnTo>
                    <a:pt x="3866" y="15319"/>
                  </a:lnTo>
                  <a:lnTo>
                    <a:pt x="5879" y="16986"/>
                  </a:lnTo>
                  <a:lnTo>
                    <a:pt x="8067" y="18944"/>
                  </a:lnTo>
                  <a:lnTo>
                    <a:pt x="10373" y="20249"/>
                  </a:lnTo>
                  <a:lnTo>
                    <a:pt x="12757" y="21120"/>
                  </a:lnTo>
                  <a:lnTo>
                    <a:pt x="15193" y="21700"/>
                  </a:lnTo>
                  <a:lnTo>
                    <a:pt x="19357" y="22087"/>
                  </a:lnTo>
                  <a:lnTo>
                    <a:pt x="24673" y="22344"/>
                  </a:lnTo>
                  <a:lnTo>
                    <a:pt x="37353" y="22631"/>
                  </a:lnTo>
                  <a:lnTo>
                    <a:pt x="73675" y="22830"/>
                  </a:lnTo>
                  <a:lnTo>
                    <a:pt x="82052" y="21993"/>
                  </a:lnTo>
                  <a:lnTo>
                    <a:pt x="91023" y="20589"/>
                  </a:lnTo>
                  <a:lnTo>
                    <a:pt x="100390" y="18806"/>
                  </a:lnTo>
                  <a:lnTo>
                    <a:pt x="107482" y="17617"/>
                  </a:lnTo>
                  <a:lnTo>
                    <a:pt x="113056" y="16825"/>
                  </a:lnTo>
                  <a:lnTo>
                    <a:pt x="117620" y="16296"/>
                  </a:lnTo>
                  <a:lnTo>
                    <a:pt x="122355" y="15098"/>
                  </a:lnTo>
                  <a:lnTo>
                    <a:pt x="127205" y="13452"/>
                  </a:lnTo>
                  <a:lnTo>
                    <a:pt x="141986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MARTInkAnnotation50"/>
            <p:cNvSpPr/>
            <p:nvPr/>
          </p:nvSpPr>
          <p:spPr>
            <a:xfrm>
              <a:off x="6004800" y="282744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15240"/>
                  </a:moveTo>
                  <a:lnTo>
                    <a:pt x="4045" y="15240"/>
                  </a:lnTo>
                  <a:lnTo>
                    <a:pt x="6083" y="14393"/>
                  </a:lnTo>
                  <a:lnTo>
                    <a:pt x="8288" y="12982"/>
                  </a:lnTo>
                  <a:lnTo>
                    <a:pt x="10606" y="11195"/>
                  </a:lnTo>
                  <a:lnTo>
                    <a:pt x="14691" y="10003"/>
                  </a:lnTo>
                  <a:lnTo>
                    <a:pt x="19954" y="9209"/>
                  </a:lnTo>
                  <a:lnTo>
                    <a:pt x="26003" y="8679"/>
                  </a:lnTo>
                  <a:lnTo>
                    <a:pt x="30882" y="8326"/>
                  </a:lnTo>
                  <a:lnTo>
                    <a:pt x="38561" y="7934"/>
                  </a:lnTo>
                  <a:lnTo>
                    <a:pt x="43487" y="6983"/>
                  </a:lnTo>
                  <a:lnTo>
                    <a:pt x="49312" y="5502"/>
                  </a:lnTo>
                  <a:lnTo>
                    <a:pt x="55734" y="3668"/>
                  </a:lnTo>
                  <a:lnTo>
                    <a:pt x="62556" y="2445"/>
                  </a:lnTo>
                  <a:lnTo>
                    <a:pt x="69644" y="1630"/>
                  </a:lnTo>
                  <a:lnTo>
                    <a:pt x="76909" y="1087"/>
                  </a:lnTo>
                  <a:lnTo>
                    <a:pt x="83446" y="724"/>
                  </a:lnTo>
                  <a:lnTo>
                    <a:pt x="95225" y="322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MARTInkAnnotation51"/>
            <p:cNvSpPr/>
            <p:nvPr/>
          </p:nvSpPr>
          <p:spPr>
            <a:xfrm>
              <a:off x="6246000" y="2774160"/>
              <a:ext cx="154080" cy="1828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4296" h="182878">
                  <a:moveTo>
                    <a:pt x="10418" y="15237"/>
                  </a:moveTo>
                  <a:lnTo>
                    <a:pt x="16979" y="8676"/>
                  </a:lnTo>
                  <a:lnTo>
                    <a:pt x="19825" y="8088"/>
                  </a:lnTo>
                  <a:lnTo>
                    <a:pt x="21770" y="7931"/>
                  </a:lnTo>
                  <a:lnTo>
                    <a:pt x="25606" y="6980"/>
                  </a:lnTo>
                  <a:lnTo>
                    <a:pt x="30704" y="5499"/>
                  </a:lnTo>
                  <a:lnTo>
                    <a:pt x="36642" y="3665"/>
                  </a:lnTo>
                  <a:lnTo>
                    <a:pt x="42294" y="2442"/>
                  </a:lnTo>
                  <a:lnTo>
                    <a:pt x="47755" y="1627"/>
                  </a:lnTo>
                  <a:lnTo>
                    <a:pt x="53090" y="1084"/>
                  </a:lnTo>
                  <a:lnTo>
                    <a:pt x="59186" y="721"/>
                  </a:lnTo>
                  <a:lnTo>
                    <a:pt x="72733" y="319"/>
                  </a:lnTo>
                  <a:lnTo>
                    <a:pt x="124103" y="10"/>
                  </a:lnTo>
                  <a:lnTo>
                    <a:pt x="144916" y="0"/>
                  </a:lnTo>
                  <a:lnTo>
                    <a:pt x="148343" y="845"/>
                  </a:lnTo>
                  <a:lnTo>
                    <a:pt x="150629" y="2256"/>
                  </a:lnTo>
                  <a:lnTo>
                    <a:pt x="152151" y="4043"/>
                  </a:lnTo>
                  <a:lnTo>
                    <a:pt x="153167" y="6081"/>
                  </a:lnTo>
                  <a:lnTo>
                    <a:pt x="154295" y="10603"/>
                  </a:lnTo>
                  <a:lnTo>
                    <a:pt x="153749" y="12995"/>
                  </a:lnTo>
                  <a:lnTo>
                    <a:pt x="150885" y="17909"/>
                  </a:lnTo>
                  <a:lnTo>
                    <a:pt x="146790" y="22916"/>
                  </a:lnTo>
                  <a:lnTo>
                    <a:pt x="144513" y="25436"/>
                  </a:lnTo>
                  <a:lnTo>
                    <a:pt x="140454" y="28810"/>
                  </a:lnTo>
                  <a:lnTo>
                    <a:pt x="135209" y="32752"/>
                  </a:lnTo>
                  <a:lnTo>
                    <a:pt x="122607" y="41648"/>
                  </a:lnTo>
                  <a:lnTo>
                    <a:pt x="108540" y="51247"/>
                  </a:lnTo>
                  <a:lnTo>
                    <a:pt x="102079" y="56177"/>
                  </a:lnTo>
                  <a:lnTo>
                    <a:pt x="96078" y="61157"/>
                  </a:lnTo>
                  <a:lnTo>
                    <a:pt x="90386" y="66170"/>
                  </a:lnTo>
                  <a:lnTo>
                    <a:pt x="84050" y="71206"/>
                  </a:lnTo>
                  <a:lnTo>
                    <a:pt x="77286" y="76256"/>
                  </a:lnTo>
                  <a:lnTo>
                    <a:pt x="70237" y="81317"/>
                  </a:lnTo>
                  <a:lnTo>
                    <a:pt x="62997" y="87230"/>
                  </a:lnTo>
                  <a:lnTo>
                    <a:pt x="55630" y="93712"/>
                  </a:lnTo>
                  <a:lnTo>
                    <a:pt x="48179" y="100574"/>
                  </a:lnTo>
                  <a:lnTo>
                    <a:pt x="40673" y="106842"/>
                  </a:lnTo>
                  <a:lnTo>
                    <a:pt x="33127" y="112714"/>
                  </a:lnTo>
                  <a:lnTo>
                    <a:pt x="25557" y="118321"/>
                  </a:lnTo>
                  <a:lnTo>
                    <a:pt x="19665" y="123753"/>
                  </a:lnTo>
                  <a:lnTo>
                    <a:pt x="14888" y="129068"/>
                  </a:lnTo>
                  <a:lnTo>
                    <a:pt x="10859" y="134304"/>
                  </a:lnTo>
                  <a:lnTo>
                    <a:pt x="7326" y="138642"/>
                  </a:lnTo>
                  <a:lnTo>
                    <a:pt x="4123" y="142380"/>
                  </a:lnTo>
                  <a:lnTo>
                    <a:pt x="1141" y="145719"/>
                  </a:lnTo>
                  <a:lnTo>
                    <a:pt x="0" y="149638"/>
                  </a:lnTo>
                  <a:lnTo>
                    <a:pt x="86" y="153945"/>
                  </a:lnTo>
                  <a:lnTo>
                    <a:pt x="990" y="158509"/>
                  </a:lnTo>
                  <a:lnTo>
                    <a:pt x="3286" y="162398"/>
                  </a:lnTo>
                  <a:lnTo>
                    <a:pt x="6510" y="165838"/>
                  </a:lnTo>
                  <a:lnTo>
                    <a:pt x="10353" y="168978"/>
                  </a:lnTo>
                  <a:lnTo>
                    <a:pt x="14608" y="171918"/>
                  </a:lnTo>
                  <a:lnTo>
                    <a:pt x="19138" y="174724"/>
                  </a:lnTo>
                  <a:lnTo>
                    <a:pt x="23851" y="177442"/>
                  </a:lnTo>
                  <a:lnTo>
                    <a:pt x="29534" y="179254"/>
                  </a:lnTo>
                  <a:lnTo>
                    <a:pt x="35862" y="180461"/>
                  </a:lnTo>
                  <a:lnTo>
                    <a:pt x="42621" y="181267"/>
                  </a:lnTo>
                  <a:lnTo>
                    <a:pt x="50514" y="181803"/>
                  </a:lnTo>
                  <a:lnTo>
                    <a:pt x="59162" y="182161"/>
                  </a:lnTo>
                  <a:lnTo>
                    <a:pt x="82999" y="182665"/>
                  </a:lnTo>
                  <a:lnTo>
                    <a:pt x="117098" y="18287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SMARTInkAnnotation52"/>
            <p:cNvSpPr/>
            <p:nvPr/>
          </p:nvSpPr>
          <p:spPr>
            <a:xfrm>
              <a:off x="6530760" y="2751120"/>
              <a:ext cx="22680" cy="2437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2861" h="243841">
                  <a:moveTo>
                    <a:pt x="22860" y="0"/>
                  </a:moveTo>
                  <a:lnTo>
                    <a:pt x="22860" y="61550"/>
                  </a:lnTo>
                  <a:lnTo>
                    <a:pt x="22014" y="69820"/>
                  </a:lnTo>
                  <a:lnTo>
                    <a:pt x="20603" y="78720"/>
                  </a:lnTo>
                  <a:lnTo>
                    <a:pt x="18815" y="88040"/>
                  </a:lnTo>
                  <a:lnTo>
                    <a:pt x="17623" y="97640"/>
                  </a:lnTo>
                  <a:lnTo>
                    <a:pt x="16829" y="107427"/>
                  </a:lnTo>
                  <a:lnTo>
                    <a:pt x="16299" y="117338"/>
                  </a:lnTo>
                  <a:lnTo>
                    <a:pt x="15099" y="127332"/>
                  </a:lnTo>
                  <a:lnTo>
                    <a:pt x="13454" y="137381"/>
                  </a:lnTo>
                  <a:lnTo>
                    <a:pt x="11509" y="147468"/>
                  </a:lnTo>
                  <a:lnTo>
                    <a:pt x="10213" y="157578"/>
                  </a:lnTo>
                  <a:lnTo>
                    <a:pt x="9348" y="167706"/>
                  </a:lnTo>
                  <a:lnTo>
                    <a:pt x="8772" y="177844"/>
                  </a:lnTo>
                  <a:lnTo>
                    <a:pt x="7542" y="187989"/>
                  </a:lnTo>
                  <a:lnTo>
                    <a:pt x="5875" y="198140"/>
                  </a:lnTo>
                  <a:lnTo>
                    <a:pt x="3917" y="208293"/>
                  </a:lnTo>
                  <a:lnTo>
                    <a:pt x="2612" y="216755"/>
                  </a:lnTo>
                  <a:lnTo>
                    <a:pt x="1740" y="224090"/>
                  </a:lnTo>
                  <a:lnTo>
                    <a:pt x="0" y="2438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SMARTInkAnnotation53"/>
            <p:cNvSpPr/>
            <p:nvPr/>
          </p:nvSpPr>
          <p:spPr>
            <a:xfrm>
              <a:off x="2575080" y="2553120"/>
              <a:ext cx="15120" cy="1065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241" h="106681">
                  <a:moveTo>
                    <a:pt x="0" y="0"/>
                  </a:moveTo>
                  <a:lnTo>
                    <a:pt x="0" y="15617"/>
                  </a:lnTo>
                  <a:lnTo>
                    <a:pt x="847" y="18878"/>
                  </a:lnTo>
                  <a:lnTo>
                    <a:pt x="2258" y="21899"/>
                  </a:lnTo>
                  <a:lnTo>
                    <a:pt x="4045" y="24759"/>
                  </a:lnTo>
                  <a:lnTo>
                    <a:pt x="5237" y="28360"/>
                  </a:lnTo>
                  <a:lnTo>
                    <a:pt x="6031" y="32453"/>
                  </a:lnTo>
                  <a:lnTo>
                    <a:pt x="6561" y="36875"/>
                  </a:lnTo>
                  <a:lnTo>
                    <a:pt x="6914" y="41517"/>
                  </a:lnTo>
                  <a:lnTo>
                    <a:pt x="7149" y="46305"/>
                  </a:lnTo>
                  <a:lnTo>
                    <a:pt x="7411" y="56140"/>
                  </a:lnTo>
                  <a:lnTo>
                    <a:pt x="7527" y="66155"/>
                  </a:lnTo>
                  <a:lnTo>
                    <a:pt x="8405" y="72044"/>
                  </a:lnTo>
                  <a:lnTo>
                    <a:pt x="9836" y="78509"/>
                  </a:lnTo>
                  <a:lnTo>
                    <a:pt x="11638" y="85359"/>
                  </a:lnTo>
                  <a:lnTo>
                    <a:pt x="12838" y="90773"/>
                  </a:lnTo>
                  <a:lnTo>
                    <a:pt x="13639" y="95228"/>
                  </a:lnTo>
                  <a:lnTo>
                    <a:pt x="15240" y="1066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MARTInkAnnotation54"/>
            <p:cNvSpPr/>
            <p:nvPr/>
          </p:nvSpPr>
          <p:spPr>
            <a:xfrm>
              <a:off x="2529360" y="2606400"/>
              <a:ext cx="83520" cy="75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83821" h="7621">
                  <a:moveTo>
                    <a:pt x="0" y="0"/>
                  </a:moveTo>
                  <a:lnTo>
                    <a:pt x="18133" y="0"/>
                  </a:lnTo>
                  <a:lnTo>
                    <a:pt x="21402" y="847"/>
                  </a:lnTo>
                  <a:lnTo>
                    <a:pt x="25275" y="2258"/>
                  </a:lnTo>
                  <a:lnTo>
                    <a:pt x="29550" y="4045"/>
                  </a:lnTo>
                  <a:lnTo>
                    <a:pt x="34094" y="5237"/>
                  </a:lnTo>
                  <a:lnTo>
                    <a:pt x="38816" y="6031"/>
                  </a:lnTo>
                  <a:lnTo>
                    <a:pt x="43658" y="6561"/>
                  </a:lnTo>
                  <a:lnTo>
                    <a:pt x="49425" y="6914"/>
                  </a:lnTo>
                  <a:lnTo>
                    <a:pt x="62606" y="7306"/>
                  </a:lnTo>
                  <a:lnTo>
                    <a:pt x="8382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MARTInkAnnotation55"/>
            <p:cNvSpPr/>
            <p:nvPr/>
          </p:nvSpPr>
          <p:spPr>
            <a:xfrm>
              <a:off x="2765520" y="2560680"/>
              <a:ext cx="189720" cy="1598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0013" h="160021">
                  <a:moveTo>
                    <a:pt x="0" y="0"/>
                  </a:moveTo>
                  <a:lnTo>
                    <a:pt x="0" y="121777"/>
                  </a:lnTo>
                  <a:lnTo>
                    <a:pt x="4045" y="117832"/>
                  </a:lnTo>
                  <a:lnTo>
                    <a:pt x="5237" y="115808"/>
                  </a:lnTo>
                  <a:lnTo>
                    <a:pt x="7760" y="108068"/>
                  </a:lnTo>
                  <a:lnTo>
                    <a:pt x="9407" y="104219"/>
                  </a:lnTo>
                  <a:lnTo>
                    <a:pt x="11352" y="99959"/>
                  </a:lnTo>
                  <a:lnTo>
                    <a:pt x="14341" y="96273"/>
                  </a:lnTo>
                  <a:lnTo>
                    <a:pt x="18027" y="92968"/>
                  </a:lnTo>
                  <a:lnTo>
                    <a:pt x="22178" y="89919"/>
                  </a:lnTo>
                  <a:lnTo>
                    <a:pt x="26639" y="86193"/>
                  </a:lnTo>
                  <a:lnTo>
                    <a:pt x="31306" y="82015"/>
                  </a:lnTo>
                  <a:lnTo>
                    <a:pt x="36111" y="77537"/>
                  </a:lnTo>
                  <a:lnTo>
                    <a:pt x="41007" y="73705"/>
                  </a:lnTo>
                  <a:lnTo>
                    <a:pt x="45965" y="70303"/>
                  </a:lnTo>
                  <a:lnTo>
                    <a:pt x="50963" y="67189"/>
                  </a:lnTo>
                  <a:lnTo>
                    <a:pt x="56836" y="64266"/>
                  </a:lnTo>
                  <a:lnTo>
                    <a:pt x="63290" y="61471"/>
                  </a:lnTo>
                  <a:lnTo>
                    <a:pt x="70134" y="58761"/>
                  </a:lnTo>
                  <a:lnTo>
                    <a:pt x="76389" y="56954"/>
                  </a:lnTo>
                  <a:lnTo>
                    <a:pt x="82253" y="55749"/>
                  </a:lnTo>
                  <a:lnTo>
                    <a:pt x="87855" y="54946"/>
                  </a:lnTo>
                  <a:lnTo>
                    <a:pt x="94130" y="54411"/>
                  </a:lnTo>
                  <a:lnTo>
                    <a:pt x="100854" y="54054"/>
                  </a:lnTo>
                  <a:lnTo>
                    <a:pt x="107876" y="53816"/>
                  </a:lnTo>
                  <a:lnTo>
                    <a:pt x="115097" y="54504"/>
                  </a:lnTo>
                  <a:lnTo>
                    <a:pt x="122451" y="55810"/>
                  </a:lnTo>
                  <a:lnTo>
                    <a:pt x="129894" y="57526"/>
                  </a:lnTo>
                  <a:lnTo>
                    <a:pt x="136550" y="59518"/>
                  </a:lnTo>
                  <a:lnTo>
                    <a:pt x="142680" y="61692"/>
                  </a:lnTo>
                  <a:lnTo>
                    <a:pt x="148460" y="63988"/>
                  </a:lnTo>
                  <a:lnTo>
                    <a:pt x="154007" y="66365"/>
                  </a:lnTo>
                  <a:lnTo>
                    <a:pt x="164686" y="71265"/>
                  </a:lnTo>
                  <a:lnTo>
                    <a:pt x="169057" y="74603"/>
                  </a:lnTo>
                  <a:lnTo>
                    <a:pt x="172818" y="78522"/>
                  </a:lnTo>
                  <a:lnTo>
                    <a:pt x="176172" y="82828"/>
                  </a:lnTo>
                  <a:lnTo>
                    <a:pt x="179255" y="87392"/>
                  </a:lnTo>
                  <a:lnTo>
                    <a:pt x="182157" y="92128"/>
                  </a:lnTo>
                  <a:lnTo>
                    <a:pt x="184938" y="96979"/>
                  </a:lnTo>
                  <a:lnTo>
                    <a:pt x="186792" y="101906"/>
                  </a:lnTo>
                  <a:lnTo>
                    <a:pt x="188028" y="106884"/>
                  </a:lnTo>
                  <a:lnTo>
                    <a:pt x="188852" y="111896"/>
                  </a:lnTo>
                  <a:lnTo>
                    <a:pt x="189402" y="116084"/>
                  </a:lnTo>
                  <a:lnTo>
                    <a:pt x="189768" y="119722"/>
                  </a:lnTo>
                  <a:lnTo>
                    <a:pt x="190012" y="122995"/>
                  </a:lnTo>
                  <a:lnTo>
                    <a:pt x="188481" y="126870"/>
                  </a:lnTo>
                  <a:lnTo>
                    <a:pt x="185768" y="131147"/>
                  </a:lnTo>
                  <a:lnTo>
                    <a:pt x="182265" y="135691"/>
                  </a:lnTo>
                  <a:lnTo>
                    <a:pt x="179083" y="139568"/>
                  </a:lnTo>
                  <a:lnTo>
                    <a:pt x="176115" y="142998"/>
                  </a:lnTo>
                  <a:lnTo>
                    <a:pt x="173290" y="146132"/>
                  </a:lnTo>
                  <a:lnTo>
                    <a:pt x="167894" y="151872"/>
                  </a:lnTo>
                  <a:lnTo>
                    <a:pt x="165269" y="154588"/>
                  </a:lnTo>
                  <a:lnTo>
                    <a:pt x="161826" y="156399"/>
                  </a:lnTo>
                  <a:lnTo>
                    <a:pt x="157837" y="157606"/>
                  </a:lnTo>
                  <a:lnTo>
                    <a:pt x="147359" y="159543"/>
                  </a:lnTo>
                  <a:lnTo>
                    <a:pt x="144806" y="159702"/>
                  </a:lnTo>
                  <a:lnTo>
                    <a:pt x="129540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MARTInkAnnotation56"/>
            <p:cNvSpPr/>
            <p:nvPr/>
          </p:nvSpPr>
          <p:spPr>
            <a:xfrm>
              <a:off x="2803680" y="2530080"/>
              <a:ext cx="167400" cy="72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67641" h="7528">
                  <a:moveTo>
                    <a:pt x="0" y="7527"/>
                  </a:moveTo>
                  <a:lnTo>
                    <a:pt x="4045" y="3482"/>
                  </a:lnTo>
                  <a:lnTo>
                    <a:pt x="7777" y="2290"/>
                  </a:lnTo>
                  <a:lnTo>
                    <a:pt x="12805" y="1496"/>
                  </a:lnTo>
                  <a:lnTo>
                    <a:pt x="18696" y="966"/>
                  </a:lnTo>
                  <a:lnTo>
                    <a:pt x="23471" y="613"/>
                  </a:lnTo>
                  <a:lnTo>
                    <a:pt x="31034" y="221"/>
                  </a:lnTo>
                  <a:lnTo>
                    <a:pt x="48142" y="0"/>
                  </a:lnTo>
                  <a:lnTo>
                    <a:pt x="55801" y="816"/>
                  </a:lnTo>
                  <a:lnTo>
                    <a:pt x="64294" y="2206"/>
                  </a:lnTo>
                  <a:lnTo>
                    <a:pt x="73343" y="3980"/>
                  </a:lnTo>
                  <a:lnTo>
                    <a:pt x="82762" y="5162"/>
                  </a:lnTo>
                  <a:lnTo>
                    <a:pt x="92428" y="5950"/>
                  </a:lnTo>
                  <a:lnTo>
                    <a:pt x="102259" y="6476"/>
                  </a:lnTo>
                  <a:lnTo>
                    <a:pt x="122213" y="7060"/>
                  </a:lnTo>
                  <a:lnTo>
                    <a:pt x="167640" y="75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57"/>
            <p:cNvSpPr/>
            <p:nvPr/>
          </p:nvSpPr>
          <p:spPr>
            <a:xfrm>
              <a:off x="1020240" y="2510640"/>
              <a:ext cx="6480" cy="15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6562" h="156791">
                  <a:moveTo>
                    <a:pt x="0" y="4390"/>
                  </a:moveTo>
                  <a:lnTo>
                    <a:pt x="0" y="0"/>
                  </a:lnTo>
                  <a:lnTo>
                    <a:pt x="0" y="8430"/>
                  </a:lnTo>
                  <a:lnTo>
                    <a:pt x="847" y="10470"/>
                  </a:lnTo>
                  <a:lnTo>
                    <a:pt x="2258" y="12677"/>
                  </a:lnTo>
                  <a:lnTo>
                    <a:pt x="4046" y="14994"/>
                  </a:lnTo>
                  <a:lnTo>
                    <a:pt x="5237" y="18233"/>
                  </a:lnTo>
                  <a:lnTo>
                    <a:pt x="6031" y="22085"/>
                  </a:lnTo>
                  <a:lnTo>
                    <a:pt x="6561" y="26347"/>
                  </a:lnTo>
                  <a:lnTo>
                    <a:pt x="6067" y="31728"/>
                  </a:lnTo>
                  <a:lnTo>
                    <a:pt x="4892" y="37855"/>
                  </a:lnTo>
                  <a:lnTo>
                    <a:pt x="3261" y="44480"/>
                  </a:lnTo>
                  <a:lnTo>
                    <a:pt x="3021" y="50590"/>
                  </a:lnTo>
                  <a:lnTo>
                    <a:pt x="3707" y="56357"/>
                  </a:lnTo>
                  <a:lnTo>
                    <a:pt x="5012" y="61895"/>
                  </a:lnTo>
                  <a:lnTo>
                    <a:pt x="5034" y="68127"/>
                  </a:lnTo>
                  <a:lnTo>
                    <a:pt x="4203" y="74821"/>
                  </a:lnTo>
                  <a:lnTo>
                    <a:pt x="2802" y="81824"/>
                  </a:lnTo>
                  <a:lnTo>
                    <a:pt x="1868" y="89033"/>
                  </a:lnTo>
                  <a:lnTo>
                    <a:pt x="1245" y="96379"/>
                  </a:lnTo>
                  <a:lnTo>
                    <a:pt x="830" y="103816"/>
                  </a:lnTo>
                  <a:lnTo>
                    <a:pt x="369" y="116595"/>
                  </a:lnTo>
                  <a:lnTo>
                    <a:pt x="110" y="133309"/>
                  </a:lnTo>
                  <a:lnTo>
                    <a:pt x="0" y="1567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58"/>
            <p:cNvSpPr/>
            <p:nvPr/>
          </p:nvSpPr>
          <p:spPr>
            <a:xfrm>
              <a:off x="959400" y="2586600"/>
              <a:ext cx="129240" cy="118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9541" h="12011">
                  <a:moveTo>
                    <a:pt x="0" y="4390"/>
                  </a:moveTo>
                  <a:lnTo>
                    <a:pt x="0" y="0"/>
                  </a:lnTo>
                  <a:lnTo>
                    <a:pt x="0" y="1874"/>
                  </a:lnTo>
                  <a:lnTo>
                    <a:pt x="847" y="2713"/>
                  </a:lnTo>
                  <a:lnTo>
                    <a:pt x="2258" y="3272"/>
                  </a:lnTo>
                  <a:lnTo>
                    <a:pt x="4045" y="3645"/>
                  </a:lnTo>
                  <a:lnTo>
                    <a:pt x="6930" y="3893"/>
                  </a:lnTo>
                  <a:lnTo>
                    <a:pt x="10547" y="4059"/>
                  </a:lnTo>
                  <a:lnTo>
                    <a:pt x="19928" y="4243"/>
                  </a:lnTo>
                  <a:lnTo>
                    <a:pt x="32564" y="4325"/>
                  </a:lnTo>
                  <a:lnTo>
                    <a:pt x="38642" y="5193"/>
                  </a:lnTo>
                  <a:lnTo>
                    <a:pt x="44388" y="6619"/>
                  </a:lnTo>
                  <a:lnTo>
                    <a:pt x="49912" y="8416"/>
                  </a:lnTo>
                  <a:lnTo>
                    <a:pt x="56981" y="9614"/>
                  </a:lnTo>
                  <a:lnTo>
                    <a:pt x="65081" y="10413"/>
                  </a:lnTo>
                  <a:lnTo>
                    <a:pt x="81418" y="11300"/>
                  </a:lnTo>
                  <a:lnTo>
                    <a:pt x="99289" y="11800"/>
                  </a:lnTo>
                  <a:lnTo>
                    <a:pt x="129540" y="120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480" bIns="-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59"/>
            <p:cNvSpPr/>
            <p:nvPr/>
          </p:nvSpPr>
          <p:spPr>
            <a:xfrm>
              <a:off x="1165680" y="2537640"/>
              <a:ext cx="189360" cy="1447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9580" h="144781">
                  <a:moveTo>
                    <a:pt x="45296" y="0"/>
                  </a:moveTo>
                  <a:lnTo>
                    <a:pt x="45296" y="10606"/>
                  </a:lnTo>
                  <a:lnTo>
                    <a:pt x="44449" y="12998"/>
                  </a:lnTo>
                  <a:lnTo>
                    <a:pt x="43038" y="15438"/>
                  </a:lnTo>
                  <a:lnTo>
                    <a:pt x="41251" y="17912"/>
                  </a:lnTo>
                  <a:lnTo>
                    <a:pt x="39213" y="20408"/>
                  </a:lnTo>
                  <a:lnTo>
                    <a:pt x="37007" y="22919"/>
                  </a:lnTo>
                  <a:lnTo>
                    <a:pt x="34690" y="25439"/>
                  </a:lnTo>
                  <a:lnTo>
                    <a:pt x="33146" y="27966"/>
                  </a:lnTo>
                  <a:lnTo>
                    <a:pt x="32116" y="30498"/>
                  </a:lnTo>
                  <a:lnTo>
                    <a:pt x="31429" y="33032"/>
                  </a:lnTo>
                  <a:lnTo>
                    <a:pt x="29278" y="36414"/>
                  </a:lnTo>
                  <a:lnTo>
                    <a:pt x="26151" y="40363"/>
                  </a:lnTo>
                  <a:lnTo>
                    <a:pt x="22373" y="44689"/>
                  </a:lnTo>
                  <a:lnTo>
                    <a:pt x="19854" y="48419"/>
                  </a:lnTo>
                  <a:lnTo>
                    <a:pt x="18174" y="51753"/>
                  </a:lnTo>
                  <a:lnTo>
                    <a:pt x="17055" y="54822"/>
                  </a:lnTo>
                  <a:lnTo>
                    <a:pt x="15462" y="57715"/>
                  </a:lnTo>
                  <a:lnTo>
                    <a:pt x="13553" y="60490"/>
                  </a:lnTo>
                  <a:lnTo>
                    <a:pt x="11434" y="63187"/>
                  </a:lnTo>
                  <a:lnTo>
                    <a:pt x="9175" y="64985"/>
                  </a:lnTo>
                  <a:lnTo>
                    <a:pt x="6822" y="66183"/>
                  </a:lnTo>
                  <a:lnTo>
                    <a:pt x="0" y="68440"/>
                  </a:lnTo>
                  <a:lnTo>
                    <a:pt x="3747" y="64493"/>
                  </a:lnTo>
                  <a:lnTo>
                    <a:pt x="5743" y="63316"/>
                  </a:lnTo>
                  <a:lnTo>
                    <a:pt x="10219" y="62007"/>
                  </a:lnTo>
                  <a:lnTo>
                    <a:pt x="14292" y="60811"/>
                  </a:lnTo>
                  <a:lnTo>
                    <a:pt x="25589" y="57225"/>
                  </a:lnTo>
                  <a:lnTo>
                    <a:pt x="31312" y="55083"/>
                  </a:lnTo>
                  <a:lnTo>
                    <a:pt x="36820" y="52809"/>
                  </a:lnTo>
                  <a:lnTo>
                    <a:pt x="42185" y="50446"/>
                  </a:lnTo>
                  <a:lnTo>
                    <a:pt x="48302" y="48024"/>
                  </a:lnTo>
                  <a:lnTo>
                    <a:pt x="61872" y="43075"/>
                  </a:lnTo>
                  <a:lnTo>
                    <a:pt x="68200" y="40570"/>
                  </a:lnTo>
                  <a:lnTo>
                    <a:pt x="74112" y="38054"/>
                  </a:lnTo>
                  <a:lnTo>
                    <a:pt x="79747" y="35529"/>
                  </a:lnTo>
                  <a:lnTo>
                    <a:pt x="86043" y="33846"/>
                  </a:lnTo>
                  <a:lnTo>
                    <a:pt x="92781" y="32724"/>
                  </a:lnTo>
                  <a:lnTo>
                    <a:pt x="99813" y="31976"/>
                  </a:lnTo>
                  <a:lnTo>
                    <a:pt x="107040" y="32324"/>
                  </a:lnTo>
                  <a:lnTo>
                    <a:pt x="114399" y="33403"/>
                  </a:lnTo>
                  <a:lnTo>
                    <a:pt x="121845" y="34968"/>
                  </a:lnTo>
                  <a:lnTo>
                    <a:pt x="129348" y="36012"/>
                  </a:lnTo>
                  <a:lnTo>
                    <a:pt x="136891" y="36708"/>
                  </a:lnTo>
                  <a:lnTo>
                    <a:pt x="144459" y="37172"/>
                  </a:lnTo>
                  <a:lnTo>
                    <a:pt x="151198" y="38328"/>
                  </a:lnTo>
                  <a:lnTo>
                    <a:pt x="157384" y="39945"/>
                  </a:lnTo>
                  <a:lnTo>
                    <a:pt x="163201" y="41870"/>
                  </a:lnTo>
                  <a:lnTo>
                    <a:pt x="167926" y="44000"/>
                  </a:lnTo>
                  <a:lnTo>
                    <a:pt x="171923" y="46267"/>
                  </a:lnTo>
                  <a:lnTo>
                    <a:pt x="175434" y="48625"/>
                  </a:lnTo>
                  <a:lnTo>
                    <a:pt x="178621" y="51890"/>
                  </a:lnTo>
                  <a:lnTo>
                    <a:pt x="181593" y="55760"/>
                  </a:lnTo>
                  <a:lnTo>
                    <a:pt x="184420" y="60033"/>
                  </a:lnTo>
                  <a:lnTo>
                    <a:pt x="186306" y="64575"/>
                  </a:lnTo>
                  <a:lnTo>
                    <a:pt x="187562" y="69297"/>
                  </a:lnTo>
                  <a:lnTo>
                    <a:pt x="188400" y="74138"/>
                  </a:lnTo>
                  <a:lnTo>
                    <a:pt x="188959" y="79059"/>
                  </a:lnTo>
                  <a:lnTo>
                    <a:pt x="189331" y="84033"/>
                  </a:lnTo>
                  <a:lnTo>
                    <a:pt x="189579" y="89042"/>
                  </a:lnTo>
                  <a:lnTo>
                    <a:pt x="188898" y="94075"/>
                  </a:lnTo>
                  <a:lnTo>
                    <a:pt x="187598" y="99123"/>
                  </a:lnTo>
                  <a:lnTo>
                    <a:pt x="185884" y="104182"/>
                  </a:lnTo>
                  <a:lnTo>
                    <a:pt x="183894" y="108401"/>
                  </a:lnTo>
                  <a:lnTo>
                    <a:pt x="181722" y="112061"/>
                  </a:lnTo>
                  <a:lnTo>
                    <a:pt x="179426" y="115347"/>
                  </a:lnTo>
                  <a:lnTo>
                    <a:pt x="176203" y="118385"/>
                  </a:lnTo>
                  <a:lnTo>
                    <a:pt x="172361" y="121257"/>
                  </a:lnTo>
                  <a:lnTo>
                    <a:pt x="168106" y="124018"/>
                  </a:lnTo>
                  <a:lnTo>
                    <a:pt x="162729" y="126705"/>
                  </a:lnTo>
                  <a:lnTo>
                    <a:pt x="156605" y="129344"/>
                  </a:lnTo>
                  <a:lnTo>
                    <a:pt x="149982" y="131949"/>
                  </a:lnTo>
                  <a:lnTo>
                    <a:pt x="144720" y="133686"/>
                  </a:lnTo>
                  <a:lnTo>
                    <a:pt x="140365" y="134844"/>
                  </a:lnTo>
                  <a:lnTo>
                    <a:pt x="136616" y="135616"/>
                  </a:lnTo>
                  <a:lnTo>
                    <a:pt x="133269" y="136978"/>
                  </a:lnTo>
                  <a:lnTo>
                    <a:pt x="130191" y="138731"/>
                  </a:lnTo>
                  <a:lnTo>
                    <a:pt x="121496" y="1447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60"/>
            <p:cNvSpPr/>
            <p:nvPr/>
          </p:nvSpPr>
          <p:spPr>
            <a:xfrm>
              <a:off x="1218600" y="2491920"/>
              <a:ext cx="121680" cy="7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21921" h="7621">
                  <a:moveTo>
                    <a:pt x="0" y="7620"/>
                  </a:moveTo>
                  <a:lnTo>
                    <a:pt x="19682" y="7620"/>
                  </a:lnTo>
                  <a:lnTo>
                    <a:pt x="23282" y="6773"/>
                  </a:lnTo>
                  <a:lnTo>
                    <a:pt x="28221" y="5362"/>
                  </a:lnTo>
                  <a:lnTo>
                    <a:pt x="34054" y="3575"/>
                  </a:lnTo>
                  <a:lnTo>
                    <a:pt x="40483" y="2383"/>
                  </a:lnTo>
                  <a:lnTo>
                    <a:pt x="47308" y="1589"/>
                  </a:lnTo>
                  <a:lnTo>
                    <a:pt x="54399" y="1059"/>
                  </a:lnTo>
                  <a:lnTo>
                    <a:pt x="62513" y="706"/>
                  </a:lnTo>
                  <a:lnTo>
                    <a:pt x="93095" y="139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61"/>
            <p:cNvSpPr/>
            <p:nvPr/>
          </p:nvSpPr>
          <p:spPr>
            <a:xfrm>
              <a:off x="829800" y="3353400"/>
              <a:ext cx="220680" cy="151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20981" h="15241">
                  <a:moveTo>
                    <a:pt x="0" y="15240"/>
                  </a:moveTo>
                  <a:lnTo>
                    <a:pt x="54178" y="15240"/>
                  </a:lnTo>
                  <a:lnTo>
                    <a:pt x="62365" y="14394"/>
                  </a:lnTo>
                  <a:lnTo>
                    <a:pt x="71210" y="12983"/>
                  </a:lnTo>
                  <a:lnTo>
                    <a:pt x="80494" y="11195"/>
                  </a:lnTo>
                  <a:lnTo>
                    <a:pt x="90916" y="10003"/>
                  </a:lnTo>
                  <a:lnTo>
                    <a:pt x="102097" y="9209"/>
                  </a:lnTo>
                  <a:lnTo>
                    <a:pt x="113785" y="8679"/>
                  </a:lnTo>
                  <a:lnTo>
                    <a:pt x="124963" y="7480"/>
                  </a:lnTo>
                  <a:lnTo>
                    <a:pt x="135802" y="5833"/>
                  </a:lnTo>
                  <a:lnTo>
                    <a:pt x="146415" y="3889"/>
                  </a:lnTo>
                  <a:lnTo>
                    <a:pt x="156877" y="2592"/>
                  </a:lnTo>
                  <a:lnTo>
                    <a:pt x="167238" y="1728"/>
                  </a:lnTo>
                  <a:lnTo>
                    <a:pt x="177532" y="1153"/>
                  </a:lnTo>
                  <a:lnTo>
                    <a:pt x="195743" y="512"/>
                  </a:lnTo>
                  <a:lnTo>
                    <a:pt x="2209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62"/>
            <p:cNvSpPr/>
            <p:nvPr/>
          </p:nvSpPr>
          <p:spPr>
            <a:xfrm>
              <a:off x="1119600" y="3231360"/>
              <a:ext cx="136800" cy="152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37029" h="152269">
                  <a:moveTo>
                    <a:pt x="30348" y="0"/>
                  </a:moveTo>
                  <a:lnTo>
                    <a:pt x="30348" y="4045"/>
                  </a:lnTo>
                  <a:lnTo>
                    <a:pt x="31195" y="5237"/>
                  </a:lnTo>
                  <a:lnTo>
                    <a:pt x="32606" y="6031"/>
                  </a:lnTo>
                  <a:lnTo>
                    <a:pt x="36909" y="7306"/>
                  </a:lnTo>
                  <a:lnTo>
                    <a:pt x="37262" y="8257"/>
                  </a:lnTo>
                  <a:lnTo>
                    <a:pt x="37654" y="11572"/>
                  </a:lnTo>
                  <a:lnTo>
                    <a:pt x="37828" y="15868"/>
                  </a:lnTo>
                  <a:lnTo>
                    <a:pt x="37927" y="23046"/>
                  </a:lnTo>
                  <a:lnTo>
                    <a:pt x="37940" y="25524"/>
                  </a:lnTo>
                  <a:lnTo>
                    <a:pt x="37103" y="28869"/>
                  </a:lnTo>
                  <a:lnTo>
                    <a:pt x="35698" y="32793"/>
                  </a:lnTo>
                  <a:lnTo>
                    <a:pt x="33915" y="37102"/>
                  </a:lnTo>
                  <a:lnTo>
                    <a:pt x="32726" y="40821"/>
                  </a:lnTo>
                  <a:lnTo>
                    <a:pt x="31933" y="44148"/>
                  </a:lnTo>
                  <a:lnTo>
                    <a:pt x="31405" y="47212"/>
                  </a:lnTo>
                  <a:lnTo>
                    <a:pt x="30206" y="50948"/>
                  </a:lnTo>
                  <a:lnTo>
                    <a:pt x="28560" y="55132"/>
                  </a:lnTo>
                  <a:lnTo>
                    <a:pt x="26616" y="59615"/>
                  </a:lnTo>
                  <a:lnTo>
                    <a:pt x="22198" y="69111"/>
                  </a:lnTo>
                  <a:lnTo>
                    <a:pt x="4917" y="104171"/>
                  </a:lnTo>
                  <a:lnTo>
                    <a:pt x="3234" y="108394"/>
                  </a:lnTo>
                  <a:lnTo>
                    <a:pt x="2112" y="112056"/>
                  </a:lnTo>
                  <a:lnTo>
                    <a:pt x="1364" y="115344"/>
                  </a:lnTo>
                  <a:lnTo>
                    <a:pt x="866" y="118383"/>
                  </a:lnTo>
                  <a:lnTo>
                    <a:pt x="533" y="121255"/>
                  </a:lnTo>
                  <a:lnTo>
                    <a:pt x="311" y="124017"/>
                  </a:lnTo>
                  <a:lnTo>
                    <a:pt x="164" y="126705"/>
                  </a:lnTo>
                  <a:lnTo>
                    <a:pt x="0" y="131949"/>
                  </a:lnTo>
                  <a:lnTo>
                    <a:pt x="802" y="134533"/>
                  </a:lnTo>
                  <a:lnTo>
                    <a:pt x="2184" y="137102"/>
                  </a:lnTo>
                  <a:lnTo>
                    <a:pt x="3952" y="139661"/>
                  </a:lnTo>
                  <a:lnTo>
                    <a:pt x="5131" y="142214"/>
                  </a:lnTo>
                  <a:lnTo>
                    <a:pt x="5916" y="144762"/>
                  </a:lnTo>
                  <a:lnTo>
                    <a:pt x="6441" y="147309"/>
                  </a:lnTo>
                  <a:lnTo>
                    <a:pt x="9329" y="149006"/>
                  </a:lnTo>
                  <a:lnTo>
                    <a:pt x="13796" y="150137"/>
                  </a:lnTo>
                  <a:lnTo>
                    <a:pt x="19313" y="150891"/>
                  </a:lnTo>
                  <a:lnTo>
                    <a:pt x="24685" y="151395"/>
                  </a:lnTo>
                  <a:lnTo>
                    <a:pt x="29959" y="151729"/>
                  </a:lnTo>
                  <a:lnTo>
                    <a:pt x="40335" y="152102"/>
                  </a:lnTo>
                  <a:lnTo>
                    <a:pt x="50591" y="152268"/>
                  </a:lnTo>
                  <a:lnTo>
                    <a:pt x="56544" y="151465"/>
                  </a:lnTo>
                  <a:lnTo>
                    <a:pt x="63052" y="150083"/>
                  </a:lnTo>
                  <a:lnTo>
                    <a:pt x="69930" y="148316"/>
                  </a:lnTo>
                  <a:lnTo>
                    <a:pt x="77056" y="146290"/>
                  </a:lnTo>
                  <a:lnTo>
                    <a:pt x="91747" y="141782"/>
                  </a:lnTo>
                  <a:lnTo>
                    <a:pt x="98374" y="139395"/>
                  </a:lnTo>
                  <a:lnTo>
                    <a:pt x="104486" y="136957"/>
                  </a:lnTo>
                  <a:lnTo>
                    <a:pt x="110253" y="134484"/>
                  </a:lnTo>
                  <a:lnTo>
                    <a:pt x="121177" y="129480"/>
                  </a:lnTo>
                  <a:lnTo>
                    <a:pt x="137028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63"/>
            <p:cNvSpPr/>
            <p:nvPr/>
          </p:nvSpPr>
          <p:spPr>
            <a:xfrm>
              <a:off x="1294560" y="3246480"/>
              <a:ext cx="22680" cy="21312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2861" h="213361">
                  <a:moveTo>
                    <a:pt x="0" y="0"/>
                  </a:moveTo>
                  <a:lnTo>
                    <a:pt x="0" y="55008"/>
                  </a:lnTo>
                  <a:lnTo>
                    <a:pt x="847" y="61226"/>
                  </a:lnTo>
                  <a:lnTo>
                    <a:pt x="2258" y="67063"/>
                  </a:lnTo>
                  <a:lnTo>
                    <a:pt x="4045" y="72649"/>
                  </a:lnTo>
                  <a:lnTo>
                    <a:pt x="5237" y="78913"/>
                  </a:lnTo>
                  <a:lnTo>
                    <a:pt x="6031" y="85629"/>
                  </a:lnTo>
                  <a:lnTo>
                    <a:pt x="6561" y="92646"/>
                  </a:lnTo>
                  <a:lnTo>
                    <a:pt x="6914" y="99017"/>
                  </a:lnTo>
                  <a:lnTo>
                    <a:pt x="7306" y="110612"/>
                  </a:lnTo>
                  <a:lnTo>
                    <a:pt x="7579" y="145298"/>
                  </a:lnTo>
                  <a:lnTo>
                    <a:pt x="7592" y="152745"/>
                  </a:lnTo>
                  <a:lnTo>
                    <a:pt x="8448" y="159404"/>
                  </a:lnTo>
                  <a:lnTo>
                    <a:pt x="9866" y="165536"/>
                  </a:lnTo>
                  <a:lnTo>
                    <a:pt x="11657" y="171318"/>
                  </a:lnTo>
                  <a:lnTo>
                    <a:pt x="12851" y="176865"/>
                  </a:lnTo>
                  <a:lnTo>
                    <a:pt x="13648" y="182256"/>
                  </a:lnTo>
                  <a:lnTo>
                    <a:pt x="14179" y="187544"/>
                  </a:lnTo>
                  <a:lnTo>
                    <a:pt x="15379" y="192763"/>
                  </a:lnTo>
                  <a:lnTo>
                    <a:pt x="17026" y="197935"/>
                  </a:lnTo>
                  <a:lnTo>
                    <a:pt x="22860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64"/>
            <p:cNvSpPr/>
            <p:nvPr/>
          </p:nvSpPr>
          <p:spPr>
            <a:xfrm>
              <a:off x="1462320" y="3353400"/>
              <a:ext cx="114120" cy="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4301" h="1">
                  <a:moveTo>
                    <a:pt x="0" y="0"/>
                  </a:move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65"/>
            <p:cNvSpPr/>
            <p:nvPr/>
          </p:nvSpPr>
          <p:spPr>
            <a:xfrm>
              <a:off x="1538640" y="3429360"/>
              <a:ext cx="121680" cy="720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21921" h="7528">
                  <a:moveTo>
                    <a:pt x="0" y="0"/>
                  </a:moveTo>
                  <a:lnTo>
                    <a:pt x="4045" y="0"/>
                  </a:lnTo>
                  <a:lnTo>
                    <a:pt x="6084" y="847"/>
                  </a:lnTo>
                  <a:lnTo>
                    <a:pt x="8289" y="2258"/>
                  </a:lnTo>
                  <a:lnTo>
                    <a:pt x="10606" y="4045"/>
                  </a:lnTo>
                  <a:lnTo>
                    <a:pt x="13844" y="5237"/>
                  </a:lnTo>
                  <a:lnTo>
                    <a:pt x="17696" y="6032"/>
                  </a:lnTo>
                  <a:lnTo>
                    <a:pt x="21957" y="6561"/>
                  </a:lnTo>
                  <a:lnTo>
                    <a:pt x="26491" y="6914"/>
                  </a:lnTo>
                  <a:lnTo>
                    <a:pt x="31208" y="7150"/>
                  </a:lnTo>
                  <a:lnTo>
                    <a:pt x="36045" y="7307"/>
                  </a:lnTo>
                  <a:lnTo>
                    <a:pt x="54989" y="7527"/>
                  </a:lnTo>
                  <a:lnTo>
                    <a:pt x="61213" y="6711"/>
                  </a:lnTo>
                  <a:lnTo>
                    <a:pt x="67055" y="5321"/>
                  </a:lnTo>
                  <a:lnTo>
                    <a:pt x="72643" y="3547"/>
                  </a:lnTo>
                  <a:lnTo>
                    <a:pt x="79756" y="2365"/>
                  </a:lnTo>
                  <a:lnTo>
                    <a:pt x="87884" y="1577"/>
                  </a:lnTo>
                  <a:lnTo>
                    <a:pt x="103406" y="701"/>
                  </a:lnTo>
                  <a:lnTo>
                    <a:pt x="1219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66"/>
            <p:cNvSpPr/>
            <p:nvPr/>
          </p:nvSpPr>
          <p:spPr>
            <a:xfrm>
              <a:off x="1881360" y="331524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41">
                  <a:moveTo>
                    <a:pt x="0" y="15240"/>
                  </a:moveTo>
                  <a:lnTo>
                    <a:pt x="10606" y="15240"/>
                  </a:lnTo>
                  <a:lnTo>
                    <a:pt x="13844" y="14394"/>
                  </a:lnTo>
                  <a:lnTo>
                    <a:pt x="17696" y="12983"/>
                  </a:lnTo>
                  <a:lnTo>
                    <a:pt x="21958" y="11195"/>
                  </a:lnTo>
                  <a:lnTo>
                    <a:pt x="27339" y="10003"/>
                  </a:lnTo>
                  <a:lnTo>
                    <a:pt x="33466" y="9209"/>
                  </a:lnTo>
                  <a:lnTo>
                    <a:pt x="40091" y="8679"/>
                  </a:lnTo>
                  <a:lnTo>
                    <a:pt x="46200" y="8326"/>
                  </a:lnTo>
                  <a:lnTo>
                    <a:pt x="57505" y="7934"/>
                  </a:lnTo>
                  <a:lnTo>
                    <a:pt x="81479" y="7713"/>
                  </a:lnTo>
                  <a:lnTo>
                    <a:pt x="90726" y="6836"/>
                  </a:lnTo>
                  <a:lnTo>
                    <a:pt x="100278" y="5404"/>
                  </a:lnTo>
                  <a:lnTo>
                    <a:pt x="110031" y="3602"/>
                  </a:lnTo>
                  <a:lnTo>
                    <a:pt x="118228" y="2402"/>
                  </a:lnTo>
                  <a:lnTo>
                    <a:pt x="125385" y="1601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67"/>
            <p:cNvSpPr/>
            <p:nvPr/>
          </p:nvSpPr>
          <p:spPr>
            <a:xfrm>
              <a:off x="2201760" y="3063600"/>
              <a:ext cx="304560" cy="18288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04801" h="182881">
                  <a:moveTo>
                    <a:pt x="0" y="0"/>
                  </a:moveTo>
                  <a:lnTo>
                    <a:pt x="0" y="13867"/>
                  </a:lnTo>
                  <a:lnTo>
                    <a:pt x="2258" y="19145"/>
                  </a:lnTo>
                  <a:lnTo>
                    <a:pt x="4045" y="22924"/>
                  </a:lnTo>
                  <a:lnTo>
                    <a:pt x="5237" y="27136"/>
                  </a:lnTo>
                  <a:lnTo>
                    <a:pt x="6031" y="31637"/>
                  </a:lnTo>
                  <a:lnTo>
                    <a:pt x="6561" y="36332"/>
                  </a:lnTo>
                  <a:lnTo>
                    <a:pt x="6914" y="41154"/>
                  </a:lnTo>
                  <a:lnTo>
                    <a:pt x="7149" y="46063"/>
                  </a:lnTo>
                  <a:lnTo>
                    <a:pt x="7411" y="56879"/>
                  </a:lnTo>
                  <a:lnTo>
                    <a:pt x="7592" y="95951"/>
                  </a:lnTo>
                  <a:lnTo>
                    <a:pt x="6755" y="103761"/>
                  </a:lnTo>
                  <a:lnTo>
                    <a:pt x="5350" y="110661"/>
                  </a:lnTo>
                  <a:lnTo>
                    <a:pt x="3567" y="116954"/>
                  </a:lnTo>
                  <a:lnTo>
                    <a:pt x="3224" y="122843"/>
                  </a:lnTo>
                  <a:lnTo>
                    <a:pt x="3843" y="128462"/>
                  </a:lnTo>
                  <a:lnTo>
                    <a:pt x="5102" y="133901"/>
                  </a:lnTo>
                  <a:lnTo>
                    <a:pt x="5941" y="138374"/>
                  </a:lnTo>
                  <a:lnTo>
                    <a:pt x="6501" y="142203"/>
                  </a:lnTo>
                  <a:lnTo>
                    <a:pt x="6874" y="145602"/>
                  </a:lnTo>
                  <a:lnTo>
                    <a:pt x="7122" y="149562"/>
                  </a:lnTo>
                  <a:lnTo>
                    <a:pt x="7288" y="153894"/>
                  </a:lnTo>
                  <a:lnTo>
                    <a:pt x="7614" y="167402"/>
                  </a:lnTo>
                  <a:lnTo>
                    <a:pt x="9875" y="163019"/>
                  </a:lnTo>
                  <a:lnTo>
                    <a:pt x="25532" y="131810"/>
                  </a:lnTo>
                  <a:lnTo>
                    <a:pt x="28028" y="125127"/>
                  </a:lnTo>
                  <a:lnTo>
                    <a:pt x="30539" y="117284"/>
                  </a:lnTo>
                  <a:lnTo>
                    <a:pt x="33059" y="108669"/>
                  </a:lnTo>
                  <a:lnTo>
                    <a:pt x="36433" y="101233"/>
                  </a:lnTo>
                  <a:lnTo>
                    <a:pt x="40375" y="94582"/>
                  </a:lnTo>
                  <a:lnTo>
                    <a:pt x="49271" y="81830"/>
                  </a:lnTo>
                  <a:lnTo>
                    <a:pt x="58869" y="67696"/>
                  </a:lnTo>
                  <a:lnTo>
                    <a:pt x="62953" y="61217"/>
                  </a:lnTo>
                  <a:lnTo>
                    <a:pt x="66522" y="55205"/>
                  </a:lnTo>
                  <a:lnTo>
                    <a:pt x="69748" y="49503"/>
                  </a:lnTo>
                  <a:lnTo>
                    <a:pt x="72745" y="44855"/>
                  </a:lnTo>
                  <a:lnTo>
                    <a:pt x="75590" y="40910"/>
                  </a:lnTo>
                  <a:lnTo>
                    <a:pt x="78333" y="37434"/>
                  </a:lnTo>
                  <a:lnTo>
                    <a:pt x="81009" y="34269"/>
                  </a:lnTo>
                  <a:lnTo>
                    <a:pt x="83639" y="31313"/>
                  </a:lnTo>
                  <a:lnTo>
                    <a:pt x="86240" y="28495"/>
                  </a:lnTo>
                  <a:lnTo>
                    <a:pt x="88820" y="26617"/>
                  </a:lnTo>
                  <a:lnTo>
                    <a:pt x="96496" y="23126"/>
                  </a:lnTo>
                  <a:lnTo>
                    <a:pt x="101589" y="19309"/>
                  </a:lnTo>
                  <a:lnTo>
                    <a:pt x="103286" y="18800"/>
                  </a:lnTo>
                  <a:lnTo>
                    <a:pt x="104418" y="19307"/>
                  </a:lnTo>
                  <a:lnTo>
                    <a:pt x="105172" y="20491"/>
                  </a:lnTo>
                  <a:lnTo>
                    <a:pt x="106521" y="21280"/>
                  </a:lnTo>
                  <a:lnTo>
                    <a:pt x="110278" y="22158"/>
                  </a:lnTo>
                  <a:lnTo>
                    <a:pt x="111619" y="24085"/>
                  </a:lnTo>
                  <a:lnTo>
                    <a:pt x="112513" y="27063"/>
                  </a:lnTo>
                  <a:lnTo>
                    <a:pt x="113108" y="30742"/>
                  </a:lnTo>
                  <a:lnTo>
                    <a:pt x="113506" y="34042"/>
                  </a:lnTo>
                  <a:lnTo>
                    <a:pt x="113770" y="37088"/>
                  </a:lnTo>
                  <a:lnTo>
                    <a:pt x="113947" y="39965"/>
                  </a:lnTo>
                  <a:lnTo>
                    <a:pt x="114143" y="47678"/>
                  </a:lnTo>
                  <a:lnTo>
                    <a:pt x="114195" y="52105"/>
                  </a:lnTo>
                  <a:lnTo>
                    <a:pt x="113383" y="56750"/>
                  </a:lnTo>
                  <a:lnTo>
                    <a:pt x="111996" y="61540"/>
                  </a:lnTo>
                  <a:lnTo>
                    <a:pt x="110224" y="66427"/>
                  </a:lnTo>
                  <a:lnTo>
                    <a:pt x="109042" y="71378"/>
                  </a:lnTo>
                  <a:lnTo>
                    <a:pt x="108255" y="76372"/>
                  </a:lnTo>
                  <a:lnTo>
                    <a:pt x="107730" y="81395"/>
                  </a:lnTo>
                  <a:lnTo>
                    <a:pt x="107380" y="85590"/>
                  </a:lnTo>
                  <a:lnTo>
                    <a:pt x="107146" y="89233"/>
                  </a:lnTo>
                  <a:lnTo>
                    <a:pt x="106887" y="95539"/>
                  </a:lnTo>
                  <a:lnTo>
                    <a:pt x="106682" y="106537"/>
                  </a:lnTo>
                  <a:lnTo>
                    <a:pt x="106680" y="92016"/>
                  </a:lnTo>
                  <a:lnTo>
                    <a:pt x="107527" y="87591"/>
                  </a:lnTo>
                  <a:lnTo>
                    <a:pt x="108938" y="82947"/>
                  </a:lnTo>
                  <a:lnTo>
                    <a:pt x="110725" y="78158"/>
                  </a:lnTo>
                  <a:lnTo>
                    <a:pt x="112764" y="73272"/>
                  </a:lnTo>
                  <a:lnTo>
                    <a:pt x="114969" y="68321"/>
                  </a:lnTo>
                  <a:lnTo>
                    <a:pt x="117286" y="63328"/>
                  </a:lnTo>
                  <a:lnTo>
                    <a:pt x="119677" y="57458"/>
                  </a:lnTo>
                  <a:lnTo>
                    <a:pt x="122118" y="51006"/>
                  </a:lnTo>
                  <a:lnTo>
                    <a:pt x="124592" y="44164"/>
                  </a:lnTo>
                  <a:lnTo>
                    <a:pt x="127935" y="37909"/>
                  </a:lnTo>
                  <a:lnTo>
                    <a:pt x="131857" y="32046"/>
                  </a:lnTo>
                  <a:lnTo>
                    <a:pt x="136164" y="26444"/>
                  </a:lnTo>
                  <a:lnTo>
                    <a:pt x="139883" y="21863"/>
                  </a:lnTo>
                  <a:lnTo>
                    <a:pt x="143208" y="17962"/>
                  </a:lnTo>
                  <a:lnTo>
                    <a:pt x="146272" y="14515"/>
                  </a:lnTo>
                  <a:lnTo>
                    <a:pt x="150008" y="11370"/>
                  </a:lnTo>
                  <a:lnTo>
                    <a:pt x="154192" y="8426"/>
                  </a:lnTo>
                  <a:lnTo>
                    <a:pt x="162510" y="3745"/>
                  </a:lnTo>
                  <a:lnTo>
                    <a:pt x="169029" y="1665"/>
                  </a:lnTo>
                  <a:lnTo>
                    <a:pt x="177006" y="740"/>
                  </a:lnTo>
                  <a:lnTo>
                    <a:pt x="185349" y="329"/>
                  </a:lnTo>
                  <a:lnTo>
                    <a:pt x="191880" y="146"/>
                  </a:lnTo>
                  <a:lnTo>
                    <a:pt x="199862" y="2323"/>
                  </a:lnTo>
                  <a:lnTo>
                    <a:pt x="204361" y="4088"/>
                  </a:lnTo>
                  <a:lnTo>
                    <a:pt x="209054" y="6959"/>
                  </a:lnTo>
                  <a:lnTo>
                    <a:pt x="213876" y="10566"/>
                  </a:lnTo>
                  <a:lnTo>
                    <a:pt x="218784" y="14664"/>
                  </a:lnTo>
                  <a:lnTo>
                    <a:pt x="222903" y="19089"/>
                  </a:lnTo>
                  <a:lnTo>
                    <a:pt x="226495" y="23733"/>
                  </a:lnTo>
                  <a:lnTo>
                    <a:pt x="229737" y="28522"/>
                  </a:lnTo>
                  <a:lnTo>
                    <a:pt x="233591" y="33408"/>
                  </a:lnTo>
                  <a:lnTo>
                    <a:pt x="237854" y="38359"/>
                  </a:lnTo>
                  <a:lnTo>
                    <a:pt x="242389" y="43353"/>
                  </a:lnTo>
                  <a:lnTo>
                    <a:pt x="247106" y="49222"/>
                  </a:lnTo>
                  <a:lnTo>
                    <a:pt x="251944" y="55674"/>
                  </a:lnTo>
                  <a:lnTo>
                    <a:pt x="256863" y="62516"/>
                  </a:lnTo>
                  <a:lnTo>
                    <a:pt x="260988" y="69617"/>
                  </a:lnTo>
                  <a:lnTo>
                    <a:pt x="264586" y="76892"/>
                  </a:lnTo>
                  <a:lnTo>
                    <a:pt x="267830" y="84281"/>
                  </a:lnTo>
                  <a:lnTo>
                    <a:pt x="270840" y="91748"/>
                  </a:lnTo>
                  <a:lnTo>
                    <a:pt x="276442" y="106817"/>
                  </a:lnTo>
                  <a:lnTo>
                    <a:pt x="279121" y="113545"/>
                  </a:lnTo>
                  <a:lnTo>
                    <a:pt x="281754" y="119723"/>
                  </a:lnTo>
                  <a:lnTo>
                    <a:pt x="284356" y="125536"/>
                  </a:lnTo>
                  <a:lnTo>
                    <a:pt x="286938" y="131950"/>
                  </a:lnTo>
                  <a:lnTo>
                    <a:pt x="292063" y="145851"/>
                  </a:lnTo>
                  <a:lnTo>
                    <a:pt x="293769" y="152267"/>
                  </a:lnTo>
                  <a:lnTo>
                    <a:pt x="294906" y="158239"/>
                  </a:lnTo>
                  <a:lnTo>
                    <a:pt x="295664" y="163912"/>
                  </a:lnTo>
                  <a:lnTo>
                    <a:pt x="297016" y="168542"/>
                  </a:lnTo>
                  <a:lnTo>
                    <a:pt x="298764" y="172474"/>
                  </a:lnTo>
                  <a:lnTo>
                    <a:pt x="30480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68"/>
            <p:cNvSpPr/>
            <p:nvPr/>
          </p:nvSpPr>
          <p:spPr>
            <a:xfrm>
              <a:off x="2178720" y="3315240"/>
              <a:ext cx="457200" cy="151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457201" h="15241">
                  <a:moveTo>
                    <a:pt x="0" y="15240"/>
                  </a:moveTo>
                  <a:lnTo>
                    <a:pt x="8091" y="15240"/>
                  </a:lnTo>
                  <a:lnTo>
                    <a:pt x="12167" y="14394"/>
                  </a:lnTo>
                  <a:lnTo>
                    <a:pt x="16578" y="12983"/>
                  </a:lnTo>
                  <a:lnTo>
                    <a:pt x="21212" y="11195"/>
                  </a:lnTo>
                  <a:lnTo>
                    <a:pt x="27688" y="10003"/>
                  </a:lnTo>
                  <a:lnTo>
                    <a:pt x="35392" y="9209"/>
                  </a:lnTo>
                  <a:lnTo>
                    <a:pt x="43915" y="8679"/>
                  </a:lnTo>
                  <a:lnTo>
                    <a:pt x="52983" y="7480"/>
                  </a:lnTo>
                  <a:lnTo>
                    <a:pt x="62416" y="5833"/>
                  </a:lnTo>
                  <a:lnTo>
                    <a:pt x="72090" y="3889"/>
                  </a:lnTo>
                  <a:lnTo>
                    <a:pt x="82774" y="2592"/>
                  </a:lnTo>
                  <a:lnTo>
                    <a:pt x="94129" y="1728"/>
                  </a:lnTo>
                  <a:lnTo>
                    <a:pt x="105933" y="1153"/>
                  </a:lnTo>
                  <a:lnTo>
                    <a:pt x="130337" y="512"/>
                  </a:lnTo>
                  <a:lnTo>
                    <a:pt x="457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69"/>
            <p:cNvSpPr/>
            <p:nvPr/>
          </p:nvSpPr>
          <p:spPr>
            <a:xfrm>
              <a:off x="2117880" y="3429360"/>
              <a:ext cx="49320" cy="182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9387" h="182881">
                  <a:moveTo>
                    <a:pt x="30480" y="0"/>
                  </a:moveTo>
                  <a:lnTo>
                    <a:pt x="37041" y="0"/>
                  </a:lnTo>
                  <a:lnTo>
                    <a:pt x="37394" y="847"/>
                  </a:lnTo>
                  <a:lnTo>
                    <a:pt x="37786" y="4045"/>
                  </a:lnTo>
                  <a:lnTo>
                    <a:pt x="38737" y="6084"/>
                  </a:lnTo>
                  <a:lnTo>
                    <a:pt x="40218" y="8289"/>
                  </a:lnTo>
                  <a:lnTo>
                    <a:pt x="42052" y="10606"/>
                  </a:lnTo>
                  <a:lnTo>
                    <a:pt x="44121" y="13844"/>
                  </a:lnTo>
                  <a:lnTo>
                    <a:pt x="46347" y="17696"/>
                  </a:lnTo>
                  <a:lnTo>
                    <a:pt x="48678" y="21957"/>
                  </a:lnTo>
                  <a:lnTo>
                    <a:pt x="49386" y="26491"/>
                  </a:lnTo>
                  <a:lnTo>
                    <a:pt x="49010" y="31208"/>
                  </a:lnTo>
                  <a:lnTo>
                    <a:pt x="47914" y="36045"/>
                  </a:lnTo>
                  <a:lnTo>
                    <a:pt x="46336" y="40963"/>
                  </a:lnTo>
                  <a:lnTo>
                    <a:pt x="44437" y="45936"/>
                  </a:lnTo>
                  <a:lnTo>
                    <a:pt x="42325" y="50944"/>
                  </a:lnTo>
                  <a:lnTo>
                    <a:pt x="40070" y="56823"/>
                  </a:lnTo>
                  <a:lnTo>
                    <a:pt x="35307" y="70128"/>
                  </a:lnTo>
                  <a:lnTo>
                    <a:pt x="12693" y="137201"/>
                  </a:lnTo>
                  <a:lnTo>
                    <a:pt x="11002" y="143960"/>
                  </a:lnTo>
                  <a:lnTo>
                    <a:pt x="9875" y="150160"/>
                  </a:lnTo>
                  <a:lnTo>
                    <a:pt x="9123" y="155987"/>
                  </a:lnTo>
                  <a:lnTo>
                    <a:pt x="7775" y="160718"/>
                  </a:lnTo>
                  <a:lnTo>
                    <a:pt x="6030" y="164718"/>
                  </a:lnTo>
                  <a:lnTo>
                    <a:pt x="4021" y="168232"/>
                  </a:lnTo>
                  <a:lnTo>
                    <a:pt x="2680" y="171422"/>
                  </a:lnTo>
                  <a:lnTo>
                    <a:pt x="1787" y="174394"/>
                  </a:lnTo>
                  <a:lnTo>
                    <a:pt x="0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70"/>
            <p:cNvSpPr/>
            <p:nvPr/>
          </p:nvSpPr>
          <p:spPr>
            <a:xfrm>
              <a:off x="2255040" y="3421800"/>
              <a:ext cx="281880" cy="1821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81941" h="182429">
                  <a:moveTo>
                    <a:pt x="0" y="22830"/>
                  </a:moveTo>
                  <a:lnTo>
                    <a:pt x="0" y="18785"/>
                  </a:lnTo>
                  <a:lnTo>
                    <a:pt x="847" y="17593"/>
                  </a:lnTo>
                  <a:lnTo>
                    <a:pt x="2258" y="16799"/>
                  </a:lnTo>
                  <a:lnTo>
                    <a:pt x="4046" y="16269"/>
                  </a:lnTo>
                  <a:lnTo>
                    <a:pt x="10547" y="15681"/>
                  </a:lnTo>
                  <a:lnTo>
                    <a:pt x="14652" y="15524"/>
                  </a:lnTo>
                  <a:lnTo>
                    <a:pt x="18234" y="14573"/>
                  </a:lnTo>
                  <a:lnTo>
                    <a:pt x="24473" y="11258"/>
                  </a:lnTo>
                  <a:lnTo>
                    <a:pt x="32326" y="9220"/>
                  </a:lnTo>
                  <a:lnTo>
                    <a:pt x="36791" y="8677"/>
                  </a:lnTo>
                  <a:lnTo>
                    <a:pt x="42307" y="7468"/>
                  </a:lnTo>
                  <a:lnTo>
                    <a:pt x="48525" y="5815"/>
                  </a:lnTo>
                  <a:lnTo>
                    <a:pt x="55210" y="3867"/>
                  </a:lnTo>
                  <a:lnTo>
                    <a:pt x="61360" y="2568"/>
                  </a:lnTo>
                  <a:lnTo>
                    <a:pt x="67153" y="1702"/>
                  </a:lnTo>
                  <a:lnTo>
                    <a:pt x="72709" y="1125"/>
                  </a:lnTo>
                  <a:lnTo>
                    <a:pt x="78106" y="740"/>
                  </a:lnTo>
                  <a:lnTo>
                    <a:pt x="83398" y="483"/>
                  </a:lnTo>
                  <a:lnTo>
                    <a:pt x="93792" y="198"/>
                  </a:lnTo>
                  <a:lnTo>
                    <a:pt x="119355" y="0"/>
                  </a:lnTo>
                  <a:lnTo>
                    <a:pt x="123597" y="837"/>
                  </a:lnTo>
                  <a:lnTo>
                    <a:pt x="130568" y="4024"/>
                  </a:lnTo>
                  <a:lnTo>
                    <a:pt x="132765" y="6059"/>
                  </a:lnTo>
                  <a:lnTo>
                    <a:pt x="134230" y="8263"/>
                  </a:lnTo>
                  <a:lnTo>
                    <a:pt x="135207" y="10579"/>
                  </a:lnTo>
                  <a:lnTo>
                    <a:pt x="135858" y="13816"/>
                  </a:lnTo>
                  <a:lnTo>
                    <a:pt x="136292" y="17667"/>
                  </a:lnTo>
                  <a:lnTo>
                    <a:pt x="136581" y="21928"/>
                  </a:lnTo>
                  <a:lnTo>
                    <a:pt x="136774" y="26462"/>
                  </a:lnTo>
                  <a:lnTo>
                    <a:pt x="136989" y="36015"/>
                  </a:lnTo>
                  <a:lnTo>
                    <a:pt x="136199" y="40934"/>
                  </a:lnTo>
                  <a:lnTo>
                    <a:pt x="134827" y="45906"/>
                  </a:lnTo>
                  <a:lnTo>
                    <a:pt x="133064" y="50914"/>
                  </a:lnTo>
                  <a:lnTo>
                    <a:pt x="130196" y="56793"/>
                  </a:lnTo>
                  <a:lnTo>
                    <a:pt x="126591" y="63252"/>
                  </a:lnTo>
                  <a:lnTo>
                    <a:pt x="122494" y="70098"/>
                  </a:lnTo>
                  <a:lnTo>
                    <a:pt x="113426" y="84478"/>
                  </a:lnTo>
                  <a:lnTo>
                    <a:pt x="108637" y="91869"/>
                  </a:lnTo>
                  <a:lnTo>
                    <a:pt x="103752" y="97642"/>
                  </a:lnTo>
                  <a:lnTo>
                    <a:pt x="98801" y="102338"/>
                  </a:lnTo>
                  <a:lnTo>
                    <a:pt x="93808" y="106315"/>
                  </a:lnTo>
                  <a:lnTo>
                    <a:pt x="89632" y="110660"/>
                  </a:lnTo>
                  <a:lnTo>
                    <a:pt x="86001" y="115250"/>
                  </a:lnTo>
                  <a:lnTo>
                    <a:pt x="82734" y="120004"/>
                  </a:lnTo>
                  <a:lnTo>
                    <a:pt x="78863" y="124866"/>
                  </a:lnTo>
                  <a:lnTo>
                    <a:pt x="74589" y="129801"/>
                  </a:lnTo>
                  <a:lnTo>
                    <a:pt x="70046" y="134784"/>
                  </a:lnTo>
                  <a:lnTo>
                    <a:pt x="67017" y="139799"/>
                  </a:lnTo>
                  <a:lnTo>
                    <a:pt x="64998" y="144836"/>
                  </a:lnTo>
                  <a:lnTo>
                    <a:pt x="63652" y="149888"/>
                  </a:lnTo>
                  <a:lnTo>
                    <a:pt x="62755" y="154102"/>
                  </a:lnTo>
                  <a:lnTo>
                    <a:pt x="62157" y="157758"/>
                  </a:lnTo>
                  <a:lnTo>
                    <a:pt x="61758" y="161042"/>
                  </a:lnTo>
                  <a:lnTo>
                    <a:pt x="62339" y="163231"/>
                  </a:lnTo>
                  <a:lnTo>
                    <a:pt x="63573" y="164691"/>
                  </a:lnTo>
                  <a:lnTo>
                    <a:pt x="67201" y="167159"/>
                  </a:lnTo>
                  <a:lnTo>
                    <a:pt x="71636" y="171079"/>
                  </a:lnTo>
                  <a:lnTo>
                    <a:pt x="76430" y="175643"/>
                  </a:lnTo>
                  <a:lnTo>
                    <a:pt x="78893" y="178045"/>
                  </a:lnTo>
                  <a:lnTo>
                    <a:pt x="83076" y="179647"/>
                  </a:lnTo>
                  <a:lnTo>
                    <a:pt x="88404" y="180714"/>
                  </a:lnTo>
                  <a:lnTo>
                    <a:pt x="94496" y="181426"/>
                  </a:lnTo>
                  <a:lnTo>
                    <a:pt x="101097" y="181901"/>
                  </a:lnTo>
                  <a:lnTo>
                    <a:pt x="108038" y="182217"/>
                  </a:lnTo>
                  <a:lnTo>
                    <a:pt x="115205" y="182428"/>
                  </a:lnTo>
                  <a:lnTo>
                    <a:pt x="123370" y="181722"/>
                  </a:lnTo>
                  <a:lnTo>
                    <a:pt x="132200" y="180405"/>
                  </a:lnTo>
                  <a:lnTo>
                    <a:pt x="141474" y="178680"/>
                  </a:lnTo>
                  <a:lnTo>
                    <a:pt x="151042" y="177530"/>
                  </a:lnTo>
                  <a:lnTo>
                    <a:pt x="160808" y="176763"/>
                  </a:lnTo>
                  <a:lnTo>
                    <a:pt x="170705" y="176252"/>
                  </a:lnTo>
                  <a:lnTo>
                    <a:pt x="180691" y="175065"/>
                  </a:lnTo>
                  <a:lnTo>
                    <a:pt x="190734" y="173426"/>
                  </a:lnTo>
                  <a:lnTo>
                    <a:pt x="200816" y="171488"/>
                  </a:lnTo>
                  <a:lnTo>
                    <a:pt x="210077" y="170195"/>
                  </a:lnTo>
                  <a:lnTo>
                    <a:pt x="218792" y="169334"/>
                  </a:lnTo>
                  <a:lnTo>
                    <a:pt x="227141" y="168759"/>
                  </a:lnTo>
                  <a:lnTo>
                    <a:pt x="235247" y="168376"/>
                  </a:lnTo>
                  <a:lnTo>
                    <a:pt x="251028" y="167950"/>
                  </a:lnTo>
                  <a:lnTo>
                    <a:pt x="281940" y="1676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MARTInkAnnotation71"/>
            <p:cNvSpPr/>
            <p:nvPr/>
          </p:nvSpPr>
          <p:spPr>
            <a:xfrm>
              <a:off x="2956680" y="3292200"/>
              <a:ext cx="102240" cy="651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02420" h="65254">
                  <a:moveTo>
                    <a:pt x="30043" y="15231"/>
                  </a:moveTo>
                  <a:lnTo>
                    <a:pt x="30043" y="21792"/>
                  </a:lnTo>
                  <a:lnTo>
                    <a:pt x="29196" y="22145"/>
                  </a:lnTo>
                  <a:lnTo>
                    <a:pt x="25998" y="22537"/>
                  </a:lnTo>
                  <a:lnTo>
                    <a:pt x="23482" y="22758"/>
                  </a:lnTo>
                  <a:lnTo>
                    <a:pt x="20636" y="22810"/>
                  </a:lnTo>
                  <a:lnTo>
                    <a:pt x="11910" y="22843"/>
                  </a:lnTo>
                  <a:lnTo>
                    <a:pt x="9488" y="21999"/>
                  </a:lnTo>
                  <a:lnTo>
                    <a:pt x="7026" y="20590"/>
                  </a:lnTo>
                  <a:lnTo>
                    <a:pt x="1038" y="16289"/>
                  </a:lnTo>
                  <a:lnTo>
                    <a:pt x="546" y="15090"/>
                  </a:lnTo>
                  <a:lnTo>
                    <a:pt x="218" y="13444"/>
                  </a:lnTo>
                  <a:lnTo>
                    <a:pt x="0" y="11499"/>
                  </a:lnTo>
                  <a:lnTo>
                    <a:pt x="701" y="10203"/>
                  </a:lnTo>
                  <a:lnTo>
                    <a:pt x="2015" y="9339"/>
                  </a:lnTo>
                  <a:lnTo>
                    <a:pt x="3738" y="8763"/>
                  </a:lnTo>
                  <a:lnTo>
                    <a:pt x="5733" y="7533"/>
                  </a:lnTo>
                  <a:lnTo>
                    <a:pt x="7909" y="5865"/>
                  </a:lnTo>
                  <a:lnTo>
                    <a:pt x="10207" y="3907"/>
                  </a:lnTo>
                  <a:lnTo>
                    <a:pt x="12586" y="2602"/>
                  </a:lnTo>
                  <a:lnTo>
                    <a:pt x="15018" y="1731"/>
                  </a:lnTo>
                  <a:lnTo>
                    <a:pt x="17487" y="1152"/>
                  </a:lnTo>
                  <a:lnTo>
                    <a:pt x="20825" y="764"/>
                  </a:lnTo>
                  <a:lnTo>
                    <a:pt x="24745" y="507"/>
                  </a:lnTo>
                  <a:lnTo>
                    <a:pt x="29051" y="335"/>
                  </a:lnTo>
                  <a:lnTo>
                    <a:pt x="38351" y="144"/>
                  </a:lnTo>
                  <a:lnTo>
                    <a:pt x="73263" y="0"/>
                  </a:lnTo>
                  <a:lnTo>
                    <a:pt x="78330" y="844"/>
                  </a:lnTo>
                  <a:lnTo>
                    <a:pt x="83401" y="2253"/>
                  </a:lnTo>
                  <a:lnTo>
                    <a:pt x="88475" y="4039"/>
                  </a:lnTo>
                  <a:lnTo>
                    <a:pt x="91857" y="6076"/>
                  </a:lnTo>
                  <a:lnTo>
                    <a:pt x="94113" y="8281"/>
                  </a:lnTo>
                  <a:lnTo>
                    <a:pt x="95616" y="10598"/>
                  </a:lnTo>
                  <a:lnTo>
                    <a:pt x="97465" y="12989"/>
                  </a:lnTo>
                  <a:lnTo>
                    <a:pt x="99545" y="15430"/>
                  </a:lnTo>
                  <a:lnTo>
                    <a:pt x="101777" y="17903"/>
                  </a:lnTo>
                  <a:lnTo>
                    <a:pt x="102419" y="20400"/>
                  </a:lnTo>
                  <a:lnTo>
                    <a:pt x="102000" y="22910"/>
                  </a:lnTo>
                  <a:lnTo>
                    <a:pt x="100875" y="25430"/>
                  </a:lnTo>
                  <a:lnTo>
                    <a:pt x="100124" y="27957"/>
                  </a:lnTo>
                  <a:lnTo>
                    <a:pt x="99624" y="30489"/>
                  </a:lnTo>
                  <a:lnTo>
                    <a:pt x="99290" y="33022"/>
                  </a:lnTo>
                  <a:lnTo>
                    <a:pt x="97375" y="35559"/>
                  </a:lnTo>
                  <a:lnTo>
                    <a:pt x="94404" y="38096"/>
                  </a:lnTo>
                  <a:lnTo>
                    <a:pt x="90730" y="40634"/>
                  </a:lnTo>
                  <a:lnTo>
                    <a:pt x="87435" y="43173"/>
                  </a:lnTo>
                  <a:lnTo>
                    <a:pt x="84391" y="45712"/>
                  </a:lnTo>
                  <a:lnTo>
                    <a:pt x="81515" y="48252"/>
                  </a:lnTo>
                  <a:lnTo>
                    <a:pt x="77904" y="50792"/>
                  </a:lnTo>
                  <a:lnTo>
                    <a:pt x="73804" y="53332"/>
                  </a:lnTo>
                  <a:lnTo>
                    <a:pt x="69377" y="55871"/>
                  </a:lnTo>
                  <a:lnTo>
                    <a:pt x="65579" y="57565"/>
                  </a:lnTo>
                  <a:lnTo>
                    <a:pt x="62200" y="58693"/>
                  </a:lnTo>
                  <a:lnTo>
                    <a:pt x="59101" y="59446"/>
                  </a:lnTo>
                  <a:lnTo>
                    <a:pt x="56188" y="59948"/>
                  </a:lnTo>
                  <a:lnTo>
                    <a:pt x="53400" y="60282"/>
                  </a:lnTo>
                  <a:lnTo>
                    <a:pt x="50694" y="60505"/>
                  </a:lnTo>
                  <a:lnTo>
                    <a:pt x="48044" y="61500"/>
                  </a:lnTo>
                  <a:lnTo>
                    <a:pt x="45430" y="63011"/>
                  </a:lnTo>
                  <a:lnTo>
                    <a:pt x="42841" y="64864"/>
                  </a:lnTo>
                  <a:lnTo>
                    <a:pt x="41115" y="65253"/>
                  </a:lnTo>
                  <a:lnTo>
                    <a:pt x="39964" y="64666"/>
                  </a:lnTo>
                  <a:lnTo>
                    <a:pt x="37798" y="61168"/>
                  </a:lnTo>
                  <a:lnTo>
                    <a:pt x="37753" y="60249"/>
                  </a:lnTo>
                  <a:lnTo>
                    <a:pt x="37703" y="56970"/>
                  </a:lnTo>
                  <a:lnTo>
                    <a:pt x="38537" y="54911"/>
                  </a:lnTo>
                  <a:lnTo>
                    <a:pt x="39938" y="52691"/>
                  </a:lnTo>
                  <a:lnTo>
                    <a:pt x="41720" y="50364"/>
                  </a:lnTo>
                  <a:lnTo>
                    <a:pt x="43754" y="47967"/>
                  </a:lnTo>
                  <a:lnTo>
                    <a:pt x="45957" y="45521"/>
                  </a:lnTo>
                  <a:lnTo>
                    <a:pt x="48272" y="43045"/>
                  </a:lnTo>
                  <a:lnTo>
                    <a:pt x="51509" y="41394"/>
                  </a:lnTo>
                  <a:lnTo>
                    <a:pt x="55360" y="40293"/>
                  </a:lnTo>
                  <a:lnTo>
                    <a:pt x="59622" y="39559"/>
                  </a:lnTo>
                  <a:lnTo>
                    <a:pt x="63309" y="38223"/>
                  </a:lnTo>
                  <a:lnTo>
                    <a:pt x="66613" y="36485"/>
                  </a:lnTo>
                  <a:lnTo>
                    <a:pt x="69664" y="34481"/>
                  </a:lnTo>
                  <a:lnTo>
                    <a:pt x="72543" y="33144"/>
                  </a:lnTo>
                  <a:lnTo>
                    <a:pt x="75310" y="32253"/>
                  </a:lnTo>
                  <a:lnTo>
                    <a:pt x="82911" y="30576"/>
                  </a:lnTo>
                  <a:lnTo>
                    <a:pt x="83068" y="31387"/>
                  </a:lnTo>
                  <a:lnTo>
                    <a:pt x="83173" y="32775"/>
                  </a:lnTo>
                  <a:lnTo>
                    <a:pt x="83243" y="34547"/>
                  </a:lnTo>
                  <a:lnTo>
                    <a:pt x="82443" y="35729"/>
                  </a:lnTo>
                  <a:lnTo>
                    <a:pt x="81063" y="36516"/>
                  </a:lnTo>
                  <a:lnTo>
                    <a:pt x="79296" y="37041"/>
                  </a:lnTo>
                  <a:lnTo>
                    <a:pt x="78119" y="38238"/>
                  </a:lnTo>
                  <a:lnTo>
                    <a:pt x="77333" y="39882"/>
                  </a:lnTo>
                  <a:lnTo>
                    <a:pt x="76810" y="41825"/>
                  </a:lnTo>
                  <a:lnTo>
                    <a:pt x="75614" y="43967"/>
                  </a:lnTo>
                  <a:lnTo>
                    <a:pt x="73971" y="46242"/>
                  </a:lnTo>
                  <a:lnTo>
                    <a:pt x="72028" y="48605"/>
                  </a:lnTo>
                  <a:lnTo>
                    <a:pt x="69040" y="50180"/>
                  </a:lnTo>
                  <a:lnTo>
                    <a:pt x="65355" y="51230"/>
                  </a:lnTo>
                  <a:lnTo>
                    <a:pt x="61204" y="51931"/>
                  </a:lnTo>
                  <a:lnTo>
                    <a:pt x="56744" y="53244"/>
                  </a:lnTo>
                  <a:lnTo>
                    <a:pt x="52077" y="54966"/>
                  </a:lnTo>
                  <a:lnTo>
                    <a:pt x="47272" y="56961"/>
                  </a:lnTo>
                  <a:lnTo>
                    <a:pt x="43222" y="58291"/>
                  </a:lnTo>
                  <a:lnTo>
                    <a:pt x="39676" y="59178"/>
                  </a:lnTo>
                  <a:lnTo>
                    <a:pt x="31946" y="60601"/>
                  </a:lnTo>
                  <a:lnTo>
                    <a:pt x="30465" y="60718"/>
                  </a:lnTo>
                  <a:lnTo>
                    <a:pt x="28631" y="60796"/>
                  </a:lnTo>
                  <a:lnTo>
                    <a:pt x="23649" y="60920"/>
                  </a:lnTo>
                  <a:lnTo>
                    <a:pt x="23240" y="60084"/>
                  </a:lnTo>
                  <a:lnTo>
                    <a:pt x="22968" y="58679"/>
                  </a:lnTo>
                  <a:lnTo>
                    <a:pt x="22786" y="56897"/>
                  </a:lnTo>
                  <a:lnTo>
                    <a:pt x="24359" y="55708"/>
                  </a:lnTo>
                  <a:lnTo>
                    <a:pt x="27100" y="54916"/>
                  </a:lnTo>
                  <a:lnTo>
                    <a:pt x="30621" y="54387"/>
                  </a:lnTo>
                  <a:lnTo>
                    <a:pt x="33815" y="53189"/>
                  </a:lnTo>
                  <a:lnTo>
                    <a:pt x="36791" y="51543"/>
                  </a:lnTo>
                  <a:lnTo>
                    <a:pt x="39622" y="49599"/>
                  </a:lnTo>
                  <a:lnTo>
                    <a:pt x="43202" y="47456"/>
                  </a:lnTo>
                  <a:lnTo>
                    <a:pt x="47283" y="45181"/>
                  </a:lnTo>
                  <a:lnTo>
                    <a:pt x="56332" y="40396"/>
                  </a:lnTo>
                  <a:lnTo>
                    <a:pt x="65998" y="35447"/>
                  </a:lnTo>
                  <a:lnTo>
                    <a:pt x="70100" y="33788"/>
                  </a:lnTo>
                  <a:lnTo>
                    <a:pt x="73681" y="32683"/>
                  </a:lnTo>
                  <a:lnTo>
                    <a:pt x="76915" y="31945"/>
                  </a:lnTo>
                  <a:lnTo>
                    <a:pt x="79918" y="30607"/>
                  </a:lnTo>
                  <a:lnTo>
                    <a:pt x="82766" y="28868"/>
                  </a:lnTo>
                  <a:lnTo>
                    <a:pt x="85512" y="26862"/>
                  </a:lnTo>
                  <a:lnTo>
                    <a:pt x="88189" y="25525"/>
                  </a:lnTo>
                  <a:lnTo>
                    <a:pt x="90820" y="24634"/>
                  </a:lnTo>
                  <a:lnTo>
                    <a:pt x="97082" y="23203"/>
                  </a:lnTo>
                  <a:lnTo>
                    <a:pt x="97596" y="23932"/>
                  </a:lnTo>
                  <a:lnTo>
                    <a:pt x="97938" y="25265"/>
                  </a:lnTo>
                  <a:lnTo>
                    <a:pt x="98488" y="29443"/>
                  </a:lnTo>
                  <a:lnTo>
                    <a:pt x="97687" y="30632"/>
                  </a:lnTo>
                  <a:lnTo>
                    <a:pt x="96305" y="32272"/>
                  </a:lnTo>
                  <a:lnTo>
                    <a:pt x="94538" y="34212"/>
                  </a:lnTo>
                  <a:lnTo>
                    <a:pt x="90316" y="38624"/>
                  </a:lnTo>
                  <a:lnTo>
                    <a:pt x="88005" y="40987"/>
                  </a:lnTo>
                  <a:lnTo>
                    <a:pt x="85618" y="42561"/>
                  </a:lnTo>
                  <a:lnTo>
                    <a:pt x="83180" y="43611"/>
                  </a:lnTo>
                  <a:lnTo>
                    <a:pt x="80707" y="44311"/>
                  </a:lnTo>
                  <a:lnTo>
                    <a:pt x="79059" y="45624"/>
                  </a:lnTo>
                  <a:lnTo>
                    <a:pt x="77960" y="47347"/>
                  </a:lnTo>
                  <a:lnTo>
                    <a:pt x="75763" y="533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MARTInkAnnotation72"/>
            <p:cNvSpPr/>
            <p:nvPr/>
          </p:nvSpPr>
          <p:spPr>
            <a:xfrm>
              <a:off x="3184920" y="3246480"/>
              <a:ext cx="114120" cy="15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14301" h="15241">
                  <a:moveTo>
                    <a:pt x="0" y="15240"/>
                  </a:moveTo>
                  <a:lnTo>
                    <a:pt x="0" y="8679"/>
                  </a:lnTo>
                  <a:lnTo>
                    <a:pt x="847" y="8326"/>
                  </a:lnTo>
                  <a:lnTo>
                    <a:pt x="4045" y="7934"/>
                  </a:lnTo>
                  <a:lnTo>
                    <a:pt x="6930" y="7829"/>
                  </a:lnTo>
                  <a:lnTo>
                    <a:pt x="14651" y="7713"/>
                  </a:lnTo>
                  <a:lnTo>
                    <a:pt x="19081" y="6836"/>
                  </a:lnTo>
                  <a:lnTo>
                    <a:pt x="23727" y="5404"/>
                  </a:lnTo>
                  <a:lnTo>
                    <a:pt x="28518" y="3603"/>
                  </a:lnTo>
                  <a:lnTo>
                    <a:pt x="35099" y="2402"/>
                  </a:lnTo>
                  <a:lnTo>
                    <a:pt x="42872" y="1601"/>
                  </a:lnTo>
                  <a:lnTo>
                    <a:pt x="51441" y="1068"/>
                  </a:lnTo>
                  <a:lnTo>
                    <a:pt x="67736" y="475"/>
                  </a:lnTo>
                  <a:lnTo>
                    <a:pt x="114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SMARTInkAnnotation73"/>
            <p:cNvSpPr/>
            <p:nvPr/>
          </p:nvSpPr>
          <p:spPr>
            <a:xfrm>
              <a:off x="3428640" y="3155040"/>
              <a:ext cx="30240" cy="213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30481" h="213361">
                  <a:moveTo>
                    <a:pt x="30480" y="0"/>
                  </a:moveTo>
                  <a:lnTo>
                    <a:pt x="30480" y="29550"/>
                  </a:lnTo>
                  <a:lnTo>
                    <a:pt x="29633" y="34093"/>
                  </a:lnTo>
                  <a:lnTo>
                    <a:pt x="28223" y="38815"/>
                  </a:lnTo>
                  <a:lnTo>
                    <a:pt x="24397" y="49425"/>
                  </a:lnTo>
                  <a:lnTo>
                    <a:pt x="19874" y="62606"/>
                  </a:lnTo>
                  <a:lnTo>
                    <a:pt x="18330" y="68831"/>
                  </a:lnTo>
                  <a:lnTo>
                    <a:pt x="17299" y="74674"/>
                  </a:lnTo>
                  <a:lnTo>
                    <a:pt x="16613" y="80262"/>
                  </a:lnTo>
                  <a:lnTo>
                    <a:pt x="15309" y="86529"/>
                  </a:lnTo>
                  <a:lnTo>
                    <a:pt x="13593" y="93245"/>
                  </a:lnTo>
                  <a:lnTo>
                    <a:pt x="11602" y="100264"/>
                  </a:lnTo>
                  <a:lnTo>
                    <a:pt x="7132" y="114835"/>
                  </a:lnTo>
                  <a:lnTo>
                    <a:pt x="4755" y="122277"/>
                  </a:lnTo>
                  <a:lnTo>
                    <a:pt x="3170" y="128931"/>
                  </a:lnTo>
                  <a:lnTo>
                    <a:pt x="2113" y="135061"/>
                  </a:lnTo>
                  <a:lnTo>
                    <a:pt x="1409" y="140841"/>
                  </a:lnTo>
                  <a:lnTo>
                    <a:pt x="939" y="147234"/>
                  </a:lnTo>
                  <a:lnTo>
                    <a:pt x="626" y="154036"/>
                  </a:lnTo>
                  <a:lnTo>
                    <a:pt x="186" y="173487"/>
                  </a:lnTo>
                  <a:lnTo>
                    <a:pt x="0" y="213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SMARTInkAnnotation74"/>
            <p:cNvSpPr/>
            <p:nvPr/>
          </p:nvSpPr>
          <p:spPr>
            <a:xfrm>
              <a:off x="3581280" y="3170520"/>
              <a:ext cx="190440" cy="205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0501" h="205535">
                  <a:moveTo>
                    <a:pt x="0" y="22758"/>
                  </a:moveTo>
                  <a:lnTo>
                    <a:pt x="0" y="15452"/>
                  </a:lnTo>
                  <a:lnTo>
                    <a:pt x="4516" y="13020"/>
                  </a:lnTo>
                  <a:lnTo>
                    <a:pt x="8091" y="11186"/>
                  </a:lnTo>
                  <a:lnTo>
                    <a:pt x="12167" y="9963"/>
                  </a:lnTo>
                  <a:lnTo>
                    <a:pt x="16578" y="9148"/>
                  </a:lnTo>
                  <a:lnTo>
                    <a:pt x="21212" y="8605"/>
                  </a:lnTo>
                  <a:lnTo>
                    <a:pt x="25148" y="7396"/>
                  </a:lnTo>
                  <a:lnTo>
                    <a:pt x="28618" y="5743"/>
                  </a:lnTo>
                  <a:lnTo>
                    <a:pt x="31779" y="3795"/>
                  </a:lnTo>
                  <a:lnTo>
                    <a:pt x="36426" y="2496"/>
                  </a:lnTo>
                  <a:lnTo>
                    <a:pt x="42064" y="1630"/>
                  </a:lnTo>
                  <a:lnTo>
                    <a:pt x="48363" y="1053"/>
                  </a:lnTo>
                  <a:lnTo>
                    <a:pt x="55102" y="668"/>
                  </a:lnTo>
                  <a:lnTo>
                    <a:pt x="69363" y="240"/>
                  </a:lnTo>
                  <a:lnTo>
                    <a:pt x="91672" y="0"/>
                  </a:lnTo>
                  <a:lnTo>
                    <a:pt x="98368" y="813"/>
                  </a:lnTo>
                  <a:lnTo>
                    <a:pt x="104525" y="2201"/>
                  </a:lnTo>
                  <a:lnTo>
                    <a:pt x="110323" y="3973"/>
                  </a:lnTo>
                  <a:lnTo>
                    <a:pt x="115882" y="5155"/>
                  </a:lnTo>
                  <a:lnTo>
                    <a:pt x="121282" y="5943"/>
                  </a:lnTo>
                  <a:lnTo>
                    <a:pt x="126574" y="6468"/>
                  </a:lnTo>
                  <a:lnTo>
                    <a:pt x="130950" y="7664"/>
                  </a:lnTo>
                  <a:lnTo>
                    <a:pt x="134713" y="9309"/>
                  </a:lnTo>
                  <a:lnTo>
                    <a:pt x="138069" y="11252"/>
                  </a:lnTo>
                  <a:lnTo>
                    <a:pt x="146313" y="15669"/>
                  </a:lnTo>
                  <a:lnTo>
                    <a:pt x="150882" y="18032"/>
                  </a:lnTo>
                  <a:lnTo>
                    <a:pt x="153928" y="20454"/>
                  </a:lnTo>
                  <a:lnTo>
                    <a:pt x="155959" y="22915"/>
                  </a:lnTo>
                  <a:lnTo>
                    <a:pt x="157312" y="25403"/>
                  </a:lnTo>
                  <a:lnTo>
                    <a:pt x="157368" y="28755"/>
                  </a:lnTo>
                  <a:lnTo>
                    <a:pt x="156559" y="32682"/>
                  </a:lnTo>
                  <a:lnTo>
                    <a:pt x="155173" y="36995"/>
                  </a:lnTo>
                  <a:lnTo>
                    <a:pt x="152555" y="41562"/>
                  </a:lnTo>
                  <a:lnTo>
                    <a:pt x="149116" y="46301"/>
                  </a:lnTo>
                  <a:lnTo>
                    <a:pt x="145131" y="51154"/>
                  </a:lnTo>
                  <a:lnTo>
                    <a:pt x="140781" y="56082"/>
                  </a:lnTo>
                  <a:lnTo>
                    <a:pt x="131431" y="66073"/>
                  </a:lnTo>
                  <a:lnTo>
                    <a:pt x="125721" y="71108"/>
                  </a:lnTo>
                  <a:lnTo>
                    <a:pt x="119374" y="76158"/>
                  </a:lnTo>
                  <a:lnTo>
                    <a:pt x="112602" y="81218"/>
                  </a:lnTo>
                  <a:lnTo>
                    <a:pt x="106395" y="86285"/>
                  </a:lnTo>
                  <a:lnTo>
                    <a:pt x="100563" y="91356"/>
                  </a:lnTo>
                  <a:lnTo>
                    <a:pt x="94982" y="96430"/>
                  </a:lnTo>
                  <a:lnTo>
                    <a:pt x="88722" y="101506"/>
                  </a:lnTo>
                  <a:lnTo>
                    <a:pt x="82008" y="106583"/>
                  </a:lnTo>
                  <a:lnTo>
                    <a:pt x="74992" y="111661"/>
                  </a:lnTo>
                  <a:lnTo>
                    <a:pt x="68621" y="116741"/>
                  </a:lnTo>
                  <a:lnTo>
                    <a:pt x="62681" y="121820"/>
                  </a:lnTo>
                  <a:lnTo>
                    <a:pt x="52411" y="131132"/>
                  </a:lnTo>
                  <a:lnTo>
                    <a:pt x="45025" y="138093"/>
                  </a:lnTo>
                  <a:lnTo>
                    <a:pt x="41870" y="141982"/>
                  </a:lnTo>
                  <a:lnTo>
                    <a:pt x="38920" y="146267"/>
                  </a:lnTo>
                  <a:lnTo>
                    <a:pt x="36107" y="150818"/>
                  </a:lnTo>
                  <a:lnTo>
                    <a:pt x="34232" y="154698"/>
                  </a:lnTo>
                  <a:lnTo>
                    <a:pt x="32981" y="158131"/>
                  </a:lnTo>
                  <a:lnTo>
                    <a:pt x="31591" y="164204"/>
                  </a:lnTo>
                  <a:lnTo>
                    <a:pt x="30974" y="169725"/>
                  </a:lnTo>
                  <a:lnTo>
                    <a:pt x="32503" y="172383"/>
                  </a:lnTo>
                  <a:lnTo>
                    <a:pt x="35215" y="175001"/>
                  </a:lnTo>
                  <a:lnTo>
                    <a:pt x="38717" y="177594"/>
                  </a:lnTo>
                  <a:lnTo>
                    <a:pt x="42744" y="180168"/>
                  </a:lnTo>
                  <a:lnTo>
                    <a:pt x="47123" y="182731"/>
                  </a:lnTo>
                  <a:lnTo>
                    <a:pt x="51736" y="185287"/>
                  </a:lnTo>
                  <a:lnTo>
                    <a:pt x="57350" y="187837"/>
                  </a:lnTo>
                  <a:lnTo>
                    <a:pt x="63633" y="190384"/>
                  </a:lnTo>
                  <a:lnTo>
                    <a:pt x="70363" y="192929"/>
                  </a:lnTo>
                  <a:lnTo>
                    <a:pt x="76541" y="194625"/>
                  </a:lnTo>
                  <a:lnTo>
                    <a:pt x="82355" y="195756"/>
                  </a:lnTo>
                  <a:lnTo>
                    <a:pt x="87923" y="196510"/>
                  </a:lnTo>
                  <a:lnTo>
                    <a:pt x="95022" y="197860"/>
                  </a:lnTo>
                  <a:lnTo>
                    <a:pt x="111941" y="201616"/>
                  </a:lnTo>
                  <a:lnTo>
                    <a:pt x="119500" y="202957"/>
                  </a:lnTo>
                  <a:lnTo>
                    <a:pt x="126234" y="203851"/>
                  </a:lnTo>
                  <a:lnTo>
                    <a:pt x="132416" y="204446"/>
                  </a:lnTo>
                  <a:lnTo>
                    <a:pt x="139077" y="204844"/>
                  </a:lnTo>
                  <a:lnTo>
                    <a:pt x="153252" y="205285"/>
                  </a:lnTo>
                  <a:lnTo>
                    <a:pt x="171467" y="205534"/>
                  </a:lnTo>
                  <a:lnTo>
                    <a:pt x="176118" y="204722"/>
                  </a:lnTo>
                  <a:lnTo>
                    <a:pt x="180065" y="203334"/>
                  </a:lnTo>
                  <a:lnTo>
                    <a:pt x="190500" y="1980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MARTInkAnnotation75"/>
            <p:cNvSpPr/>
            <p:nvPr/>
          </p:nvSpPr>
          <p:spPr>
            <a:xfrm>
              <a:off x="640800" y="3338280"/>
              <a:ext cx="81720" cy="453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81842" h="45620">
                  <a:moveTo>
                    <a:pt x="36598" y="22759"/>
                  </a:moveTo>
                  <a:lnTo>
                    <a:pt x="3566" y="22759"/>
                  </a:lnTo>
                  <a:lnTo>
                    <a:pt x="1877" y="21913"/>
                  </a:lnTo>
                  <a:lnTo>
                    <a:pt x="751" y="20501"/>
                  </a:lnTo>
                  <a:lnTo>
                    <a:pt x="0" y="18714"/>
                  </a:lnTo>
                  <a:lnTo>
                    <a:pt x="346" y="17522"/>
                  </a:lnTo>
                  <a:lnTo>
                    <a:pt x="1423" y="16728"/>
                  </a:lnTo>
                  <a:lnTo>
                    <a:pt x="5191" y="15453"/>
                  </a:lnTo>
                  <a:lnTo>
                    <a:pt x="6346" y="14501"/>
                  </a:lnTo>
                  <a:lnTo>
                    <a:pt x="7964" y="13021"/>
                  </a:lnTo>
                  <a:lnTo>
                    <a:pt x="9888" y="11187"/>
                  </a:lnTo>
                  <a:lnTo>
                    <a:pt x="12865" y="9965"/>
                  </a:lnTo>
                  <a:lnTo>
                    <a:pt x="16543" y="9149"/>
                  </a:lnTo>
                  <a:lnTo>
                    <a:pt x="20688" y="8606"/>
                  </a:lnTo>
                  <a:lnTo>
                    <a:pt x="25144" y="7397"/>
                  </a:lnTo>
                  <a:lnTo>
                    <a:pt x="29809" y="5744"/>
                  </a:lnTo>
                  <a:lnTo>
                    <a:pt x="34612" y="3796"/>
                  </a:lnTo>
                  <a:lnTo>
                    <a:pt x="38661" y="2497"/>
                  </a:lnTo>
                  <a:lnTo>
                    <a:pt x="42206" y="1631"/>
                  </a:lnTo>
                  <a:lnTo>
                    <a:pt x="45417" y="1053"/>
                  </a:lnTo>
                  <a:lnTo>
                    <a:pt x="49251" y="669"/>
                  </a:lnTo>
                  <a:lnTo>
                    <a:pt x="53500" y="412"/>
                  </a:lnTo>
                  <a:lnTo>
                    <a:pt x="61890" y="127"/>
                  </a:lnTo>
                  <a:lnTo>
                    <a:pt x="68441" y="0"/>
                  </a:lnTo>
                  <a:lnTo>
                    <a:pt x="71373" y="814"/>
                  </a:lnTo>
                  <a:lnTo>
                    <a:pt x="74175" y="2202"/>
                  </a:lnTo>
                  <a:lnTo>
                    <a:pt x="80709" y="6469"/>
                  </a:lnTo>
                  <a:lnTo>
                    <a:pt x="81245" y="7665"/>
                  </a:lnTo>
                  <a:lnTo>
                    <a:pt x="81603" y="9310"/>
                  </a:lnTo>
                  <a:lnTo>
                    <a:pt x="81841" y="11253"/>
                  </a:lnTo>
                  <a:lnTo>
                    <a:pt x="81154" y="13395"/>
                  </a:lnTo>
                  <a:lnTo>
                    <a:pt x="79848" y="15670"/>
                  </a:lnTo>
                  <a:lnTo>
                    <a:pt x="78132" y="18033"/>
                  </a:lnTo>
                  <a:lnTo>
                    <a:pt x="76140" y="20455"/>
                  </a:lnTo>
                  <a:lnTo>
                    <a:pt x="73966" y="22916"/>
                  </a:lnTo>
                  <a:lnTo>
                    <a:pt x="69293" y="27909"/>
                  </a:lnTo>
                  <a:lnTo>
                    <a:pt x="56875" y="40548"/>
                  </a:lnTo>
                  <a:lnTo>
                    <a:pt x="54349" y="42239"/>
                  </a:lnTo>
                  <a:lnTo>
                    <a:pt x="51819" y="43365"/>
                  </a:lnTo>
                  <a:lnTo>
                    <a:pt x="49285" y="44116"/>
                  </a:lnTo>
                  <a:lnTo>
                    <a:pt x="46750" y="44617"/>
                  </a:lnTo>
                  <a:lnTo>
                    <a:pt x="44212" y="44951"/>
                  </a:lnTo>
                  <a:lnTo>
                    <a:pt x="41674" y="45174"/>
                  </a:lnTo>
                  <a:lnTo>
                    <a:pt x="39135" y="45322"/>
                  </a:lnTo>
                  <a:lnTo>
                    <a:pt x="30483" y="45580"/>
                  </a:lnTo>
                  <a:lnTo>
                    <a:pt x="29981" y="44746"/>
                  </a:lnTo>
                  <a:lnTo>
                    <a:pt x="29647" y="43344"/>
                  </a:lnTo>
                  <a:lnTo>
                    <a:pt x="29424" y="41563"/>
                  </a:lnTo>
                  <a:lnTo>
                    <a:pt x="29275" y="39528"/>
                  </a:lnTo>
                  <a:lnTo>
                    <a:pt x="29176" y="37325"/>
                  </a:lnTo>
                  <a:lnTo>
                    <a:pt x="29066" y="32619"/>
                  </a:lnTo>
                  <a:lnTo>
                    <a:pt x="29017" y="27706"/>
                  </a:lnTo>
                  <a:lnTo>
                    <a:pt x="29851" y="25210"/>
                  </a:lnTo>
                  <a:lnTo>
                    <a:pt x="31253" y="22700"/>
                  </a:lnTo>
                  <a:lnTo>
                    <a:pt x="33035" y="20180"/>
                  </a:lnTo>
                  <a:lnTo>
                    <a:pt x="35069" y="17653"/>
                  </a:lnTo>
                  <a:lnTo>
                    <a:pt x="37272" y="15122"/>
                  </a:lnTo>
                  <a:lnTo>
                    <a:pt x="39587" y="12588"/>
                  </a:lnTo>
                  <a:lnTo>
                    <a:pt x="41978" y="10898"/>
                  </a:lnTo>
                  <a:lnTo>
                    <a:pt x="44418" y="9771"/>
                  </a:lnTo>
                  <a:lnTo>
                    <a:pt x="50372" y="7964"/>
                  </a:lnTo>
                  <a:lnTo>
                    <a:pt x="51707" y="7816"/>
                  </a:lnTo>
                  <a:lnTo>
                    <a:pt x="53444" y="7717"/>
                  </a:lnTo>
                  <a:lnTo>
                    <a:pt x="57632" y="7607"/>
                  </a:lnTo>
                  <a:lnTo>
                    <a:pt x="65667" y="7531"/>
                  </a:lnTo>
                  <a:lnTo>
                    <a:pt x="62615" y="7523"/>
                  </a:lnTo>
                  <a:lnTo>
                    <a:pt x="61562" y="8368"/>
                  </a:lnTo>
                  <a:lnTo>
                    <a:pt x="60861" y="9778"/>
                  </a:lnTo>
                  <a:lnTo>
                    <a:pt x="60393" y="11565"/>
                  </a:lnTo>
                  <a:lnTo>
                    <a:pt x="59235" y="13603"/>
                  </a:lnTo>
                  <a:lnTo>
                    <a:pt x="57616" y="15808"/>
                  </a:lnTo>
                  <a:lnTo>
                    <a:pt x="55690" y="18125"/>
                  </a:lnTo>
                  <a:lnTo>
                    <a:pt x="54406" y="20517"/>
                  </a:lnTo>
                  <a:lnTo>
                    <a:pt x="53550" y="22957"/>
                  </a:lnTo>
                  <a:lnTo>
                    <a:pt x="52979" y="25431"/>
                  </a:lnTo>
                  <a:lnTo>
                    <a:pt x="51752" y="27927"/>
                  </a:lnTo>
                  <a:lnTo>
                    <a:pt x="50087" y="30438"/>
                  </a:lnTo>
                  <a:lnTo>
                    <a:pt x="48131" y="32958"/>
                  </a:lnTo>
                  <a:lnTo>
                    <a:pt x="46827" y="35485"/>
                  </a:lnTo>
                  <a:lnTo>
                    <a:pt x="45957" y="38016"/>
                  </a:lnTo>
                  <a:lnTo>
                    <a:pt x="44218" y="456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76"/>
            <p:cNvSpPr/>
            <p:nvPr/>
          </p:nvSpPr>
          <p:spPr>
            <a:xfrm>
              <a:off x="98280" y="3353400"/>
              <a:ext cx="99000" cy="1512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99061" h="15241">
                  <a:moveTo>
                    <a:pt x="0" y="15240"/>
                  </a:moveTo>
                  <a:lnTo>
                    <a:pt x="25745" y="15240"/>
                  </a:lnTo>
                  <a:lnTo>
                    <a:pt x="28170" y="14394"/>
                  </a:lnTo>
                  <a:lnTo>
                    <a:pt x="30633" y="12983"/>
                  </a:lnTo>
                  <a:lnTo>
                    <a:pt x="33122" y="11195"/>
                  </a:lnTo>
                  <a:lnTo>
                    <a:pt x="35628" y="10003"/>
                  </a:lnTo>
                  <a:lnTo>
                    <a:pt x="38145" y="9209"/>
                  </a:lnTo>
                  <a:lnTo>
                    <a:pt x="40670" y="8679"/>
                  </a:lnTo>
                  <a:lnTo>
                    <a:pt x="43200" y="8326"/>
                  </a:lnTo>
                  <a:lnTo>
                    <a:pt x="45734" y="8091"/>
                  </a:lnTo>
                  <a:lnTo>
                    <a:pt x="48269" y="7934"/>
                  </a:lnTo>
                  <a:lnTo>
                    <a:pt x="51653" y="6983"/>
                  </a:lnTo>
                  <a:lnTo>
                    <a:pt x="55602" y="5502"/>
                  </a:lnTo>
                  <a:lnTo>
                    <a:pt x="59928" y="3668"/>
                  </a:lnTo>
                  <a:lnTo>
                    <a:pt x="63659" y="2446"/>
                  </a:lnTo>
                  <a:lnTo>
                    <a:pt x="66992" y="1630"/>
                  </a:lnTo>
                  <a:lnTo>
                    <a:pt x="70062" y="1087"/>
                  </a:lnTo>
                  <a:lnTo>
                    <a:pt x="73801" y="725"/>
                  </a:lnTo>
                  <a:lnTo>
                    <a:pt x="77988" y="483"/>
                  </a:lnTo>
                  <a:lnTo>
                    <a:pt x="86308" y="215"/>
                  </a:ln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77"/>
            <p:cNvSpPr/>
            <p:nvPr/>
          </p:nvSpPr>
          <p:spPr>
            <a:xfrm>
              <a:off x="258120" y="3200760"/>
              <a:ext cx="37800" cy="1674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8101" h="167641">
                  <a:moveTo>
                    <a:pt x="0" y="0"/>
                  </a:moveTo>
                  <a:lnTo>
                    <a:pt x="6561" y="0"/>
                  </a:lnTo>
                  <a:lnTo>
                    <a:pt x="7761" y="847"/>
                  </a:lnTo>
                  <a:lnTo>
                    <a:pt x="9407" y="2258"/>
                  </a:lnTo>
                  <a:lnTo>
                    <a:pt x="11352" y="4045"/>
                  </a:lnTo>
                  <a:lnTo>
                    <a:pt x="12648" y="6084"/>
                  </a:lnTo>
                  <a:lnTo>
                    <a:pt x="13512" y="8289"/>
                  </a:lnTo>
                  <a:lnTo>
                    <a:pt x="14088" y="10606"/>
                  </a:lnTo>
                  <a:lnTo>
                    <a:pt x="15319" y="13844"/>
                  </a:lnTo>
                  <a:lnTo>
                    <a:pt x="16986" y="17696"/>
                  </a:lnTo>
                  <a:lnTo>
                    <a:pt x="18944" y="21957"/>
                  </a:lnTo>
                  <a:lnTo>
                    <a:pt x="20249" y="25645"/>
                  </a:lnTo>
                  <a:lnTo>
                    <a:pt x="21120" y="28950"/>
                  </a:lnTo>
                  <a:lnTo>
                    <a:pt x="21700" y="32000"/>
                  </a:lnTo>
                  <a:lnTo>
                    <a:pt x="22933" y="35727"/>
                  </a:lnTo>
                  <a:lnTo>
                    <a:pt x="24602" y="39904"/>
                  </a:lnTo>
                  <a:lnTo>
                    <a:pt x="26562" y="44383"/>
                  </a:lnTo>
                  <a:lnTo>
                    <a:pt x="27868" y="49909"/>
                  </a:lnTo>
                  <a:lnTo>
                    <a:pt x="28739" y="56133"/>
                  </a:lnTo>
                  <a:lnTo>
                    <a:pt x="29319" y="62821"/>
                  </a:lnTo>
                  <a:lnTo>
                    <a:pt x="29706" y="68974"/>
                  </a:lnTo>
                  <a:lnTo>
                    <a:pt x="30136" y="80326"/>
                  </a:lnTo>
                  <a:lnTo>
                    <a:pt x="30412" y="106649"/>
                  </a:lnTo>
                  <a:lnTo>
                    <a:pt x="30471" y="134281"/>
                  </a:lnTo>
                  <a:lnTo>
                    <a:pt x="31321" y="139474"/>
                  </a:lnTo>
                  <a:lnTo>
                    <a:pt x="32734" y="144630"/>
                  </a:lnTo>
                  <a:lnTo>
                    <a:pt x="34523" y="149760"/>
                  </a:lnTo>
                  <a:lnTo>
                    <a:pt x="35715" y="154027"/>
                  </a:lnTo>
                  <a:lnTo>
                    <a:pt x="36510" y="157718"/>
                  </a:lnTo>
                  <a:lnTo>
                    <a:pt x="38100" y="1676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78"/>
            <p:cNvSpPr/>
            <p:nvPr/>
          </p:nvSpPr>
          <p:spPr>
            <a:xfrm>
              <a:off x="318960" y="3178080"/>
              <a:ext cx="152280" cy="159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52401" h="159993">
                  <a:moveTo>
                    <a:pt x="0" y="15212"/>
                  </a:moveTo>
                  <a:lnTo>
                    <a:pt x="0" y="11167"/>
                  </a:lnTo>
                  <a:lnTo>
                    <a:pt x="847" y="9975"/>
                  </a:lnTo>
                  <a:lnTo>
                    <a:pt x="2258" y="9181"/>
                  </a:lnTo>
                  <a:lnTo>
                    <a:pt x="6561" y="7906"/>
                  </a:lnTo>
                  <a:lnTo>
                    <a:pt x="8607" y="6955"/>
                  </a:lnTo>
                  <a:lnTo>
                    <a:pt x="15397" y="3640"/>
                  </a:lnTo>
                  <a:lnTo>
                    <a:pt x="18731" y="2417"/>
                  </a:lnTo>
                  <a:lnTo>
                    <a:pt x="21801" y="1602"/>
                  </a:lnTo>
                  <a:lnTo>
                    <a:pt x="24694" y="1059"/>
                  </a:lnTo>
                  <a:lnTo>
                    <a:pt x="28316" y="697"/>
                  </a:lnTo>
                  <a:lnTo>
                    <a:pt x="32424" y="455"/>
                  </a:lnTo>
                  <a:lnTo>
                    <a:pt x="40657" y="187"/>
                  </a:lnTo>
                  <a:lnTo>
                    <a:pt x="50899" y="36"/>
                  </a:lnTo>
                  <a:lnTo>
                    <a:pt x="59593" y="0"/>
                  </a:lnTo>
                  <a:lnTo>
                    <a:pt x="64282" y="838"/>
                  </a:lnTo>
                  <a:lnTo>
                    <a:pt x="69101" y="2242"/>
                  </a:lnTo>
                  <a:lnTo>
                    <a:pt x="74008" y="4026"/>
                  </a:lnTo>
                  <a:lnTo>
                    <a:pt x="78125" y="6061"/>
                  </a:lnTo>
                  <a:lnTo>
                    <a:pt x="81717" y="8264"/>
                  </a:lnTo>
                  <a:lnTo>
                    <a:pt x="84958" y="10581"/>
                  </a:lnTo>
                  <a:lnTo>
                    <a:pt x="87965" y="12971"/>
                  </a:lnTo>
                  <a:lnTo>
                    <a:pt x="90817" y="15411"/>
                  </a:lnTo>
                  <a:lnTo>
                    <a:pt x="93565" y="17885"/>
                  </a:lnTo>
                  <a:lnTo>
                    <a:pt x="95396" y="20381"/>
                  </a:lnTo>
                  <a:lnTo>
                    <a:pt x="96617" y="22891"/>
                  </a:lnTo>
                  <a:lnTo>
                    <a:pt x="97432" y="25412"/>
                  </a:lnTo>
                  <a:lnTo>
                    <a:pt x="97974" y="28785"/>
                  </a:lnTo>
                  <a:lnTo>
                    <a:pt x="98336" y="32728"/>
                  </a:lnTo>
                  <a:lnTo>
                    <a:pt x="98577" y="37049"/>
                  </a:lnTo>
                  <a:lnTo>
                    <a:pt x="98846" y="46366"/>
                  </a:lnTo>
                  <a:lnTo>
                    <a:pt x="98917" y="51222"/>
                  </a:lnTo>
                  <a:lnTo>
                    <a:pt x="98118" y="56152"/>
                  </a:lnTo>
                  <a:lnTo>
                    <a:pt x="96739" y="61132"/>
                  </a:lnTo>
                  <a:lnTo>
                    <a:pt x="94972" y="66145"/>
                  </a:lnTo>
                  <a:lnTo>
                    <a:pt x="92948" y="71181"/>
                  </a:lnTo>
                  <a:lnTo>
                    <a:pt x="90752" y="76231"/>
                  </a:lnTo>
                  <a:lnTo>
                    <a:pt x="86054" y="86358"/>
                  </a:lnTo>
                  <a:lnTo>
                    <a:pt x="81144" y="96504"/>
                  </a:lnTo>
                  <a:lnTo>
                    <a:pt x="77803" y="101580"/>
                  </a:lnTo>
                  <a:lnTo>
                    <a:pt x="73882" y="106657"/>
                  </a:lnTo>
                  <a:lnTo>
                    <a:pt x="69574" y="111735"/>
                  </a:lnTo>
                  <a:lnTo>
                    <a:pt x="66703" y="115968"/>
                  </a:lnTo>
                  <a:lnTo>
                    <a:pt x="64789" y="119636"/>
                  </a:lnTo>
                  <a:lnTo>
                    <a:pt x="63513" y="122928"/>
                  </a:lnTo>
                  <a:lnTo>
                    <a:pt x="61815" y="126816"/>
                  </a:lnTo>
                  <a:lnTo>
                    <a:pt x="57671" y="135652"/>
                  </a:lnTo>
                  <a:lnTo>
                    <a:pt x="57074" y="139532"/>
                  </a:lnTo>
                  <a:lnTo>
                    <a:pt x="57523" y="142965"/>
                  </a:lnTo>
                  <a:lnTo>
                    <a:pt x="60281" y="150514"/>
                  </a:lnTo>
                  <a:lnTo>
                    <a:pt x="62201" y="151980"/>
                  </a:lnTo>
                  <a:lnTo>
                    <a:pt x="65174" y="153804"/>
                  </a:lnTo>
                  <a:lnTo>
                    <a:pt x="68849" y="155867"/>
                  </a:lnTo>
                  <a:lnTo>
                    <a:pt x="72993" y="157242"/>
                  </a:lnTo>
                  <a:lnTo>
                    <a:pt x="77449" y="158159"/>
                  </a:lnTo>
                  <a:lnTo>
                    <a:pt x="82112" y="158770"/>
                  </a:lnTo>
                  <a:lnTo>
                    <a:pt x="86068" y="159177"/>
                  </a:lnTo>
                  <a:lnTo>
                    <a:pt x="89552" y="159449"/>
                  </a:lnTo>
                  <a:lnTo>
                    <a:pt x="92721" y="159630"/>
                  </a:lnTo>
                  <a:lnTo>
                    <a:pt x="100758" y="159831"/>
                  </a:lnTo>
                  <a:lnTo>
                    <a:pt x="152400" y="1599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79"/>
            <p:cNvSpPr/>
            <p:nvPr/>
          </p:nvSpPr>
          <p:spPr>
            <a:xfrm>
              <a:off x="2476080" y="3101760"/>
              <a:ext cx="1409760" cy="44172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409701" h="441961">
                  <a:moveTo>
                    <a:pt x="1409700" y="0"/>
                  </a:moveTo>
                  <a:lnTo>
                    <a:pt x="1401609" y="0"/>
                  </a:lnTo>
                  <a:lnTo>
                    <a:pt x="1393122" y="2258"/>
                  </a:lnTo>
                  <a:lnTo>
                    <a:pt x="1381082" y="6031"/>
                  </a:lnTo>
                  <a:lnTo>
                    <a:pt x="1345308" y="15769"/>
                  </a:lnTo>
                  <a:lnTo>
                    <a:pt x="1303377" y="29550"/>
                  </a:lnTo>
                  <a:lnTo>
                    <a:pt x="1270859" y="39612"/>
                  </a:lnTo>
                  <a:lnTo>
                    <a:pt x="1231685" y="52000"/>
                  </a:lnTo>
                  <a:lnTo>
                    <a:pt x="1191949" y="62351"/>
                  </a:lnTo>
                  <a:lnTo>
                    <a:pt x="1161650" y="70327"/>
                  </a:lnTo>
                  <a:lnTo>
                    <a:pt x="1129276" y="78670"/>
                  </a:lnTo>
                  <a:lnTo>
                    <a:pt x="1081643" y="88973"/>
                  </a:lnTo>
                  <a:lnTo>
                    <a:pt x="1047715" y="97681"/>
                  </a:lnTo>
                  <a:lnTo>
                    <a:pt x="835650" y="157489"/>
                  </a:lnTo>
                  <a:lnTo>
                    <a:pt x="800095" y="169902"/>
                  </a:lnTo>
                  <a:lnTo>
                    <a:pt x="764538" y="183039"/>
                  </a:lnTo>
                  <a:lnTo>
                    <a:pt x="710353" y="200801"/>
                  </a:lnTo>
                  <a:lnTo>
                    <a:pt x="671595" y="214552"/>
                  </a:lnTo>
                  <a:lnTo>
                    <a:pt x="634049" y="229130"/>
                  </a:lnTo>
                  <a:lnTo>
                    <a:pt x="596760" y="244076"/>
                  </a:lnTo>
                  <a:lnTo>
                    <a:pt x="538532" y="266770"/>
                  </a:lnTo>
                  <a:lnTo>
                    <a:pt x="463074" y="297194"/>
                  </a:lnTo>
                  <a:lnTo>
                    <a:pt x="424251" y="312426"/>
                  </a:lnTo>
                  <a:lnTo>
                    <a:pt x="387241" y="327663"/>
                  </a:lnTo>
                  <a:lnTo>
                    <a:pt x="351036" y="340643"/>
                  </a:lnTo>
                  <a:lnTo>
                    <a:pt x="315189" y="352904"/>
                  </a:lnTo>
                  <a:lnTo>
                    <a:pt x="279502" y="366820"/>
                  </a:lnTo>
                  <a:lnTo>
                    <a:pt x="243885" y="379213"/>
                  </a:lnTo>
                  <a:lnTo>
                    <a:pt x="208300" y="389519"/>
                  </a:lnTo>
                  <a:lnTo>
                    <a:pt x="172729" y="396922"/>
                  </a:lnTo>
                  <a:lnTo>
                    <a:pt x="139422" y="405292"/>
                  </a:lnTo>
                  <a:lnTo>
                    <a:pt x="107685" y="414657"/>
                  </a:lnTo>
                  <a:lnTo>
                    <a:pt x="63798" y="427755"/>
                  </a:lnTo>
                  <a:lnTo>
                    <a:pt x="24926" y="435297"/>
                  </a:lnTo>
                  <a:lnTo>
                    <a:pt x="0" y="4419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80"/>
            <p:cNvSpPr/>
            <p:nvPr/>
          </p:nvSpPr>
          <p:spPr>
            <a:xfrm>
              <a:off x="1950120" y="3421800"/>
              <a:ext cx="647640" cy="152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47701" h="152401">
                  <a:moveTo>
                    <a:pt x="647700" y="0"/>
                  </a:moveTo>
                  <a:lnTo>
                    <a:pt x="623006" y="0"/>
                  </a:lnTo>
                  <a:lnTo>
                    <a:pt x="606799" y="4045"/>
                  </a:lnTo>
                  <a:lnTo>
                    <a:pt x="595373" y="8289"/>
                  </a:lnTo>
                  <a:lnTo>
                    <a:pt x="589956" y="10606"/>
                  </a:lnTo>
                  <a:lnTo>
                    <a:pt x="577163" y="13180"/>
                  </a:lnTo>
                  <a:lnTo>
                    <a:pt x="562164" y="15171"/>
                  </a:lnTo>
                  <a:lnTo>
                    <a:pt x="544209" y="18878"/>
                  </a:lnTo>
                  <a:lnTo>
                    <a:pt x="515060" y="25725"/>
                  </a:lnTo>
                  <a:lnTo>
                    <a:pt x="504240" y="29004"/>
                  </a:lnTo>
                  <a:lnTo>
                    <a:pt x="492793" y="32882"/>
                  </a:lnTo>
                  <a:lnTo>
                    <a:pt x="480929" y="37162"/>
                  </a:lnTo>
                  <a:lnTo>
                    <a:pt x="468786" y="40014"/>
                  </a:lnTo>
                  <a:lnTo>
                    <a:pt x="456457" y="41916"/>
                  </a:lnTo>
                  <a:lnTo>
                    <a:pt x="444005" y="43184"/>
                  </a:lnTo>
                  <a:lnTo>
                    <a:pt x="431470" y="45723"/>
                  </a:lnTo>
                  <a:lnTo>
                    <a:pt x="418880" y="49108"/>
                  </a:lnTo>
                  <a:lnTo>
                    <a:pt x="406254" y="53059"/>
                  </a:lnTo>
                  <a:lnTo>
                    <a:pt x="392756" y="56539"/>
                  </a:lnTo>
                  <a:lnTo>
                    <a:pt x="378677" y="59706"/>
                  </a:lnTo>
                  <a:lnTo>
                    <a:pt x="349488" y="65483"/>
                  </a:lnTo>
                  <a:lnTo>
                    <a:pt x="274184" y="78666"/>
                  </a:lnTo>
                  <a:lnTo>
                    <a:pt x="258143" y="82078"/>
                  </a:lnTo>
                  <a:lnTo>
                    <a:pt x="241522" y="86045"/>
                  </a:lnTo>
                  <a:lnTo>
                    <a:pt x="224515" y="90384"/>
                  </a:lnTo>
                  <a:lnTo>
                    <a:pt x="208096" y="94122"/>
                  </a:lnTo>
                  <a:lnTo>
                    <a:pt x="176308" y="100535"/>
                  </a:lnTo>
                  <a:lnTo>
                    <a:pt x="160718" y="104277"/>
                  </a:lnTo>
                  <a:lnTo>
                    <a:pt x="145246" y="108465"/>
                  </a:lnTo>
                  <a:lnTo>
                    <a:pt x="129851" y="112950"/>
                  </a:lnTo>
                  <a:lnTo>
                    <a:pt x="115354" y="117633"/>
                  </a:lnTo>
                  <a:lnTo>
                    <a:pt x="101456" y="122449"/>
                  </a:lnTo>
                  <a:lnTo>
                    <a:pt x="87957" y="127352"/>
                  </a:lnTo>
                  <a:lnTo>
                    <a:pt x="73878" y="131468"/>
                  </a:lnTo>
                  <a:lnTo>
                    <a:pt x="59412" y="135059"/>
                  </a:lnTo>
                  <a:lnTo>
                    <a:pt x="44688" y="138300"/>
                  </a:lnTo>
                  <a:lnTo>
                    <a:pt x="33179" y="141306"/>
                  </a:lnTo>
                  <a:lnTo>
                    <a:pt x="23813" y="144157"/>
                  </a:lnTo>
                  <a:lnTo>
                    <a:pt x="0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81"/>
            <p:cNvSpPr/>
            <p:nvPr/>
          </p:nvSpPr>
          <p:spPr>
            <a:xfrm>
              <a:off x="570600" y="3673440"/>
              <a:ext cx="152280" cy="144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52296" h="144429">
                  <a:moveTo>
                    <a:pt x="60855" y="7619"/>
                  </a:moveTo>
                  <a:lnTo>
                    <a:pt x="60855" y="1058"/>
                  </a:lnTo>
                  <a:lnTo>
                    <a:pt x="61702" y="705"/>
                  </a:lnTo>
                  <a:lnTo>
                    <a:pt x="66092" y="208"/>
                  </a:lnTo>
                  <a:lnTo>
                    <a:pt x="68473" y="0"/>
                  </a:lnTo>
                  <a:lnTo>
                    <a:pt x="64429" y="4044"/>
                  </a:lnTo>
                  <a:lnTo>
                    <a:pt x="63238" y="6929"/>
                  </a:lnTo>
                  <a:lnTo>
                    <a:pt x="62444" y="10546"/>
                  </a:lnTo>
                  <a:lnTo>
                    <a:pt x="61914" y="14650"/>
                  </a:lnTo>
                  <a:lnTo>
                    <a:pt x="60714" y="19080"/>
                  </a:lnTo>
                  <a:lnTo>
                    <a:pt x="59068" y="23726"/>
                  </a:lnTo>
                  <a:lnTo>
                    <a:pt x="57124" y="28517"/>
                  </a:lnTo>
                  <a:lnTo>
                    <a:pt x="54981" y="32558"/>
                  </a:lnTo>
                  <a:lnTo>
                    <a:pt x="52705" y="36098"/>
                  </a:lnTo>
                  <a:lnTo>
                    <a:pt x="50342" y="39305"/>
                  </a:lnTo>
                  <a:lnTo>
                    <a:pt x="47920" y="43136"/>
                  </a:lnTo>
                  <a:lnTo>
                    <a:pt x="45458" y="47384"/>
                  </a:lnTo>
                  <a:lnTo>
                    <a:pt x="42970" y="51909"/>
                  </a:lnTo>
                  <a:lnTo>
                    <a:pt x="39619" y="55772"/>
                  </a:lnTo>
                  <a:lnTo>
                    <a:pt x="35691" y="59194"/>
                  </a:lnTo>
                  <a:lnTo>
                    <a:pt x="31379" y="62323"/>
                  </a:lnTo>
                  <a:lnTo>
                    <a:pt x="27658" y="66102"/>
                  </a:lnTo>
                  <a:lnTo>
                    <a:pt x="24330" y="70314"/>
                  </a:lnTo>
                  <a:lnTo>
                    <a:pt x="21265" y="74816"/>
                  </a:lnTo>
                  <a:lnTo>
                    <a:pt x="18375" y="79511"/>
                  </a:lnTo>
                  <a:lnTo>
                    <a:pt x="15602" y="84334"/>
                  </a:lnTo>
                  <a:lnTo>
                    <a:pt x="12906" y="89242"/>
                  </a:lnTo>
                  <a:lnTo>
                    <a:pt x="11109" y="93361"/>
                  </a:lnTo>
                  <a:lnTo>
                    <a:pt x="9911" y="96954"/>
                  </a:lnTo>
                  <a:lnTo>
                    <a:pt x="9112" y="100196"/>
                  </a:lnTo>
                  <a:lnTo>
                    <a:pt x="7733" y="104050"/>
                  </a:lnTo>
                  <a:lnTo>
                    <a:pt x="5967" y="108313"/>
                  </a:lnTo>
                  <a:lnTo>
                    <a:pt x="1095" y="119231"/>
                  </a:lnTo>
                  <a:lnTo>
                    <a:pt x="428" y="122982"/>
                  </a:lnTo>
                  <a:lnTo>
                    <a:pt x="132" y="127472"/>
                  </a:lnTo>
                  <a:lnTo>
                    <a:pt x="0" y="132289"/>
                  </a:lnTo>
                  <a:lnTo>
                    <a:pt x="812" y="133912"/>
                  </a:lnTo>
                  <a:lnTo>
                    <a:pt x="2200" y="134994"/>
                  </a:lnTo>
                  <a:lnTo>
                    <a:pt x="3971" y="135716"/>
                  </a:lnTo>
                  <a:lnTo>
                    <a:pt x="8198" y="138776"/>
                  </a:lnTo>
                  <a:lnTo>
                    <a:pt x="10510" y="140777"/>
                  </a:lnTo>
                  <a:lnTo>
                    <a:pt x="13745" y="142111"/>
                  </a:lnTo>
                  <a:lnTo>
                    <a:pt x="17595" y="143000"/>
                  </a:lnTo>
                  <a:lnTo>
                    <a:pt x="21855" y="143593"/>
                  </a:lnTo>
                  <a:lnTo>
                    <a:pt x="26388" y="143988"/>
                  </a:lnTo>
                  <a:lnTo>
                    <a:pt x="31104" y="144252"/>
                  </a:lnTo>
                  <a:lnTo>
                    <a:pt x="35941" y="144428"/>
                  </a:lnTo>
                  <a:lnTo>
                    <a:pt x="41706" y="143698"/>
                  </a:lnTo>
                  <a:lnTo>
                    <a:pt x="48089" y="142365"/>
                  </a:lnTo>
                  <a:lnTo>
                    <a:pt x="54884" y="140630"/>
                  </a:lnTo>
                  <a:lnTo>
                    <a:pt x="61955" y="138626"/>
                  </a:lnTo>
                  <a:lnTo>
                    <a:pt x="76584" y="134143"/>
                  </a:lnTo>
                  <a:lnTo>
                    <a:pt x="121858" y="119337"/>
                  </a:lnTo>
                  <a:lnTo>
                    <a:pt x="128617" y="117657"/>
                  </a:lnTo>
                  <a:lnTo>
                    <a:pt x="134816" y="116538"/>
                  </a:lnTo>
                  <a:lnTo>
                    <a:pt x="152295" y="114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SMARTInkAnnotation82"/>
            <p:cNvSpPr/>
            <p:nvPr/>
          </p:nvSpPr>
          <p:spPr>
            <a:xfrm>
              <a:off x="707760" y="3681000"/>
              <a:ext cx="60840" cy="2588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60961" h="259081">
                  <a:moveTo>
                    <a:pt x="60960" y="0"/>
                  </a:moveTo>
                  <a:lnTo>
                    <a:pt x="60960" y="15617"/>
                  </a:lnTo>
                  <a:lnTo>
                    <a:pt x="60113" y="18879"/>
                  </a:lnTo>
                  <a:lnTo>
                    <a:pt x="58702" y="21899"/>
                  </a:lnTo>
                  <a:lnTo>
                    <a:pt x="56915" y="24760"/>
                  </a:lnTo>
                  <a:lnTo>
                    <a:pt x="55723" y="27513"/>
                  </a:lnTo>
                  <a:lnTo>
                    <a:pt x="54399" y="32830"/>
                  </a:lnTo>
                  <a:lnTo>
                    <a:pt x="53200" y="36280"/>
                  </a:lnTo>
                  <a:lnTo>
                    <a:pt x="51553" y="40273"/>
                  </a:lnTo>
                  <a:lnTo>
                    <a:pt x="49609" y="44629"/>
                  </a:lnTo>
                  <a:lnTo>
                    <a:pt x="47466" y="50072"/>
                  </a:lnTo>
                  <a:lnTo>
                    <a:pt x="42827" y="62895"/>
                  </a:lnTo>
                  <a:lnTo>
                    <a:pt x="40405" y="69023"/>
                  </a:lnTo>
                  <a:lnTo>
                    <a:pt x="37943" y="74802"/>
                  </a:lnTo>
                  <a:lnTo>
                    <a:pt x="32950" y="85738"/>
                  </a:lnTo>
                  <a:lnTo>
                    <a:pt x="27909" y="96244"/>
                  </a:lnTo>
                  <a:lnTo>
                    <a:pt x="25379" y="102263"/>
                  </a:lnTo>
                  <a:lnTo>
                    <a:pt x="22846" y="108815"/>
                  </a:lnTo>
                  <a:lnTo>
                    <a:pt x="17774" y="122869"/>
                  </a:lnTo>
                  <a:lnTo>
                    <a:pt x="12697" y="137582"/>
                  </a:lnTo>
                  <a:lnTo>
                    <a:pt x="10158" y="144215"/>
                  </a:lnTo>
                  <a:lnTo>
                    <a:pt x="7619" y="150330"/>
                  </a:lnTo>
                  <a:lnTo>
                    <a:pt x="5079" y="156100"/>
                  </a:lnTo>
                  <a:lnTo>
                    <a:pt x="3386" y="162486"/>
                  </a:lnTo>
                  <a:lnTo>
                    <a:pt x="2257" y="169284"/>
                  </a:lnTo>
                  <a:lnTo>
                    <a:pt x="1505" y="176356"/>
                  </a:lnTo>
                  <a:lnTo>
                    <a:pt x="1003" y="182764"/>
                  </a:lnTo>
                  <a:lnTo>
                    <a:pt x="669" y="188729"/>
                  </a:lnTo>
                  <a:lnTo>
                    <a:pt x="297" y="199873"/>
                  </a:lnTo>
                  <a:lnTo>
                    <a:pt x="39" y="221911"/>
                  </a:lnTo>
                  <a:lnTo>
                    <a:pt x="0" y="2590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SMARTInkAnnotation83"/>
            <p:cNvSpPr/>
            <p:nvPr/>
          </p:nvSpPr>
          <p:spPr>
            <a:xfrm>
              <a:off x="831600" y="3658320"/>
              <a:ext cx="142560" cy="986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42714" h="98900">
                  <a:moveTo>
                    <a:pt x="127653" y="15212"/>
                  </a:moveTo>
                  <a:lnTo>
                    <a:pt x="127653" y="1059"/>
                  </a:lnTo>
                  <a:lnTo>
                    <a:pt x="126806" y="696"/>
                  </a:lnTo>
                  <a:lnTo>
                    <a:pt x="123608" y="294"/>
                  </a:lnTo>
                  <a:lnTo>
                    <a:pt x="120723" y="187"/>
                  </a:lnTo>
                  <a:lnTo>
                    <a:pt x="107726" y="36"/>
                  </a:lnTo>
                  <a:lnTo>
                    <a:pt x="95090" y="0"/>
                  </a:lnTo>
                  <a:lnTo>
                    <a:pt x="89011" y="837"/>
                  </a:lnTo>
                  <a:lnTo>
                    <a:pt x="83265" y="2242"/>
                  </a:lnTo>
                  <a:lnTo>
                    <a:pt x="77741" y="4026"/>
                  </a:lnTo>
                  <a:lnTo>
                    <a:pt x="72365" y="6061"/>
                  </a:lnTo>
                  <a:lnTo>
                    <a:pt x="67088" y="8265"/>
                  </a:lnTo>
                  <a:lnTo>
                    <a:pt x="61876" y="10580"/>
                  </a:lnTo>
                  <a:lnTo>
                    <a:pt x="55862" y="13818"/>
                  </a:lnTo>
                  <a:lnTo>
                    <a:pt x="49312" y="17669"/>
                  </a:lnTo>
                  <a:lnTo>
                    <a:pt x="42406" y="21930"/>
                  </a:lnTo>
                  <a:lnTo>
                    <a:pt x="36955" y="26464"/>
                  </a:lnTo>
                  <a:lnTo>
                    <a:pt x="32474" y="31180"/>
                  </a:lnTo>
                  <a:lnTo>
                    <a:pt x="28641" y="36017"/>
                  </a:lnTo>
                  <a:lnTo>
                    <a:pt x="24392" y="40089"/>
                  </a:lnTo>
                  <a:lnTo>
                    <a:pt x="19865" y="43650"/>
                  </a:lnTo>
                  <a:lnTo>
                    <a:pt x="15155" y="46871"/>
                  </a:lnTo>
                  <a:lnTo>
                    <a:pt x="11167" y="50711"/>
                  </a:lnTo>
                  <a:lnTo>
                    <a:pt x="7663" y="54965"/>
                  </a:lnTo>
                  <a:lnTo>
                    <a:pt x="4479" y="59494"/>
                  </a:lnTo>
                  <a:lnTo>
                    <a:pt x="2357" y="63360"/>
                  </a:lnTo>
                  <a:lnTo>
                    <a:pt x="943" y="66784"/>
                  </a:lnTo>
                  <a:lnTo>
                    <a:pt x="0" y="69913"/>
                  </a:lnTo>
                  <a:lnTo>
                    <a:pt x="217" y="72846"/>
                  </a:lnTo>
                  <a:lnTo>
                    <a:pt x="1209" y="75648"/>
                  </a:lnTo>
                  <a:lnTo>
                    <a:pt x="2717" y="78363"/>
                  </a:lnTo>
                  <a:lnTo>
                    <a:pt x="5416" y="81019"/>
                  </a:lnTo>
                  <a:lnTo>
                    <a:pt x="8908" y="83637"/>
                  </a:lnTo>
                  <a:lnTo>
                    <a:pt x="12930" y="86229"/>
                  </a:lnTo>
                  <a:lnTo>
                    <a:pt x="17304" y="88803"/>
                  </a:lnTo>
                  <a:lnTo>
                    <a:pt x="21914" y="91366"/>
                  </a:lnTo>
                  <a:lnTo>
                    <a:pt x="26680" y="93922"/>
                  </a:lnTo>
                  <a:lnTo>
                    <a:pt x="32398" y="95625"/>
                  </a:lnTo>
                  <a:lnTo>
                    <a:pt x="38750" y="96761"/>
                  </a:lnTo>
                  <a:lnTo>
                    <a:pt x="45524" y="97518"/>
                  </a:lnTo>
                  <a:lnTo>
                    <a:pt x="52580" y="98023"/>
                  </a:lnTo>
                  <a:lnTo>
                    <a:pt x="59825" y="98359"/>
                  </a:lnTo>
                  <a:lnTo>
                    <a:pt x="79898" y="98833"/>
                  </a:lnTo>
                  <a:lnTo>
                    <a:pt x="85656" y="98899"/>
                  </a:lnTo>
                  <a:lnTo>
                    <a:pt x="92035" y="98097"/>
                  </a:lnTo>
                  <a:lnTo>
                    <a:pt x="98828" y="96715"/>
                  </a:lnTo>
                  <a:lnTo>
                    <a:pt x="105896" y="94948"/>
                  </a:lnTo>
                  <a:lnTo>
                    <a:pt x="112302" y="92923"/>
                  </a:lnTo>
                  <a:lnTo>
                    <a:pt x="118265" y="90726"/>
                  </a:lnTo>
                  <a:lnTo>
                    <a:pt x="123935" y="88415"/>
                  </a:lnTo>
                  <a:lnTo>
                    <a:pt x="128561" y="86027"/>
                  </a:lnTo>
                  <a:lnTo>
                    <a:pt x="132492" y="83589"/>
                  </a:lnTo>
                  <a:lnTo>
                    <a:pt x="135959" y="81116"/>
                  </a:lnTo>
                  <a:lnTo>
                    <a:pt x="138270" y="77775"/>
                  </a:lnTo>
                  <a:lnTo>
                    <a:pt x="139811" y="73854"/>
                  </a:lnTo>
                  <a:lnTo>
                    <a:pt x="140838" y="69546"/>
                  </a:lnTo>
                  <a:lnTo>
                    <a:pt x="141523" y="65828"/>
                  </a:lnTo>
                  <a:lnTo>
                    <a:pt x="141980" y="62503"/>
                  </a:lnTo>
                  <a:lnTo>
                    <a:pt x="142284" y="59439"/>
                  </a:lnTo>
                  <a:lnTo>
                    <a:pt x="142487" y="55703"/>
                  </a:lnTo>
                  <a:lnTo>
                    <a:pt x="142713" y="47037"/>
                  </a:lnTo>
                  <a:lnTo>
                    <a:pt x="141926" y="42355"/>
                  </a:lnTo>
                  <a:lnTo>
                    <a:pt x="140555" y="37541"/>
                  </a:lnTo>
                  <a:lnTo>
                    <a:pt x="138794" y="32638"/>
                  </a:lnTo>
                  <a:lnTo>
                    <a:pt x="136774" y="28523"/>
                  </a:lnTo>
                  <a:lnTo>
                    <a:pt x="134580" y="24933"/>
                  </a:lnTo>
                  <a:lnTo>
                    <a:pt x="132271" y="21692"/>
                  </a:lnTo>
                  <a:lnTo>
                    <a:pt x="129885" y="18686"/>
                  </a:lnTo>
                  <a:lnTo>
                    <a:pt x="127448" y="15834"/>
                  </a:lnTo>
                  <a:lnTo>
                    <a:pt x="124976" y="13087"/>
                  </a:lnTo>
                  <a:lnTo>
                    <a:pt x="121635" y="11255"/>
                  </a:lnTo>
                  <a:lnTo>
                    <a:pt x="117715" y="10034"/>
                  </a:lnTo>
                  <a:lnTo>
                    <a:pt x="113407" y="9220"/>
                  </a:lnTo>
                  <a:lnTo>
                    <a:pt x="109689" y="7830"/>
                  </a:lnTo>
                  <a:lnTo>
                    <a:pt x="106364" y="6058"/>
                  </a:lnTo>
                  <a:lnTo>
                    <a:pt x="103300" y="4030"/>
                  </a:lnTo>
                  <a:lnTo>
                    <a:pt x="99564" y="3523"/>
                  </a:lnTo>
                  <a:lnTo>
                    <a:pt x="95381" y="4033"/>
                  </a:lnTo>
                  <a:lnTo>
                    <a:pt x="84589" y="6889"/>
                  </a:lnTo>
                  <a:lnTo>
                    <a:pt x="80856" y="7279"/>
                  </a:lnTo>
                  <a:lnTo>
                    <a:pt x="74313" y="75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MARTInkAnnotation84"/>
            <p:cNvSpPr/>
            <p:nvPr/>
          </p:nvSpPr>
          <p:spPr>
            <a:xfrm>
              <a:off x="825840" y="3780000"/>
              <a:ext cx="189720" cy="13644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89926" h="136706">
                  <a:moveTo>
                    <a:pt x="118078" y="15240"/>
                  </a:moveTo>
                  <a:lnTo>
                    <a:pt x="118078" y="7713"/>
                  </a:lnTo>
                  <a:lnTo>
                    <a:pt x="112841" y="7639"/>
                  </a:lnTo>
                  <a:lnTo>
                    <a:pt x="99945" y="7621"/>
                  </a:lnTo>
                  <a:lnTo>
                    <a:pt x="97523" y="8467"/>
                  </a:lnTo>
                  <a:lnTo>
                    <a:pt x="92573" y="11666"/>
                  </a:lnTo>
                  <a:lnTo>
                    <a:pt x="89222" y="13704"/>
                  </a:lnTo>
                  <a:lnTo>
                    <a:pt x="85293" y="15909"/>
                  </a:lnTo>
                  <a:lnTo>
                    <a:pt x="80982" y="18226"/>
                  </a:lnTo>
                  <a:lnTo>
                    <a:pt x="76414" y="21464"/>
                  </a:lnTo>
                  <a:lnTo>
                    <a:pt x="71675" y="25316"/>
                  </a:lnTo>
                  <a:lnTo>
                    <a:pt x="66823" y="29578"/>
                  </a:lnTo>
                  <a:lnTo>
                    <a:pt x="61048" y="34958"/>
                  </a:lnTo>
                  <a:lnTo>
                    <a:pt x="41631" y="53820"/>
                  </a:lnTo>
                  <a:lnTo>
                    <a:pt x="14240" y="81009"/>
                  </a:lnTo>
                  <a:lnTo>
                    <a:pt x="10752" y="85332"/>
                  </a:lnTo>
                  <a:lnTo>
                    <a:pt x="8428" y="89062"/>
                  </a:lnTo>
                  <a:lnTo>
                    <a:pt x="4998" y="96310"/>
                  </a:lnTo>
                  <a:lnTo>
                    <a:pt x="651" y="105175"/>
                  </a:lnTo>
                  <a:lnTo>
                    <a:pt x="0" y="109064"/>
                  </a:lnTo>
                  <a:lnTo>
                    <a:pt x="413" y="112503"/>
                  </a:lnTo>
                  <a:lnTo>
                    <a:pt x="1534" y="115642"/>
                  </a:lnTo>
                  <a:lnTo>
                    <a:pt x="3976" y="118581"/>
                  </a:lnTo>
                  <a:lnTo>
                    <a:pt x="7296" y="121388"/>
                  </a:lnTo>
                  <a:lnTo>
                    <a:pt x="11204" y="124105"/>
                  </a:lnTo>
                  <a:lnTo>
                    <a:pt x="15502" y="126764"/>
                  </a:lnTo>
                  <a:lnTo>
                    <a:pt x="20060" y="129382"/>
                  </a:lnTo>
                  <a:lnTo>
                    <a:pt x="24793" y="131975"/>
                  </a:lnTo>
                  <a:lnTo>
                    <a:pt x="29641" y="133703"/>
                  </a:lnTo>
                  <a:lnTo>
                    <a:pt x="34567" y="134855"/>
                  </a:lnTo>
                  <a:lnTo>
                    <a:pt x="39544" y="135624"/>
                  </a:lnTo>
                  <a:lnTo>
                    <a:pt x="46249" y="136136"/>
                  </a:lnTo>
                  <a:lnTo>
                    <a:pt x="54105" y="136477"/>
                  </a:lnTo>
                  <a:lnTo>
                    <a:pt x="62729" y="136705"/>
                  </a:lnTo>
                  <a:lnTo>
                    <a:pt x="71019" y="136010"/>
                  </a:lnTo>
                  <a:lnTo>
                    <a:pt x="79085" y="134700"/>
                  </a:lnTo>
                  <a:lnTo>
                    <a:pt x="87003" y="132980"/>
                  </a:lnTo>
                  <a:lnTo>
                    <a:pt x="95668" y="130140"/>
                  </a:lnTo>
                  <a:lnTo>
                    <a:pt x="104831" y="126553"/>
                  </a:lnTo>
                  <a:lnTo>
                    <a:pt x="114327" y="122469"/>
                  </a:lnTo>
                  <a:lnTo>
                    <a:pt x="123197" y="118053"/>
                  </a:lnTo>
                  <a:lnTo>
                    <a:pt x="131651" y="113415"/>
                  </a:lnTo>
                  <a:lnTo>
                    <a:pt x="139827" y="108630"/>
                  </a:lnTo>
                  <a:lnTo>
                    <a:pt x="146970" y="103747"/>
                  </a:lnTo>
                  <a:lnTo>
                    <a:pt x="153427" y="98798"/>
                  </a:lnTo>
                  <a:lnTo>
                    <a:pt x="159424" y="93806"/>
                  </a:lnTo>
                  <a:lnTo>
                    <a:pt x="164268" y="88783"/>
                  </a:lnTo>
                  <a:lnTo>
                    <a:pt x="168345" y="83743"/>
                  </a:lnTo>
                  <a:lnTo>
                    <a:pt x="171910" y="78688"/>
                  </a:lnTo>
                  <a:lnTo>
                    <a:pt x="175132" y="73626"/>
                  </a:lnTo>
                  <a:lnTo>
                    <a:pt x="178128" y="68557"/>
                  </a:lnTo>
                  <a:lnTo>
                    <a:pt x="180971" y="63485"/>
                  </a:lnTo>
                  <a:lnTo>
                    <a:pt x="183713" y="59257"/>
                  </a:lnTo>
                  <a:lnTo>
                    <a:pt x="186388" y="55591"/>
                  </a:lnTo>
                  <a:lnTo>
                    <a:pt x="189018" y="52301"/>
                  </a:lnTo>
                  <a:lnTo>
                    <a:pt x="189925" y="48414"/>
                  </a:lnTo>
                  <a:lnTo>
                    <a:pt x="189683" y="44130"/>
                  </a:lnTo>
                  <a:lnTo>
                    <a:pt x="188675" y="39579"/>
                  </a:lnTo>
                  <a:lnTo>
                    <a:pt x="187156" y="35700"/>
                  </a:lnTo>
                  <a:lnTo>
                    <a:pt x="185297" y="32267"/>
                  </a:lnTo>
                  <a:lnTo>
                    <a:pt x="183210" y="29131"/>
                  </a:lnTo>
                  <a:lnTo>
                    <a:pt x="180973" y="25347"/>
                  </a:lnTo>
                  <a:lnTo>
                    <a:pt x="178635" y="21132"/>
                  </a:lnTo>
                  <a:lnTo>
                    <a:pt x="176229" y="16628"/>
                  </a:lnTo>
                  <a:lnTo>
                    <a:pt x="172932" y="13625"/>
                  </a:lnTo>
                  <a:lnTo>
                    <a:pt x="169041" y="11624"/>
                  </a:lnTo>
                  <a:lnTo>
                    <a:pt x="164753" y="10289"/>
                  </a:lnTo>
                  <a:lnTo>
                    <a:pt x="161048" y="8553"/>
                  </a:lnTo>
                  <a:lnTo>
                    <a:pt x="157732" y="6549"/>
                  </a:lnTo>
                  <a:lnTo>
                    <a:pt x="154674" y="4366"/>
                  </a:lnTo>
                  <a:lnTo>
                    <a:pt x="150942" y="2911"/>
                  </a:lnTo>
                  <a:lnTo>
                    <a:pt x="146761" y="1940"/>
                  </a:lnTo>
                  <a:lnTo>
                    <a:pt x="142280" y="1293"/>
                  </a:lnTo>
                  <a:lnTo>
                    <a:pt x="138446" y="863"/>
                  </a:lnTo>
                  <a:lnTo>
                    <a:pt x="135043" y="575"/>
                  </a:lnTo>
                  <a:lnTo>
                    <a:pt x="131928" y="384"/>
                  </a:lnTo>
                  <a:lnTo>
                    <a:pt x="126209" y="170"/>
                  </a:lnTo>
                  <a:lnTo>
                    <a:pt x="1180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MARTInkAnnotation85"/>
            <p:cNvSpPr/>
            <p:nvPr/>
          </p:nvSpPr>
          <p:spPr>
            <a:xfrm>
              <a:off x="1294560" y="3841200"/>
              <a:ext cx="236160" cy="151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36221" h="15213">
                  <a:moveTo>
                    <a:pt x="0" y="15212"/>
                  </a:moveTo>
                  <a:lnTo>
                    <a:pt x="6561" y="8651"/>
                  </a:lnTo>
                  <a:lnTo>
                    <a:pt x="7760" y="8298"/>
                  </a:lnTo>
                  <a:lnTo>
                    <a:pt x="11352" y="7906"/>
                  </a:lnTo>
                  <a:lnTo>
                    <a:pt x="18027" y="7731"/>
                  </a:lnTo>
                  <a:lnTo>
                    <a:pt x="22178" y="7685"/>
                  </a:lnTo>
                  <a:lnTo>
                    <a:pt x="26639" y="6807"/>
                  </a:lnTo>
                  <a:lnTo>
                    <a:pt x="31306" y="5375"/>
                  </a:lnTo>
                  <a:lnTo>
                    <a:pt x="36111" y="3574"/>
                  </a:lnTo>
                  <a:lnTo>
                    <a:pt x="41854" y="2374"/>
                  </a:lnTo>
                  <a:lnTo>
                    <a:pt x="48222" y="1573"/>
                  </a:lnTo>
                  <a:lnTo>
                    <a:pt x="55008" y="1039"/>
                  </a:lnTo>
                  <a:lnTo>
                    <a:pt x="62919" y="684"/>
                  </a:lnTo>
                  <a:lnTo>
                    <a:pt x="80740" y="289"/>
                  </a:lnTo>
                  <a:lnTo>
                    <a:pt x="133315" y="0"/>
                  </a:lnTo>
                  <a:lnTo>
                    <a:pt x="142217" y="837"/>
                  </a:lnTo>
                  <a:lnTo>
                    <a:pt x="150691" y="2242"/>
                  </a:lnTo>
                  <a:lnTo>
                    <a:pt x="158881" y="4026"/>
                  </a:lnTo>
                  <a:lnTo>
                    <a:pt x="167727" y="5214"/>
                  </a:lnTo>
                  <a:lnTo>
                    <a:pt x="177012" y="6007"/>
                  </a:lnTo>
                  <a:lnTo>
                    <a:pt x="186588" y="6535"/>
                  </a:lnTo>
                  <a:lnTo>
                    <a:pt x="204002" y="7122"/>
                  </a:lnTo>
                  <a:lnTo>
                    <a:pt x="236220" y="75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SMARTInkAnnotation86"/>
            <p:cNvSpPr/>
            <p:nvPr/>
          </p:nvSpPr>
          <p:spPr>
            <a:xfrm>
              <a:off x="1370880" y="3894480"/>
              <a:ext cx="144720" cy="151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44781" h="15213">
                  <a:moveTo>
                    <a:pt x="0" y="0"/>
                  </a:moveTo>
                  <a:lnTo>
                    <a:pt x="4045" y="4045"/>
                  </a:lnTo>
                  <a:lnTo>
                    <a:pt x="6930" y="5237"/>
                  </a:lnTo>
                  <a:lnTo>
                    <a:pt x="10547" y="6031"/>
                  </a:lnTo>
                  <a:lnTo>
                    <a:pt x="14651" y="6561"/>
                  </a:lnTo>
                  <a:lnTo>
                    <a:pt x="18234" y="6914"/>
                  </a:lnTo>
                  <a:lnTo>
                    <a:pt x="21470" y="7149"/>
                  </a:lnTo>
                  <a:lnTo>
                    <a:pt x="24473" y="7306"/>
                  </a:lnTo>
                  <a:lnTo>
                    <a:pt x="28169" y="8257"/>
                  </a:lnTo>
                  <a:lnTo>
                    <a:pt x="32326" y="9739"/>
                  </a:lnTo>
                  <a:lnTo>
                    <a:pt x="36790" y="11572"/>
                  </a:lnTo>
                  <a:lnTo>
                    <a:pt x="42307" y="12795"/>
                  </a:lnTo>
                  <a:lnTo>
                    <a:pt x="48525" y="13610"/>
                  </a:lnTo>
                  <a:lnTo>
                    <a:pt x="55210" y="14153"/>
                  </a:lnTo>
                  <a:lnTo>
                    <a:pt x="61360" y="14515"/>
                  </a:lnTo>
                  <a:lnTo>
                    <a:pt x="72709" y="14918"/>
                  </a:lnTo>
                  <a:lnTo>
                    <a:pt x="99876" y="15176"/>
                  </a:lnTo>
                  <a:lnTo>
                    <a:pt x="114663" y="15212"/>
                  </a:lnTo>
                  <a:lnTo>
                    <a:pt x="120468" y="14374"/>
                  </a:lnTo>
                  <a:lnTo>
                    <a:pt x="125186" y="12969"/>
                  </a:lnTo>
                  <a:lnTo>
                    <a:pt x="129177" y="11186"/>
                  </a:lnTo>
                  <a:lnTo>
                    <a:pt x="132685" y="9998"/>
                  </a:lnTo>
                  <a:lnTo>
                    <a:pt x="135870" y="9205"/>
                  </a:lnTo>
                  <a:lnTo>
                    <a:pt x="14478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SMARTInkAnnotation87"/>
            <p:cNvSpPr/>
            <p:nvPr/>
          </p:nvSpPr>
          <p:spPr>
            <a:xfrm>
              <a:off x="1767240" y="3772800"/>
              <a:ext cx="243720" cy="22068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43811" h="220845">
                  <a:moveTo>
                    <a:pt x="15210" y="30344"/>
                  </a:moveTo>
                  <a:lnTo>
                    <a:pt x="15210" y="138467"/>
                  </a:lnTo>
                  <a:lnTo>
                    <a:pt x="14363" y="144759"/>
                  </a:lnTo>
                  <a:lnTo>
                    <a:pt x="12953" y="150647"/>
                  </a:lnTo>
                  <a:lnTo>
                    <a:pt x="11165" y="156266"/>
                  </a:lnTo>
                  <a:lnTo>
                    <a:pt x="9973" y="160859"/>
                  </a:lnTo>
                  <a:lnTo>
                    <a:pt x="9179" y="164768"/>
                  </a:lnTo>
                  <a:lnTo>
                    <a:pt x="8649" y="168219"/>
                  </a:lnTo>
                  <a:lnTo>
                    <a:pt x="5803" y="174313"/>
                  </a:lnTo>
                  <a:lnTo>
                    <a:pt x="3859" y="177123"/>
                  </a:lnTo>
                  <a:lnTo>
                    <a:pt x="1699" y="182504"/>
                  </a:lnTo>
                  <a:lnTo>
                    <a:pt x="0" y="190228"/>
                  </a:lnTo>
                  <a:lnTo>
                    <a:pt x="4024" y="186278"/>
                  </a:lnTo>
                  <a:lnTo>
                    <a:pt x="8263" y="179799"/>
                  </a:lnTo>
                  <a:lnTo>
                    <a:pt x="10579" y="175701"/>
                  </a:lnTo>
                  <a:lnTo>
                    <a:pt x="15410" y="166632"/>
                  </a:lnTo>
                  <a:lnTo>
                    <a:pt x="17883" y="161842"/>
                  </a:lnTo>
                  <a:lnTo>
                    <a:pt x="20379" y="156110"/>
                  </a:lnTo>
                  <a:lnTo>
                    <a:pt x="22889" y="149747"/>
                  </a:lnTo>
                  <a:lnTo>
                    <a:pt x="25410" y="142967"/>
                  </a:lnTo>
                  <a:lnTo>
                    <a:pt x="27936" y="135059"/>
                  </a:lnTo>
                  <a:lnTo>
                    <a:pt x="30468" y="126400"/>
                  </a:lnTo>
                  <a:lnTo>
                    <a:pt x="33002" y="117242"/>
                  </a:lnTo>
                  <a:lnTo>
                    <a:pt x="38075" y="100292"/>
                  </a:lnTo>
                  <a:lnTo>
                    <a:pt x="40613" y="92216"/>
                  </a:lnTo>
                  <a:lnTo>
                    <a:pt x="44846" y="84292"/>
                  </a:lnTo>
                  <a:lnTo>
                    <a:pt x="50207" y="76469"/>
                  </a:lnTo>
                  <a:lnTo>
                    <a:pt x="56322" y="68714"/>
                  </a:lnTo>
                  <a:lnTo>
                    <a:pt x="61245" y="61851"/>
                  </a:lnTo>
                  <a:lnTo>
                    <a:pt x="65373" y="55582"/>
                  </a:lnTo>
                  <a:lnTo>
                    <a:pt x="68972" y="49709"/>
                  </a:lnTo>
                  <a:lnTo>
                    <a:pt x="73065" y="44101"/>
                  </a:lnTo>
                  <a:lnTo>
                    <a:pt x="77487" y="38668"/>
                  </a:lnTo>
                  <a:lnTo>
                    <a:pt x="86069" y="28964"/>
                  </a:lnTo>
                  <a:lnTo>
                    <a:pt x="92705" y="21829"/>
                  </a:lnTo>
                  <a:lnTo>
                    <a:pt x="96507" y="18740"/>
                  </a:lnTo>
                  <a:lnTo>
                    <a:pt x="100734" y="15835"/>
                  </a:lnTo>
                  <a:lnTo>
                    <a:pt x="105246" y="13051"/>
                  </a:lnTo>
                  <a:lnTo>
                    <a:pt x="112517" y="7701"/>
                  </a:lnTo>
                  <a:lnTo>
                    <a:pt x="115641" y="5088"/>
                  </a:lnTo>
                  <a:lnTo>
                    <a:pt x="121370" y="2186"/>
                  </a:lnTo>
                  <a:lnTo>
                    <a:pt x="127902" y="323"/>
                  </a:lnTo>
                  <a:lnTo>
                    <a:pt x="133079" y="0"/>
                  </a:lnTo>
                  <a:lnTo>
                    <a:pt x="135276" y="801"/>
                  </a:lnTo>
                  <a:lnTo>
                    <a:pt x="139975" y="3949"/>
                  </a:lnTo>
                  <a:lnTo>
                    <a:pt x="141567" y="6821"/>
                  </a:lnTo>
                  <a:lnTo>
                    <a:pt x="142628" y="10429"/>
                  </a:lnTo>
                  <a:lnTo>
                    <a:pt x="143335" y="14527"/>
                  </a:lnTo>
                  <a:lnTo>
                    <a:pt x="143807" y="18953"/>
                  </a:lnTo>
                  <a:lnTo>
                    <a:pt x="144121" y="23597"/>
                  </a:lnTo>
                  <a:lnTo>
                    <a:pt x="144331" y="28386"/>
                  </a:lnTo>
                  <a:lnTo>
                    <a:pt x="143624" y="34119"/>
                  </a:lnTo>
                  <a:lnTo>
                    <a:pt x="142306" y="40481"/>
                  </a:lnTo>
                  <a:lnTo>
                    <a:pt x="140581" y="47261"/>
                  </a:lnTo>
                  <a:lnTo>
                    <a:pt x="139430" y="54323"/>
                  </a:lnTo>
                  <a:lnTo>
                    <a:pt x="138663" y="61570"/>
                  </a:lnTo>
                  <a:lnTo>
                    <a:pt x="138152" y="68941"/>
                  </a:lnTo>
                  <a:lnTo>
                    <a:pt x="136965" y="76396"/>
                  </a:lnTo>
                  <a:lnTo>
                    <a:pt x="135327" y="83905"/>
                  </a:lnTo>
                  <a:lnTo>
                    <a:pt x="133388" y="91451"/>
                  </a:lnTo>
                  <a:lnTo>
                    <a:pt x="132095" y="98176"/>
                  </a:lnTo>
                  <a:lnTo>
                    <a:pt x="131234" y="104352"/>
                  </a:lnTo>
                  <a:lnTo>
                    <a:pt x="130659" y="110162"/>
                  </a:lnTo>
                  <a:lnTo>
                    <a:pt x="130276" y="115730"/>
                  </a:lnTo>
                  <a:lnTo>
                    <a:pt x="130021" y="121135"/>
                  </a:lnTo>
                  <a:lnTo>
                    <a:pt x="129661" y="134574"/>
                  </a:lnTo>
                  <a:lnTo>
                    <a:pt x="129513" y="158337"/>
                  </a:lnTo>
                  <a:lnTo>
                    <a:pt x="130358" y="158852"/>
                  </a:lnTo>
                  <a:lnTo>
                    <a:pt x="133556" y="159426"/>
                  </a:lnTo>
                  <a:lnTo>
                    <a:pt x="135594" y="158731"/>
                  </a:lnTo>
                  <a:lnTo>
                    <a:pt x="140116" y="155703"/>
                  </a:lnTo>
                  <a:lnTo>
                    <a:pt x="141661" y="153710"/>
                  </a:lnTo>
                  <a:lnTo>
                    <a:pt x="142691" y="151535"/>
                  </a:lnTo>
                  <a:lnTo>
                    <a:pt x="144681" y="146013"/>
                  </a:lnTo>
                  <a:lnTo>
                    <a:pt x="146398" y="142170"/>
                  </a:lnTo>
                  <a:lnTo>
                    <a:pt x="150562" y="133385"/>
                  </a:lnTo>
                  <a:lnTo>
                    <a:pt x="155236" y="123835"/>
                  </a:lnTo>
                  <a:lnTo>
                    <a:pt x="157667" y="118072"/>
                  </a:lnTo>
                  <a:lnTo>
                    <a:pt x="160135" y="111689"/>
                  </a:lnTo>
                  <a:lnTo>
                    <a:pt x="162627" y="104894"/>
                  </a:lnTo>
                  <a:lnTo>
                    <a:pt x="165981" y="98671"/>
                  </a:lnTo>
                  <a:lnTo>
                    <a:pt x="169910" y="92828"/>
                  </a:lnTo>
                  <a:lnTo>
                    <a:pt x="174224" y="87240"/>
                  </a:lnTo>
                  <a:lnTo>
                    <a:pt x="177099" y="81821"/>
                  </a:lnTo>
                  <a:lnTo>
                    <a:pt x="179016" y="76516"/>
                  </a:lnTo>
                  <a:lnTo>
                    <a:pt x="180294" y="71285"/>
                  </a:lnTo>
                  <a:lnTo>
                    <a:pt x="181992" y="66951"/>
                  </a:lnTo>
                  <a:lnTo>
                    <a:pt x="183972" y="63216"/>
                  </a:lnTo>
                  <a:lnTo>
                    <a:pt x="188429" y="56807"/>
                  </a:lnTo>
                  <a:lnTo>
                    <a:pt x="193232" y="51137"/>
                  </a:lnTo>
                  <a:lnTo>
                    <a:pt x="198188" y="45794"/>
                  </a:lnTo>
                  <a:lnTo>
                    <a:pt x="205270" y="38422"/>
                  </a:lnTo>
                  <a:lnTo>
                    <a:pt x="209625" y="42145"/>
                  </a:lnTo>
                  <a:lnTo>
                    <a:pt x="210860" y="44138"/>
                  </a:lnTo>
                  <a:lnTo>
                    <a:pt x="212232" y="48610"/>
                  </a:lnTo>
                  <a:lnTo>
                    <a:pt x="212842" y="53420"/>
                  </a:lnTo>
                  <a:lnTo>
                    <a:pt x="213004" y="55888"/>
                  </a:lnTo>
                  <a:lnTo>
                    <a:pt x="213960" y="59227"/>
                  </a:lnTo>
                  <a:lnTo>
                    <a:pt x="215443" y="63146"/>
                  </a:lnTo>
                  <a:lnTo>
                    <a:pt x="217279" y="67452"/>
                  </a:lnTo>
                  <a:lnTo>
                    <a:pt x="218503" y="72863"/>
                  </a:lnTo>
                  <a:lnTo>
                    <a:pt x="219318" y="79010"/>
                  </a:lnTo>
                  <a:lnTo>
                    <a:pt x="219862" y="85648"/>
                  </a:lnTo>
                  <a:lnTo>
                    <a:pt x="221071" y="92613"/>
                  </a:lnTo>
                  <a:lnTo>
                    <a:pt x="222724" y="99797"/>
                  </a:lnTo>
                  <a:lnTo>
                    <a:pt x="224673" y="107126"/>
                  </a:lnTo>
                  <a:lnTo>
                    <a:pt x="226819" y="113706"/>
                  </a:lnTo>
                  <a:lnTo>
                    <a:pt x="229096" y="119785"/>
                  </a:lnTo>
                  <a:lnTo>
                    <a:pt x="231460" y="125531"/>
                  </a:lnTo>
                  <a:lnTo>
                    <a:pt x="233037" y="131902"/>
                  </a:lnTo>
                  <a:lnTo>
                    <a:pt x="234088" y="138689"/>
                  </a:lnTo>
                  <a:lnTo>
                    <a:pt x="234789" y="145754"/>
                  </a:lnTo>
                  <a:lnTo>
                    <a:pt x="235256" y="153004"/>
                  </a:lnTo>
                  <a:lnTo>
                    <a:pt x="235567" y="160377"/>
                  </a:lnTo>
                  <a:lnTo>
                    <a:pt x="235775" y="167833"/>
                  </a:lnTo>
                  <a:lnTo>
                    <a:pt x="236760" y="174497"/>
                  </a:lnTo>
                  <a:lnTo>
                    <a:pt x="238263" y="180632"/>
                  </a:lnTo>
                  <a:lnTo>
                    <a:pt x="240112" y="186416"/>
                  </a:lnTo>
                  <a:lnTo>
                    <a:pt x="241345" y="191965"/>
                  </a:lnTo>
                  <a:lnTo>
                    <a:pt x="242166" y="197359"/>
                  </a:lnTo>
                  <a:lnTo>
                    <a:pt x="242714" y="202647"/>
                  </a:lnTo>
                  <a:lnTo>
                    <a:pt x="243079" y="207019"/>
                  </a:lnTo>
                  <a:lnTo>
                    <a:pt x="243323" y="210781"/>
                  </a:lnTo>
                  <a:lnTo>
                    <a:pt x="243810" y="2208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SMARTInkAnnotation88"/>
            <p:cNvSpPr/>
            <p:nvPr/>
          </p:nvSpPr>
          <p:spPr>
            <a:xfrm>
              <a:off x="6012360" y="252252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6561" y="15240"/>
                  </a:lnTo>
                  <a:lnTo>
                    <a:pt x="9454" y="14394"/>
                  </a:lnTo>
                  <a:lnTo>
                    <a:pt x="19442" y="11195"/>
                  </a:lnTo>
                  <a:lnTo>
                    <a:pt x="24815" y="10003"/>
                  </a:lnTo>
                  <a:lnTo>
                    <a:pt x="30090" y="9209"/>
                  </a:lnTo>
                  <a:lnTo>
                    <a:pt x="35300" y="8679"/>
                  </a:lnTo>
                  <a:lnTo>
                    <a:pt x="41313" y="8326"/>
                  </a:lnTo>
                  <a:lnTo>
                    <a:pt x="54768" y="7934"/>
                  </a:lnTo>
                  <a:lnTo>
                    <a:pt x="62759" y="6983"/>
                  </a:lnTo>
                  <a:lnTo>
                    <a:pt x="71473" y="5502"/>
                  </a:lnTo>
                  <a:lnTo>
                    <a:pt x="80668" y="3668"/>
                  </a:lnTo>
                  <a:lnTo>
                    <a:pt x="90186" y="2445"/>
                  </a:lnTo>
                  <a:lnTo>
                    <a:pt x="99917" y="1630"/>
                  </a:lnTo>
                  <a:lnTo>
                    <a:pt x="109791" y="1087"/>
                  </a:lnTo>
                  <a:lnTo>
                    <a:pt x="127536" y="483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SMARTInkAnnotation89"/>
            <p:cNvSpPr/>
            <p:nvPr/>
          </p:nvSpPr>
          <p:spPr>
            <a:xfrm>
              <a:off x="6264000" y="2491920"/>
              <a:ext cx="30240" cy="91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30480" h="91441">
                  <a:moveTo>
                    <a:pt x="0" y="0"/>
                  </a:moveTo>
                  <a:lnTo>
                    <a:pt x="0" y="6561"/>
                  </a:lnTo>
                  <a:lnTo>
                    <a:pt x="846" y="7761"/>
                  </a:lnTo>
                  <a:lnTo>
                    <a:pt x="2257" y="9407"/>
                  </a:lnTo>
                  <a:lnTo>
                    <a:pt x="4045" y="11351"/>
                  </a:lnTo>
                  <a:lnTo>
                    <a:pt x="5236" y="13494"/>
                  </a:lnTo>
                  <a:lnTo>
                    <a:pt x="6031" y="15769"/>
                  </a:lnTo>
                  <a:lnTo>
                    <a:pt x="6560" y="18133"/>
                  </a:lnTo>
                  <a:lnTo>
                    <a:pt x="6913" y="20555"/>
                  </a:lnTo>
                  <a:lnTo>
                    <a:pt x="7149" y="23017"/>
                  </a:lnTo>
                  <a:lnTo>
                    <a:pt x="7306" y="25505"/>
                  </a:lnTo>
                  <a:lnTo>
                    <a:pt x="7480" y="30527"/>
                  </a:lnTo>
                  <a:lnTo>
                    <a:pt x="7527" y="33051"/>
                  </a:lnTo>
                  <a:lnTo>
                    <a:pt x="8404" y="36427"/>
                  </a:lnTo>
                  <a:lnTo>
                    <a:pt x="9836" y="40372"/>
                  </a:lnTo>
                  <a:lnTo>
                    <a:pt x="11637" y="44694"/>
                  </a:lnTo>
                  <a:lnTo>
                    <a:pt x="13684" y="49270"/>
                  </a:lnTo>
                  <a:lnTo>
                    <a:pt x="18217" y="58869"/>
                  </a:lnTo>
                  <a:lnTo>
                    <a:pt x="19764" y="63799"/>
                  </a:lnTo>
                  <a:lnTo>
                    <a:pt x="20796" y="68779"/>
                  </a:lnTo>
                  <a:lnTo>
                    <a:pt x="21484" y="73793"/>
                  </a:lnTo>
                  <a:lnTo>
                    <a:pt x="22790" y="77982"/>
                  </a:lnTo>
                  <a:lnTo>
                    <a:pt x="24506" y="81622"/>
                  </a:lnTo>
                  <a:lnTo>
                    <a:pt x="30479" y="914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SMARTInkAnnotation90"/>
            <p:cNvSpPr/>
            <p:nvPr/>
          </p:nvSpPr>
          <p:spPr>
            <a:xfrm>
              <a:off x="6454800" y="2454120"/>
              <a:ext cx="89280" cy="986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89264" h="98918">
                  <a:moveTo>
                    <a:pt x="45487" y="30480"/>
                  </a:moveTo>
                  <a:lnTo>
                    <a:pt x="52793" y="23174"/>
                  </a:lnTo>
                  <a:lnTo>
                    <a:pt x="52968" y="20742"/>
                  </a:lnTo>
                  <a:lnTo>
                    <a:pt x="53104" y="15335"/>
                  </a:lnTo>
                  <a:lnTo>
                    <a:pt x="50848" y="15282"/>
                  </a:lnTo>
                  <a:lnTo>
                    <a:pt x="49062" y="15268"/>
                  </a:lnTo>
                  <a:lnTo>
                    <a:pt x="47023" y="16106"/>
                  </a:lnTo>
                  <a:lnTo>
                    <a:pt x="44819" y="17510"/>
                  </a:lnTo>
                  <a:lnTo>
                    <a:pt x="42501" y="19294"/>
                  </a:lnTo>
                  <a:lnTo>
                    <a:pt x="39264" y="21329"/>
                  </a:lnTo>
                  <a:lnTo>
                    <a:pt x="35411" y="23532"/>
                  </a:lnTo>
                  <a:lnTo>
                    <a:pt x="31150" y="25848"/>
                  </a:lnTo>
                  <a:lnTo>
                    <a:pt x="27462" y="28239"/>
                  </a:lnTo>
                  <a:lnTo>
                    <a:pt x="24158" y="30679"/>
                  </a:lnTo>
                  <a:lnTo>
                    <a:pt x="21107" y="33153"/>
                  </a:lnTo>
                  <a:lnTo>
                    <a:pt x="17380" y="36495"/>
                  </a:lnTo>
                  <a:lnTo>
                    <a:pt x="8724" y="44725"/>
                  </a:lnTo>
                  <a:lnTo>
                    <a:pt x="5738" y="49290"/>
                  </a:lnTo>
                  <a:lnTo>
                    <a:pt x="3748" y="54027"/>
                  </a:lnTo>
                  <a:lnTo>
                    <a:pt x="2421" y="58878"/>
                  </a:lnTo>
                  <a:lnTo>
                    <a:pt x="1536" y="63805"/>
                  </a:lnTo>
                  <a:lnTo>
                    <a:pt x="947" y="68784"/>
                  </a:lnTo>
                  <a:lnTo>
                    <a:pt x="554" y="73795"/>
                  </a:lnTo>
                  <a:lnTo>
                    <a:pt x="292" y="77984"/>
                  </a:lnTo>
                  <a:lnTo>
                    <a:pt x="0" y="84895"/>
                  </a:lnTo>
                  <a:lnTo>
                    <a:pt x="769" y="87923"/>
                  </a:lnTo>
                  <a:lnTo>
                    <a:pt x="2128" y="90789"/>
                  </a:lnTo>
                  <a:lnTo>
                    <a:pt x="3882" y="93546"/>
                  </a:lnTo>
                  <a:lnTo>
                    <a:pt x="7590" y="95384"/>
                  </a:lnTo>
                  <a:lnTo>
                    <a:pt x="12602" y="96609"/>
                  </a:lnTo>
                  <a:lnTo>
                    <a:pt x="18484" y="97426"/>
                  </a:lnTo>
                  <a:lnTo>
                    <a:pt x="23252" y="97971"/>
                  </a:lnTo>
                  <a:lnTo>
                    <a:pt x="27277" y="98334"/>
                  </a:lnTo>
                  <a:lnTo>
                    <a:pt x="30807" y="98576"/>
                  </a:lnTo>
                  <a:lnTo>
                    <a:pt x="34854" y="98737"/>
                  </a:lnTo>
                  <a:lnTo>
                    <a:pt x="43865" y="98917"/>
                  </a:lnTo>
                  <a:lnTo>
                    <a:pt x="48639" y="98118"/>
                  </a:lnTo>
                  <a:lnTo>
                    <a:pt x="53516" y="96739"/>
                  </a:lnTo>
                  <a:lnTo>
                    <a:pt x="58460" y="94972"/>
                  </a:lnTo>
                  <a:lnTo>
                    <a:pt x="63449" y="92948"/>
                  </a:lnTo>
                  <a:lnTo>
                    <a:pt x="68468" y="90752"/>
                  </a:lnTo>
                  <a:lnTo>
                    <a:pt x="73508" y="88441"/>
                  </a:lnTo>
                  <a:lnTo>
                    <a:pt x="77714" y="86054"/>
                  </a:lnTo>
                  <a:lnTo>
                    <a:pt x="81365" y="83616"/>
                  </a:lnTo>
                  <a:lnTo>
                    <a:pt x="84646" y="81144"/>
                  </a:lnTo>
                  <a:lnTo>
                    <a:pt x="86833" y="77803"/>
                  </a:lnTo>
                  <a:lnTo>
                    <a:pt x="88291" y="73882"/>
                  </a:lnTo>
                  <a:lnTo>
                    <a:pt x="89263" y="69575"/>
                  </a:lnTo>
                  <a:lnTo>
                    <a:pt x="89064" y="65010"/>
                  </a:lnTo>
                  <a:lnTo>
                    <a:pt x="88085" y="60273"/>
                  </a:lnTo>
                  <a:lnTo>
                    <a:pt x="86585" y="55422"/>
                  </a:lnTo>
                  <a:lnTo>
                    <a:pt x="85586" y="50495"/>
                  </a:lnTo>
                  <a:lnTo>
                    <a:pt x="84920" y="45516"/>
                  </a:lnTo>
                  <a:lnTo>
                    <a:pt x="84476" y="40504"/>
                  </a:lnTo>
                  <a:lnTo>
                    <a:pt x="83333" y="35470"/>
                  </a:lnTo>
                  <a:lnTo>
                    <a:pt x="81725" y="30420"/>
                  </a:lnTo>
                  <a:lnTo>
                    <a:pt x="79805" y="25360"/>
                  </a:lnTo>
                  <a:lnTo>
                    <a:pt x="77679" y="21140"/>
                  </a:lnTo>
                  <a:lnTo>
                    <a:pt x="75414" y="17480"/>
                  </a:lnTo>
                  <a:lnTo>
                    <a:pt x="73059" y="14193"/>
                  </a:lnTo>
                  <a:lnTo>
                    <a:pt x="70642" y="11156"/>
                  </a:lnTo>
                  <a:lnTo>
                    <a:pt x="68183" y="8284"/>
                  </a:lnTo>
                  <a:lnTo>
                    <a:pt x="65698" y="5522"/>
                  </a:lnTo>
                  <a:lnTo>
                    <a:pt x="63194" y="3682"/>
                  </a:lnTo>
                  <a:lnTo>
                    <a:pt x="60678" y="2454"/>
                  </a:lnTo>
                  <a:lnTo>
                    <a:pt x="5310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MARTInkAnnotation91"/>
            <p:cNvSpPr/>
            <p:nvPr/>
          </p:nvSpPr>
          <p:spPr>
            <a:xfrm>
              <a:off x="6481080" y="2537640"/>
              <a:ext cx="109800" cy="835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09926" h="83716">
                  <a:moveTo>
                    <a:pt x="79998" y="0"/>
                  </a:moveTo>
                  <a:lnTo>
                    <a:pt x="68647" y="11351"/>
                  </a:lnTo>
                  <a:lnTo>
                    <a:pt x="65657" y="13494"/>
                  </a:lnTo>
                  <a:lnTo>
                    <a:pt x="61971" y="15769"/>
                  </a:lnTo>
                  <a:lnTo>
                    <a:pt x="57820" y="18133"/>
                  </a:lnTo>
                  <a:lnTo>
                    <a:pt x="48692" y="23017"/>
                  </a:lnTo>
                  <a:lnTo>
                    <a:pt x="13910" y="40649"/>
                  </a:lnTo>
                  <a:lnTo>
                    <a:pt x="10540" y="44033"/>
                  </a:lnTo>
                  <a:lnTo>
                    <a:pt x="8292" y="47982"/>
                  </a:lnTo>
                  <a:lnTo>
                    <a:pt x="6794" y="52308"/>
                  </a:lnTo>
                  <a:lnTo>
                    <a:pt x="4949" y="56039"/>
                  </a:lnTo>
                  <a:lnTo>
                    <a:pt x="2872" y="59372"/>
                  </a:lnTo>
                  <a:lnTo>
                    <a:pt x="641" y="62442"/>
                  </a:lnTo>
                  <a:lnTo>
                    <a:pt x="0" y="65334"/>
                  </a:lnTo>
                  <a:lnTo>
                    <a:pt x="419" y="68110"/>
                  </a:lnTo>
                  <a:lnTo>
                    <a:pt x="1546" y="70806"/>
                  </a:lnTo>
                  <a:lnTo>
                    <a:pt x="3143" y="72604"/>
                  </a:lnTo>
                  <a:lnTo>
                    <a:pt x="5055" y="73803"/>
                  </a:lnTo>
                  <a:lnTo>
                    <a:pt x="7176" y="74602"/>
                  </a:lnTo>
                  <a:lnTo>
                    <a:pt x="9437" y="75981"/>
                  </a:lnTo>
                  <a:lnTo>
                    <a:pt x="11791" y="77748"/>
                  </a:lnTo>
                  <a:lnTo>
                    <a:pt x="14206" y="79772"/>
                  </a:lnTo>
                  <a:lnTo>
                    <a:pt x="18357" y="81121"/>
                  </a:lnTo>
                  <a:lnTo>
                    <a:pt x="23664" y="82021"/>
                  </a:lnTo>
                  <a:lnTo>
                    <a:pt x="29743" y="82621"/>
                  </a:lnTo>
                  <a:lnTo>
                    <a:pt x="36334" y="83020"/>
                  </a:lnTo>
                  <a:lnTo>
                    <a:pt x="50432" y="83465"/>
                  </a:lnTo>
                  <a:lnTo>
                    <a:pt x="68605" y="83715"/>
                  </a:lnTo>
                  <a:lnTo>
                    <a:pt x="73248" y="82903"/>
                  </a:lnTo>
                  <a:lnTo>
                    <a:pt x="77192" y="81515"/>
                  </a:lnTo>
                  <a:lnTo>
                    <a:pt x="93650" y="73205"/>
                  </a:lnTo>
                  <a:lnTo>
                    <a:pt x="97566" y="70817"/>
                  </a:lnTo>
                  <a:lnTo>
                    <a:pt x="101022" y="68378"/>
                  </a:lnTo>
                  <a:lnTo>
                    <a:pt x="104175" y="65905"/>
                  </a:lnTo>
                  <a:lnTo>
                    <a:pt x="106276" y="63410"/>
                  </a:lnTo>
                  <a:lnTo>
                    <a:pt x="107677" y="60900"/>
                  </a:lnTo>
                  <a:lnTo>
                    <a:pt x="108611" y="58380"/>
                  </a:lnTo>
                  <a:lnTo>
                    <a:pt x="109233" y="55853"/>
                  </a:lnTo>
                  <a:lnTo>
                    <a:pt x="109648" y="53322"/>
                  </a:lnTo>
                  <a:lnTo>
                    <a:pt x="109925" y="50788"/>
                  </a:lnTo>
                  <a:lnTo>
                    <a:pt x="109263" y="48252"/>
                  </a:lnTo>
                  <a:lnTo>
                    <a:pt x="107975" y="45715"/>
                  </a:lnTo>
                  <a:lnTo>
                    <a:pt x="106269" y="43177"/>
                  </a:lnTo>
                  <a:lnTo>
                    <a:pt x="104286" y="40638"/>
                  </a:lnTo>
                  <a:lnTo>
                    <a:pt x="102116" y="38099"/>
                  </a:lnTo>
                  <a:lnTo>
                    <a:pt x="99824" y="35559"/>
                  </a:lnTo>
                  <a:lnTo>
                    <a:pt x="95018" y="30480"/>
                  </a:lnTo>
                  <a:lnTo>
                    <a:pt x="79998" y="15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MARTInkAnnotation92"/>
            <p:cNvSpPr/>
            <p:nvPr/>
          </p:nvSpPr>
          <p:spPr>
            <a:xfrm>
              <a:off x="5425560" y="2560680"/>
              <a:ext cx="129240" cy="30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29540" h="30481">
                  <a:moveTo>
                    <a:pt x="0" y="30480"/>
                  </a:moveTo>
                  <a:lnTo>
                    <a:pt x="4044" y="30480"/>
                  </a:lnTo>
                  <a:lnTo>
                    <a:pt x="6083" y="29634"/>
                  </a:lnTo>
                  <a:lnTo>
                    <a:pt x="8288" y="28222"/>
                  </a:lnTo>
                  <a:lnTo>
                    <a:pt x="10605" y="26435"/>
                  </a:lnTo>
                  <a:lnTo>
                    <a:pt x="12997" y="25243"/>
                  </a:lnTo>
                  <a:lnTo>
                    <a:pt x="15438" y="24449"/>
                  </a:lnTo>
                  <a:lnTo>
                    <a:pt x="17911" y="23920"/>
                  </a:lnTo>
                  <a:lnTo>
                    <a:pt x="22101" y="22720"/>
                  </a:lnTo>
                  <a:lnTo>
                    <a:pt x="33529" y="19129"/>
                  </a:lnTo>
                  <a:lnTo>
                    <a:pt x="39286" y="17833"/>
                  </a:lnTo>
                  <a:lnTo>
                    <a:pt x="44817" y="16968"/>
                  </a:lnTo>
                  <a:lnTo>
                    <a:pt x="50198" y="16392"/>
                  </a:lnTo>
                  <a:lnTo>
                    <a:pt x="57171" y="15162"/>
                  </a:lnTo>
                  <a:lnTo>
                    <a:pt x="65208" y="13495"/>
                  </a:lnTo>
                  <a:lnTo>
                    <a:pt x="73952" y="11537"/>
                  </a:lnTo>
                  <a:lnTo>
                    <a:pt x="82320" y="10231"/>
                  </a:lnTo>
                  <a:lnTo>
                    <a:pt x="90441" y="9361"/>
                  </a:lnTo>
                  <a:lnTo>
                    <a:pt x="98394" y="8781"/>
                  </a:lnTo>
                  <a:lnTo>
                    <a:pt x="105388" y="7547"/>
                  </a:lnTo>
                  <a:lnTo>
                    <a:pt x="111745" y="5878"/>
                  </a:lnTo>
                  <a:lnTo>
                    <a:pt x="1295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MARTInkAnnotation93"/>
            <p:cNvSpPr/>
            <p:nvPr/>
          </p:nvSpPr>
          <p:spPr>
            <a:xfrm>
              <a:off x="5593320" y="2514960"/>
              <a:ext cx="30240" cy="11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0481" h="114301">
                  <a:moveTo>
                    <a:pt x="30480" y="0"/>
                  </a:moveTo>
                  <a:lnTo>
                    <a:pt x="26435" y="0"/>
                  </a:lnTo>
                  <a:lnTo>
                    <a:pt x="25243" y="847"/>
                  </a:lnTo>
                  <a:lnTo>
                    <a:pt x="24449" y="2258"/>
                  </a:lnTo>
                  <a:lnTo>
                    <a:pt x="23174" y="6561"/>
                  </a:lnTo>
                  <a:lnTo>
                    <a:pt x="22223" y="8607"/>
                  </a:lnTo>
                  <a:lnTo>
                    <a:pt x="18908" y="15397"/>
                  </a:lnTo>
                  <a:lnTo>
                    <a:pt x="17685" y="18731"/>
                  </a:lnTo>
                  <a:lnTo>
                    <a:pt x="16870" y="21801"/>
                  </a:lnTo>
                  <a:lnTo>
                    <a:pt x="16326" y="24694"/>
                  </a:lnTo>
                  <a:lnTo>
                    <a:pt x="15964" y="28316"/>
                  </a:lnTo>
                  <a:lnTo>
                    <a:pt x="15723" y="32424"/>
                  </a:lnTo>
                  <a:lnTo>
                    <a:pt x="15562" y="36856"/>
                  </a:lnTo>
                  <a:lnTo>
                    <a:pt x="14608" y="42351"/>
                  </a:lnTo>
                  <a:lnTo>
                    <a:pt x="13125" y="48554"/>
                  </a:lnTo>
                  <a:lnTo>
                    <a:pt x="11290" y="55229"/>
                  </a:lnTo>
                  <a:lnTo>
                    <a:pt x="10066" y="61373"/>
                  </a:lnTo>
                  <a:lnTo>
                    <a:pt x="9251" y="67162"/>
                  </a:lnTo>
                  <a:lnTo>
                    <a:pt x="8707" y="72715"/>
                  </a:lnTo>
                  <a:lnTo>
                    <a:pt x="7498" y="78956"/>
                  </a:lnTo>
                  <a:lnTo>
                    <a:pt x="5846" y="85658"/>
                  </a:lnTo>
                  <a:lnTo>
                    <a:pt x="3897" y="92665"/>
                  </a:lnTo>
                  <a:lnTo>
                    <a:pt x="2598" y="98184"/>
                  </a:lnTo>
                  <a:lnTo>
                    <a:pt x="1732" y="102709"/>
                  </a:lnTo>
                  <a:lnTo>
                    <a:pt x="0" y="114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SMARTInkAnnotation94"/>
            <p:cNvSpPr/>
            <p:nvPr/>
          </p:nvSpPr>
          <p:spPr>
            <a:xfrm>
              <a:off x="5677560" y="2477160"/>
              <a:ext cx="75600" cy="9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5784" h="90502">
                  <a:moveTo>
                    <a:pt x="22510" y="22405"/>
                  </a:moveTo>
                  <a:lnTo>
                    <a:pt x="18466" y="22405"/>
                  </a:lnTo>
                  <a:lnTo>
                    <a:pt x="16427" y="23252"/>
                  </a:lnTo>
                  <a:lnTo>
                    <a:pt x="14222" y="24663"/>
                  </a:lnTo>
                  <a:lnTo>
                    <a:pt x="11905" y="26450"/>
                  </a:lnTo>
                  <a:lnTo>
                    <a:pt x="10360" y="29335"/>
                  </a:lnTo>
                  <a:lnTo>
                    <a:pt x="9330" y="32952"/>
                  </a:lnTo>
                  <a:lnTo>
                    <a:pt x="8643" y="37056"/>
                  </a:lnTo>
                  <a:lnTo>
                    <a:pt x="7339" y="41486"/>
                  </a:lnTo>
                  <a:lnTo>
                    <a:pt x="5623" y="46132"/>
                  </a:lnTo>
                  <a:lnTo>
                    <a:pt x="3632" y="50923"/>
                  </a:lnTo>
                  <a:lnTo>
                    <a:pt x="2304" y="55810"/>
                  </a:lnTo>
                  <a:lnTo>
                    <a:pt x="1420" y="60762"/>
                  </a:lnTo>
                  <a:lnTo>
                    <a:pt x="830" y="65756"/>
                  </a:lnTo>
                  <a:lnTo>
                    <a:pt x="437" y="69933"/>
                  </a:lnTo>
                  <a:lnTo>
                    <a:pt x="174" y="73564"/>
                  </a:lnTo>
                  <a:lnTo>
                    <a:pt x="0" y="76831"/>
                  </a:lnTo>
                  <a:lnTo>
                    <a:pt x="730" y="79855"/>
                  </a:lnTo>
                  <a:lnTo>
                    <a:pt x="2063" y="82719"/>
                  </a:lnTo>
                  <a:lnTo>
                    <a:pt x="3799" y="85474"/>
                  </a:lnTo>
                  <a:lnTo>
                    <a:pt x="5803" y="87311"/>
                  </a:lnTo>
                  <a:lnTo>
                    <a:pt x="7985" y="88536"/>
                  </a:lnTo>
                  <a:lnTo>
                    <a:pt x="10287" y="89352"/>
                  </a:lnTo>
                  <a:lnTo>
                    <a:pt x="13515" y="89896"/>
                  </a:lnTo>
                  <a:lnTo>
                    <a:pt x="17360" y="90259"/>
                  </a:lnTo>
                  <a:lnTo>
                    <a:pt x="21617" y="90501"/>
                  </a:lnTo>
                  <a:lnTo>
                    <a:pt x="26148" y="89816"/>
                  </a:lnTo>
                  <a:lnTo>
                    <a:pt x="30862" y="88512"/>
                  </a:lnTo>
                  <a:lnTo>
                    <a:pt x="35699" y="86797"/>
                  </a:lnTo>
                  <a:lnTo>
                    <a:pt x="39769" y="84806"/>
                  </a:lnTo>
                  <a:lnTo>
                    <a:pt x="43329" y="82632"/>
                  </a:lnTo>
                  <a:lnTo>
                    <a:pt x="46550" y="80337"/>
                  </a:lnTo>
                  <a:lnTo>
                    <a:pt x="49543" y="77959"/>
                  </a:lnTo>
                  <a:lnTo>
                    <a:pt x="52385" y="75528"/>
                  </a:lnTo>
                  <a:lnTo>
                    <a:pt x="55126" y="73060"/>
                  </a:lnTo>
                  <a:lnTo>
                    <a:pt x="58648" y="70569"/>
                  </a:lnTo>
                  <a:lnTo>
                    <a:pt x="62688" y="68061"/>
                  </a:lnTo>
                  <a:lnTo>
                    <a:pt x="67075" y="65542"/>
                  </a:lnTo>
                  <a:lnTo>
                    <a:pt x="70001" y="62170"/>
                  </a:lnTo>
                  <a:lnTo>
                    <a:pt x="71950" y="58228"/>
                  </a:lnTo>
                  <a:lnTo>
                    <a:pt x="73251" y="53907"/>
                  </a:lnTo>
                  <a:lnTo>
                    <a:pt x="74117" y="50180"/>
                  </a:lnTo>
                  <a:lnTo>
                    <a:pt x="74695" y="46848"/>
                  </a:lnTo>
                  <a:lnTo>
                    <a:pt x="75080" y="43780"/>
                  </a:lnTo>
                  <a:lnTo>
                    <a:pt x="75336" y="40042"/>
                  </a:lnTo>
                  <a:lnTo>
                    <a:pt x="75507" y="35856"/>
                  </a:lnTo>
                  <a:lnTo>
                    <a:pt x="75748" y="24133"/>
                  </a:lnTo>
                  <a:lnTo>
                    <a:pt x="75783" y="21017"/>
                  </a:lnTo>
                  <a:lnTo>
                    <a:pt x="74111" y="18093"/>
                  </a:lnTo>
                  <a:lnTo>
                    <a:pt x="71304" y="15297"/>
                  </a:lnTo>
                  <a:lnTo>
                    <a:pt x="67740" y="12586"/>
                  </a:lnTo>
                  <a:lnTo>
                    <a:pt x="65363" y="9933"/>
                  </a:lnTo>
                  <a:lnTo>
                    <a:pt x="63779" y="7317"/>
                  </a:lnTo>
                  <a:lnTo>
                    <a:pt x="62722" y="4726"/>
                  </a:lnTo>
                  <a:lnTo>
                    <a:pt x="61172" y="2999"/>
                  </a:lnTo>
                  <a:lnTo>
                    <a:pt x="59291" y="1848"/>
                  </a:lnTo>
                  <a:lnTo>
                    <a:pt x="54235" y="0"/>
                  </a:lnTo>
                  <a:lnTo>
                    <a:pt x="52973" y="695"/>
                  </a:lnTo>
                  <a:lnTo>
                    <a:pt x="51286" y="2005"/>
                  </a:lnTo>
                  <a:lnTo>
                    <a:pt x="45370" y="7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SMARTInkAnnotation95"/>
            <p:cNvSpPr/>
            <p:nvPr/>
          </p:nvSpPr>
          <p:spPr>
            <a:xfrm>
              <a:off x="5699880" y="2568240"/>
              <a:ext cx="82800" cy="684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2902" h="68474">
                  <a:moveTo>
                    <a:pt x="30358" y="15240"/>
                  </a:moveTo>
                  <a:lnTo>
                    <a:pt x="22765" y="15240"/>
                  </a:lnTo>
                  <a:lnTo>
                    <a:pt x="22745" y="19285"/>
                  </a:lnTo>
                  <a:lnTo>
                    <a:pt x="21896" y="20477"/>
                  </a:lnTo>
                  <a:lnTo>
                    <a:pt x="20483" y="21271"/>
                  </a:lnTo>
                  <a:lnTo>
                    <a:pt x="18694" y="21801"/>
                  </a:lnTo>
                  <a:lnTo>
                    <a:pt x="17502" y="23001"/>
                  </a:lnTo>
                  <a:lnTo>
                    <a:pt x="16707" y="24647"/>
                  </a:lnTo>
                  <a:lnTo>
                    <a:pt x="16177" y="26591"/>
                  </a:lnTo>
                  <a:lnTo>
                    <a:pt x="14977" y="28734"/>
                  </a:lnTo>
                  <a:lnTo>
                    <a:pt x="13330" y="31010"/>
                  </a:lnTo>
                  <a:lnTo>
                    <a:pt x="11386" y="33373"/>
                  </a:lnTo>
                  <a:lnTo>
                    <a:pt x="9243" y="36642"/>
                  </a:lnTo>
                  <a:lnTo>
                    <a:pt x="6967" y="40515"/>
                  </a:lnTo>
                  <a:lnTo>
                    <a:pt x="4604" y="44790"/>
                  </a:lnTo>
                  <a:lnTo>
                    <a:pt x="3028" y="48486"/>
                  </a:lnTo>
                  <a:lnTo>
                    <a:pt x="1978" y="51798"/>
                  </a:lnTo>
                  <a:lnTo>
                    <a:pt x="292" y="59150"/>
                  </a:lnTo>
                  <a:lnTo>
                    <a:pt x="154" y="60600"/>
                  </a:lnTo>
                  <a:lnTo>
                    <a:pt x="61" y="62414"/>
                  </a:lnTo>
                  <a:lnTo>
                    <a:pt x="0" y="64469"/>
                  </a:lnTo>
                  <a:lnTo>
                    <a:pt x="806" y="65840"/>
                  </a:lnTo>
                  <a:lnTo>
                    <a:pt x="2190" y="66753"/>
                  </a:lnTo>
                  <a:lnTo>
                    <a:pt x="3958" y="67362"/>
                  </a:lnTo>
                  <a:lnTo>
                    <a:pt x="6831" y="67768"/>
                  </a:lnTo>
                  <a:lnTo>
                    <a:pt x="10441" y="68039"/>
                  </a:lnTo>
                  <a:lnTo>
                    <a:pt x="18118" y="68340"/>
                  </a:lnTo>
                  <a:lnTo>
                    <a:pt x="24353" y="68473"/>
                  </a:lnTo>
                  <a:lnTo>
                    <a:pt x="28048" y="67662"/>
                  </a:lnTo>
                  <a:lnTo>
                    <a:pt x="32205" y="66275"/>
                  </a:lnTo>
                  <a:lnTo>
                    <a:pt x="36669" y="64503"/>
                  </a:lnTo>
                  <a:lnTo>
                    <a:pt x="41338" y="62476"/>
                  </a:lnTo>
                  <a:lnTo>
                    <a:pt x="51042" y="57965"/>
                  </a:lnTo>
                  <a:lnTo>
                    <a:pt x="55154" y="55577"/>
                  </a:lnTo>
                  <a:lnTo>
                    <a:pt x="58742" y="53138"/>
                  </a:lnTo>
                  <a:lnTo>
                    <a:pt x="61980" y="50665"/>
                  </a:lnTo>
                  <a:lnTo>
                    <a:pt x="65833" y="48170"/>
                  </a:lnTo>
                  <a:lnTo>
                    <a:pt x="70094" y="45660"/>
                  </a:lnTo>
                  <a:lnTo>
                    <a:pt x="74628" y="43140"/>
                  </a:lnTo>
                  <a:lnTo>
                    <a:pt x="77651" y="40614"/>
                  </a:lnTo>
                  <a:lnTo>
                    <a:pt x="79666" y="38082"/>
                  </a:lnTo>
                  <a:lnTo>
                    <a:pt x="81010" y="35548"/>
                  </a:lnTo>
                  <a:lnTo>
                    <a:pt x="81906" y="33012"/>
                  </a:lnTo>
                  <a:lnTo>
                    <a:pt x="82503" y="30475"/>
                  </a:lnTo>
                  <a:lnTo>
                    <a:pt x="82901" y="27937"/>
                  </a:lnTo>
                  <a:lnTo>
                    <a:pt x="82320" y="25398"/>
                  </a:lnTo>
                  <a:lnTo>
                    <a:pt x="81086" y="22859"/>
                  </a:lnTo>
                  <a:lnTo>
                    <a:pt x="79416" y="20319"/>
                  </a:lnTo>
                  <a:lnTo>
                    <a:pt x="77457" y="17779"/>
                  </a:lnTo>
                  <a:lnTo>
                    <a:pt x="75304" y="15240"/>
                  </a:lnTo>
                  <a:lnTo>
                    <a:pt x="73021" y="12700"/>
                  </a:lnTo>
                  <a:lnTo>
                    <a:pt x="68228" y="7620"/>
                  </a:lnTo>
                  <a:lnTo>
                    <a:pt x="65765" y="5080"/>
                  </a:lnTo>
                  <a:lnTo>
                    <a:pt x="62428" y="3387"/>
                  </a:lnTo>
                  <a:lnTo>
                    <a:pt x="58511" y="2258"/>
                  </a:lnTo>
                  <a:lnTo>
                    <a:pt x="54206" y="1505"/>
                  </a:lnTo>
                  <a:lnTo>
                    <a:pt x="50490" y="1003"/>
                  </a:lnTo>
                  <a:lnTo>
                    <a:pt x="47166" y="669"/>
                  </a:lnTo>
                  <a:lnTo>
                    <a:pt x="44103" y="446"/>
                  </a:lnTo>
                  <a:lnTo>
                    <a:pt x="41214" y="297"/>
                  </a:lnTo>
                  <a:lnTo>
                    <a:pt x="3035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MARTInkAnnotation96"/>
            <p:cNvSpPr/>
            <p:nvPr/>
          </p:nvSpPr>
          <p:spPr>
            <a:xfrm>
              <a:off x="5128200" y="345240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2" h="7621">
                  <a:moveTo>
                    <a:pt x="0" y="7620"/>
                  </a:moveTo>
                  <a:lnTo>
                    <a:pt x="29550" y="7620"/>
                  </a:lnTo>
                  <a:lnTo>
                    <a:pt x="34094" y="6773"/>
                  </a:lnTo>
                  <a:lnTo>
                    <a:pt x="38816" y="5362"/>
                  </a:lnTo>
                  <a:lnTo>
                    <a:pt x="43657" y="3575"/>
                  </a:lnTo>
                  <a:lnTo>
                    <a:pt x="47732" y="2383"/>
                  </a:lnTo>
                  <a:lnTo>
                    <a:pt x="51294" y="1589"/>
                  </a:lnTo>
                  <a:lnTo>
                    <a:pt x="54516" y="1059"/>
                  </a:lnTo>
                  <a:lnTo>
                    <a:pt x="59204" y="706"/>
                  </a:lnTo>
                  <a:lnTo>
                    <a:pt x="64870" y="471"/>
                  </a:lnTo>
                  <a:lnTo>
                    <a:pt x="77938" y="210"/>
                  </a:lnTo>
                  <a:lnTo>
                    <a:pt x="14478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MARTInkAnnotation97"/>
            <p:cNvSpPr/>
            <p:nvPr/>
          </p:nvSpPr>
          <p:spPr>
            <a:xfrm>
              <a:off x="5394960" y="3345840"/>
              <a:ext cx="14760" cy="1749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900" h="175261">
                  <a:moveTo>
                    <a:pt x="0" y="0"/>
                  </a:moveTo>
                  <a:lnTo>
                    <a:pt x="0" y="15396"/>
                  </a:lnTo>
                  <a:lnTo>
                    <a:pt x="846" y="18731"/>
                  </a:lnTo>
                  <a:lnTo>
                    <a:pt x="2257" y="21801"/>
                  </a:lnTo>
                  <a:lnTo>
                    <a:pt x="4045" y="24694"/>
                  </a:lnTo>
                  <a:lnTo>
                    <a:pt x="5237" y="28316"/>
                  </a:lnTo>
                  <a:lnTo>
                    <a:pt x="6031" y="32424"/>
                  </a:lnTo>
                  <a:lnTo>
                    <a:pt x="6561" y="36856"/>
                  </a:lnTo>
                  <a:lnTo>
                    <a:pt x="7760" y="42350"/>
                  </a:lnTo>
                  <a:lnTo>
                    <a:pt x="9407" y="48554"/>
                  </a:lnTo>
                  <a:lnTo>
                    <a:pt x="11351" y="55229"/>
                  </a:lnTo>
                  <a:lnTo>
                    <a:pt x="12648" y="61373"/>
                  </a:lnTo>
                  <a:lnTo>
                    <a:pt x="13512" y="67162"/>
                  </a:lnTo>
                  <a:lnTo>
                    <a:pt x="14088" y="72714"/>
                  </a:lnTo>
                  <a:lnTo>
                    <a:pt x="14472" y="78109"/>
                  </a:lnTo>
                  <a:lnTo>
                    <a:pt x="14728" y="83400"/>
                  </a:lnTo>
                  <a:lnTo>
                    <a:pt x="14899" y="88620"/>
                  </a:lnTo>
                  <a:lnTo>
                    <a:pt x="14166" y="94640"/>
                  </a:lnTo>
                  <a:lnTo>
                    <a:pt x="12831" y="101193"/>
                  </a:lnTo>
                  <a:lnTo>
                    <a:pt x="11094" y="108102"/>
                  </a:lnTo>
                  <a:lnTo>
                    <a:pt x="9936" y="114401"/>
                  </a:lnTo>
                  <a:lnTo>
                    <a:pt x="9164" y="120294"/>
                  </a:lnTo>
                  <a:lnTo>
                    <a:pt x="8649" y="125916"/>
                  </a:lnTo>
                  <a:lnTo>
                    <a:pt x="8306" y="131358"/>
                  </a:lnTo>
                  <a:lnTo>
                    <a:pt x="7925" y="141919"/>
                  </a:lnTo>
                  <a:lnTo>
                    <a:pt x="7710" y="153339"/>
                  </a:lnTo>
                  <a:lnTo>
                    <a:pt x="7620" y="175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MARTInkAnnotation98"/>
            <p:cNvSpPr/>
            <p:nvPr/>
          </p:nvSpPr>
          <p:spPr>
            <a:xfrm>
              <a:off x="5478840" y="3337920"/>
              <a:ext cx="203760" cy="16596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03738" h="166097">
                  <a:moveTo>
                    <a:pt x="30469" y="0"/>
                  </a:moveTo>
                  <a:lnTo>
                    <a:pt x="30469" y="6561"/>
                  </a:lnTo>
                  <a:lnTo>
                    <a:pt x="31315" y="6914"/>
                  </a:lnTo>
                  <a:lnTo>
                    <a:pt x="37030" y="7527"/>
                  </a:lnTo>
                  <a:lnTo>
                    <a:pt x="37383" y="8405"/>
                  </a:lnTo>
                  <a:lnTo>
                    <a:pt x="37775" y="11638"/>
                  </a:lnTo>
                  <a:lnTo>
                    <a:pt x="37033" y="13685"/>
                  </a:lnTo>
                  <a:lnTo>
                    <a:pt x="33950" y="18218"/>
                  </a:lnTo>
                  <a:lnTo>
                    <a:pt x="32016" y="23055"/>
                  </a:lnTo>
                  <a:lnTo>
                    <a:pt x="31156" y="28027"/>
                  </a:lnTo>
                  <a:lnTo>
                    <a:pt x="30775" y="33059"/>
                  </a:lnTo>
                  <a:lnTo>
                    <a:pt x="29826" y="35586"/>
                  </a:lnTo>
                  <a:lnTo>
                    <a:pt x="26514" y="40652"/>
                  </a:lnTo>
                  <a:lnTo>
                    <a:pt x="24445" y="44034"/>
                  </a:lnTo>
                  <a:lnTo>
                    <a:pt x="22220" y="47983"/>
                  </a:lnTo>
                  <a:lnTo>
                    <a:pt x="19890" y="52309"/>
                  </a:lnTo>
                  <a:lnTo>
                    <a:pt x="17489" y="55193"/>
                  </a:lnTo>
                  <a:lnTo>
                    <a:pt x="15042" y="57115"/>
                  </a:lnTo>
                  <a:lnTo>
                    <a:pt x="10065" y="60098"/>
                  </a:lnTo>
                  <a:lnTo>
                    <a:pt x="5032" y="64246"/>
                  </a:lnTo>
                  <a:lnTo>
                    <a:pt x="1483" y="67296"/>
                  </a:lnTo>
                  <a:lnTo>
                    <a:pt x="985" y="68570"/>
                  </a:lnTo>
                  <a:lnTo>
                    <a:pt x="284" y="73563"/>
                  </a:lnTo>
                  <a:lnTo>
                    <a:pt x="120" y="75028"/>
                  </a:lnTo>
                  <a:lnTo>
                    <a:pt x="6" y="70015"/>
                  </a:lnTo>
                  <a:lnTo>
                    <a:pt x="0" y="69536"/>
                  </a:lnTo>
                  <a:lnTo>
                    <a:pt x="4510" y="66747"/>
                  </a:lnTo>
                  <a:lnTo>
                    <a:pt x="8083" y="64818"/>
                  </a:lnTo>
                  <a:lnTo>
                    <a:pt x="12158" y="61839"/>
                  </a:lnTo>
                  <a:lnTo>
                    <a:pt x="16568" y="58159"/>
                  </a:lnTo>
                  <a:lnTo>
                    <a:pt x="21202" y="54013"/>
                  </a:lnTo>
                  <a:lnTo>
                    <a:pt x="25984" y="50402"/>
                  </a:lnTo>
                  <a:lnTo>
                    <a:pt x="30866" y="47148"/>
                  </a:lnTo>
                  <a:lnTo>
                    <a:pt x="35813" y="44132"/>
                  </a:lnTo>
                  <a:lnTo>
                    <a:pt x="41651" y="41275"/>
                  </a:lnTo>
                  <a:lnTo>
                    <a:pt x="48084" y="38523"/>
                  </a:lnTo>
                  <a:lnTo>
                    <a:pt x="54913" y="35842"/>
                  </a:lnTo>
                  <a:lnTo>
                    <a:pt x="62005" y="34055"/>
                  </a:lnTo>
                  <a:lnTo>
                    <a:pt x="69273" y="32863"/>
                  </a:lnTo>
                  <a:lnTo>
                    <a:pt x="76658" y="32069"/>
                  </a:lnTo>
                  <a:lnTo>
                    <a:pt x="84969" y="31539"/>
                  </a:lnTo>
                  <a:lnTo>
                    <a:pt x="93896" y="31186"/>
                  </a:lnTo>
                  <a:lnTo>
                    <a:pt x="103233" y="30951"/>
                  </a:lnTo>
                  <a:lnTo>
                    <a:pt x="111998" y="31641"/>
                  </a:lnTo>
                  <a:lnTo>
                    <a:pt x="120382" y="32947"/>
                  </a:lnTo>
                  <a:lnTo>
                    <a:pt x="128511" y="34665"/>
                  </a:lnTo>
                  <a:lnTo>
                    <a:pt x="136471" y="36657"/>
                  </a:lnTo>
                  <a:lnTo>
                    <a:pt x="144317" y="38831"/>
                  </a:lnTo>
                  <a:lnTo>
                    <a:pt x="152087" y="41127"/>
                  </a:lnTo>
                  <a:lnTo>
                    <a:pt x="158961" y="43505"/>
                  </a:lnTo>
                  <a:lnTo>
                    <a:pt x="165237" y="45937"/>
                  </a:lnTo>
                  <a:lnTo>
                    <a:pt x="171114" y="48405"/>
                  </a:lnTo>
                  <a:lnTo>
                    <a:pt x="176727" y="51743"/>
                  </a:lnTo>
                  <a:lnTo>
                    <a:pt x="182161" y="55662"/>
                  </a:lnTo>
                  <a:lnTo>
                    <a:pt x="187477" y="59968"/>
                  </a:lnTo>
                  <a:lnTo>
                    <a:pt x="191868" y="64532"/>
                  </a:lnTo>
                  <a:lnTo>
                    <a:pt x="195642" y="69268"/>
                  </a:lnTo>
                  <a:lnTo>
                    <a:pt x="199004" y="74119"/>
                  </a:lnTo>
                  <a:lnTo>
                    <a:pt x="201246" y="79046"/>
                  </a:lnTo>
                  <a:lnTo>
                    <a:pt x="202740" y="84024"/>
                  </a:lnTo>
                  <a:lnTo>
                    <a:pt x="203737" y="89036"/>
                  </a:lnTo>
                  <a:lnTo>
                    <a:pt x="203554" y="94070"/>
                  </a:lnTo>
                  <a:lnTo>
                    <a:pt x="202586" y="99121"/>
                  </a:lnTo>
                  <a:lnTo>
                    <a:pt x="201094" y="104180"/>
                  </a:lnTo>
                  <a:lnTo>
                    <a:pt x="199252" y="109247"/>
                  </a:lnTo>
                  <a:lnTo>
                    <a:pt x="197178" y="114318"/>
                  </a:lnTo>
                  <a:lnTo>
                    <a:pt x="194949" y="119392"/>
                  </a:lnTo>
                  <a:lnTo>
                    <a:pt x="191769" y="124468"/>
                  </a:lnTo>
                  <a:lnTo>
                    <a:pt x="187956" y="129545"/>
                  </a:lnTo>
                  <a:lnTo>
                    <a:pt x="183720" y="134623"/>
                  </a:lnTo>
                  <a:lnTo>
                    <a:pt x="179203" y="138856"/>
                  </a:lnTo>
                  <a:lnTo>
                    <a:pt x="174499" y="142524"/>
                  </a:lnTo>
                  <a:lnTo>
                    <a:pt x="169668" y="145816"/>
                  </a:lnTo>
                  <a:lnTo>
                    <a:pt x="163909" y="148857"/>
                  </a:lnTo>
                  <a:lnTo>
                    <a:pt x="157529" y="151731"/>
                  </a:lnTo>
                  <a:lnTo>
                    <a:pt x="150736" y="154494"/>
                  </a:lnTo>
                  <a:lnTo>
                    <a:pt x="144513" y="157183"/>
                  </a:lnTo>
                  <a:lnTo>
                    <a:pt x="133084" y="162428"/>
                  </a:lnTo>
                  <a:lnTo>
                    <a:pt x="127666" y="164165"/>
                  </a:lnTo>
                  <a:lnTo>
                    <a:pt x="122360" y="165323"/>
                  </a:lnTo>
                  <a:lnTo>
                    <a:pt x="117129" y="166096"/>
                  </a:lnTo>
                  <a:lnTo>
                    <a:pt x="111103" y="165764"/>
                  </a:lnTo>
                  <a:lnTo>
                    <a:pt x="104545" y="164696"/>
                  </a:lnTo>
                  <a:lnTo>
                    <a:pt x="97633" y="163138"/>
                  </a:lnTo>
                  <a:lnTo>
                    <a:pt x="92178" y="162098"/>
                  </a:lnTo>
                  <a:lnTo>
                    <a:pt x="87695" y="161405"/>
                  </a:lnTo>
                  <a:lnTo>
                    <a:pt x="83860" y="160944"/>
                  </a:lnTo>
                  <a:lnTo>
                    <a:pt x="79609" y="160636"/>
                  </a:lnTo>
                  <a:lnTo>
                    <a:pt x="75082" y="160431"/>
                  </a:lnTo>
                  <a:lnTo>
                    <a:pt x="60949" y="1600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MARTInkAnnotation99"/>
            <p:cNvSpPr/>
            <p:nvPr/>
          </p:nvSpPr>
          <p:spPr>
            <a:xfrm>
              <a:off x="5547600" y="3277080"/>
              <a:ext cx="137160" cy="151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37161" h="15241">
                  <a:moveTo>
                    <a:pt x="0" y="15240"/>
                  </a:moveTo>
                  <a:lnTo>
                    <a:pt x="13867" y="15240"/>
                  </a:lnTo>
                  <a:lnTo>
                    <a:pt x="16018" y="14394"/>
                  </a:lnTo>
                  <a:lnTo>
                    <a:pt x="19146" y="12983"/>
                  </a:lnTo>
                  <a:lnTo>
                    <a:pt x="22923" y="11195"/>
                  </a:lnTo>
                  <a:lnTo>
                    <a:pt x="27982" y="10003"/>
                  </a:lnTo>
                  <a:lnTo>
                    <a:pt x="33895" y="9209"/>
                  </a:lnTo>
                  <a:lnTo>
                    <a:pt x="40377" y="8679"/>
                  </a:lnTo>
                  <a:lnTo>
                    <a:pt x="46391" y="7480"/>
                  </a:lnTo>
                  <a:lnTo>
                    <a:pt x="52094" y="5833"/>
                  </a:lnTo>
                  <a:lnTo>
                    <a:pt x="57590" y="3889"/>
                  </a:lnTo>
                  <a:lnTo>
                    <a:pt x="64640" y="2592"/>
                  </a:lnTo>
                  <a:lnTo>
                    <a:pt x="72727" y="1728"/>
                  </a:lnTo>
                  <a:lnTo>
                    <a:pt x="81505" y="1153"/>
                  </a:lnTo>
                  <a:lnTo>
                    <a:pt x="89897" y="768"/>
                  </a:lnTo>
                  <a:lnTo>
                    <a:pt x="105994" y="341"/>
                  </a:lnTo>
                  <a:lnTo>
                    <a:pt x="137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MARTInkAnnotation100"/>
            <p:cNvSpPr/>
            <p:nvPr/>
          </p:nvSpPr>
          <p:spPr>
            <a:xfrm>
              <a:off x="5768640" y="3391560"/>
              <a:ext cx="99000" cy="226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99060" h="22861">
                  <a:moveTo>
                    <a:pt x="0" y="22860"/>
                  </a:moveTo>
                  <a:lnTo>
                    <a:pt x="10605" y="22860"/>
                  </a:lnTo>
                  <a:lnTo>
                    <a:pt x="12997" y="22013"/>
                  </a:lnTo>
                  <a:lnTo>
                    <a:pt x="15438" y="20602"/>
                  </a:lnTo>
                  <a:lnTo>
                    <a:pt x="17911" y="18815"/>
                  </a:lnTo>
                  <a:lnTo>
                    <a:pt x="21254" y="17623"/>
                  </a:lnTo>
                  <a:lnTo>
                    <a:pt x="25176" y="16829"/>
                  </a:lnTo>
                  <a:lnTo>
                    <a:pt x="29483" y="16299"/>
                  </a:lnTo>
                  <a:lnTo>
                    <a:pt x="34896" y="15099"/>
                  </a:lnTo>
                  <a:lnTo>
                    <a:pt x="41044" y="13453"/>
                  </a:lnTo>
                  <a:lnTo>
                    <a:pt x="54647" y="9366"/>
                  </a:lnTo>
                  <a:lnTo>
                    <a:pt x="69161" y="4727"/>
                  </a:lnTo>
                  <a:lnTo>
                    <a:pt x="75740" y="3151"/>
                  </a:lnTo>
                  <a:lnTo>
                    <a:pt x="81820" y="2101"/>
                  </a:lnTo>
                  <a:lnTo>
                    <a:pt x="990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SMARTInkAnnotation101"/>
            <p:cNvSpPr/>
            <p:nvPr/>
          </p:nvSpPr>
          <p:spPr>
            <a:xfrm>
              <a:off x="5829480" y="3437280"/>
              <a:ext cx="99000" cy="3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99061" h="1">
                  <a:moveTo>
                    <a:pt x="0" y="0"/>
                  </a:moveTo>
                  <a:lnTo>
                    <a:pt x="990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SMARTInkAnnotation102"/>
            <p:cNvSpPr/>
            <p:nvPr/>
          </p:nvSpPr>
          <p:spPr>
            <a:xfrm>
              <a:off x="6225840" y="3139920"/>
              <a:ext cx="203400" cy="1674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03504" h="167548">
                  <a:moveTo>
                    <a:pt x="91297" y="7527"/>
                  </a:moveTo>
                  <a:lnTo>
                    <a:pt x="91297" y="0"/>
                  </a:lnTo>
                  <a:lnTo>
                    <a:pt x="87251" y="3980"/>
                  </a:lnTo>
                  <a:lnTo>
                    <a:pt x="85214" y="5162"/>
                  </a:lnTo>
                  <a:lnTo>
                    <a:pt x="80691" y="6476"/>
                  </a:lnTo>
                  <a:lnTo>
                    <a:pt x="75858" y="7060"/>
                  </a:lnTo>
                  <a:lnTo>
                    <a:pt x="73384" y="7216"/>
                  </a:lnTo>
                  <a:lnTo>
                    <a:pt x="70042" y="8166"/>
                  </a:lnTo>
                  <a:lnTo>
                    <a:pt x="66121" y="9646"/>
                  </a:lnTo>
                  <a:lnTo>
                    <a:pt x="61813" y="11480"/>
                  </a:lnTo>
                  <a:lnTo>
                    <a:pt x="58094" y="13549"/>
                  </a:lnTo>
                  <a:lnTo>
                    <a:pt x="54768" y="15775"/>
                  </a:lnTo>
                  <a:lnTo>
                    <a:pt x="51704" y="18106"/>
                  </a:lnTo>
                  <a:lnTo>
                    <a:pt x="47968" y="20506"/>
                  </a:lnTo>
                  <a:lnTo>
                    <a:pt x="43784" y="22953"/>
                  </a:lnTo>
                  <a:lnTo>
                    <a:pt x="39302" y="25431"/>
                  </a:lnTo>
                  <a:lnTo>
                    <a:pt x="29806" y="30442"/>
                  </a:lnTo>
                  <a:lnTo>
                    <a:pt x="24903" y="32964"/>
                  </a:lnTo>
                  <a:lnTo>
                    <a:pt x="20788" y="35492"/>
                  </a:lnTo>
                  <a:lnTo>
                    <a:pt x="17197" y="38023"/>
                  </a:lnTo>
                  <a:lnTo>
                    <a:pt x="13957" y="40558"/>
                  </a:lnTo>
                  <a:lnTo>
                    <a:pt x="8100" y="43374"/>
                  </a:lnTo>
                  <a:lnTo>
                    <a:pt x="1485" y="45182"/>
                  </a:lnTo>
                  <a:lnTo>
                    <a:pt x="942" y="46177"/>
                  </a:lnTo>
                  <a:lnTo>
                    <a:pt x="178" y="50776"/>
                  </a:lnTo>
                  <a:lnTo>
                    <a:pt x="0" y="52149"/>
                  </a:lnTo>
                  <a:lnTo>
                    <a:pt x="4436" y="52759"/>
                  </a:lnTo>
                  <a:lnTo>
                    <a:pt x="7989" y="52922"/>
                  </a:lnTo>
                  <a:lnTo>
                    <a:pt x="16454" y="53103"/>
                  </a:lnTo>
                  <a:lnTo>
                    <a:pt x="39730" y="53218"/>
                  </a:lnTo>
                  <a:lnTo>
                    <a:pt x="46759" y="54075"/>
                  </a:lnTo>
                  <a:lnTo>
                    <a:pt x="53985" y="55492"/>
                  </a:lnTo>
                  <a:lnTo>
                    <a:pt x="61342" y="57284"/>
                  </a:lnTo>
                  <a:lnTo>
                    <a:pt x="69634" y="58478"/>
                  </a:lnTo>
                  <a:lnTo>
                    <a:pt x="78548" y="59274"/>
                  </a:lnTo>
                  <a:lnTo>
                    <a:pt x="87877" y="59805"/>
                  </a:lnTo>
                  <a:lnTo>
                    <a:pt x="97484" y="61006"/>
                  </a:lnTo>
                  <a:lnTo>
                    <a:pt x="107275" y="62653"/>
                  </a:lnTo>
                  <a:lnTo>
                    <a:pt x="117189" y="64598"/>
                  </a:lnTo>
                  <a:lnTo>
                    <a:pt x="126339" y="66741"/>
                  </a:lnTo>
                  <a:lnTo>
                    <a:pt x="134978" y="69017"/>
                  </a:lnTo>
                  <a:lnTo>
                    <a:pt x="143277" y="71380"/>
                  </a:lnTo>
                  <a:lnTo>
                    <a:pt x="151351" y="74649"/>
                  </a:lnTo>
                  <a:lnTo>
                    <a:pt x="159272" y="78522"/>
                  </a:lnTo>
                  <a:lnTo>
                    <a:pt x="167095" y="82797"/>
                  </a:lnTo>
                  <a:lnTo>
                    <a:pt x="174002" y="87340"/>
                  </a:lnTo>
                  <a:lnTo>
                    <a:pt x="180300" y="92062"/>
                  </a:lnTo>
                  <a:lnTo>
                    <a:pt x="186193" y="96904"/>
                  </a:lnTo>
                  <a:lnTo>
                    <a:pt x="190968" y="100978"/>
                  </a:lnTo>
                  <a:lnTo>
                    <a:pt x="194997" y="104541"/>
                  </a:lnTo>
                  <a:lnTo>
                    <a:pt x="198530" y="107763"/>
                  </a:lnTo>
                  <a:lnTo>
                    <a:pt x="200886" y="110758"/>
                  </a:lnTo>
                  <a:lnTo>
                    <a:pt x="202456" y="113601"/>
                  </a:lnTo>
                  <a:lnTo>
                    <a:pt x="203503" y="116343"/>
                  </a:lnTo>
                  <a:lnTo>
                    <a:pt x="203355" y="119864"/>
                  </a:lnTo>
                  <a:lnTo>
                    <a:pt x="202409" y="123905"/>
                  </a:lnTo>
                  <a:lnTo>
                    <a:pt x="200932" y="128293"/>
                  </a:lnTo>
                  <a:lnTo>
                    <a:pt x="198253" y="132064"/>
                  </a:lnTo>
                  <a:lnTo>
                    <a:pt x="194775" y="135425"/>
                  </a:lnTo>
                  <a:lnTo>
                    <a:pt x="190762" y="138512"/>
                  </a:lnTo>
                  <a:lnTo>
                    <a:pt x="186394" y="142264"/>
                  </a:lnTo>
                  <a:lnTo>
                    <a:pt x="181788" y="146458"/>
                  </a:lnTo>
                  <a:lnTo>
                    <a:pt x="177025" y="150948"/>
                  </a:lnTo>
                  <a:lnTo>
                    <a:pt x="171309" y="154788"/>
                  </a:lnTo>
                  <a:lnTo>
                    <a:pt x="164958" y="158194"/>
                  </a:lnTo>
                  <a:lnTo>
                    <a:pt x="158184" y="161312"/>
                  </a:lnTo>
                  <a:lnTo>
                    <a:pt x="151129" y="163390"/>
                  </a:lnTo>
                  <a:lnTo>
                    <a:pt x="143884" y="164776"/>
                  </a:lnTo>
                  <a:lnTo>
                    <a:pt x="136515" y="165699"/>
                  </a:lnTo>
                  <a:lnTo>
                    <a:pt x="129063" y="166315"/>
                  </a:lnTo>
                  <a:lnTo>
                    <a:pt x="121554" y="166726"/>
                  </a:lnTo>
                  <a:lnTo>
                    <a:pt x="114008" y="167000"/>
                  </a:lnTo>
                  <a:lnTo>
                    <a:pt x="80105" y="167439"/>
                  </a:lnTo>
                  <a:lnTo>
                    <a:pt x="60817" y="1675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MARTInkAnnotation103"/>
            <p:cNvSpPr/>
            <p:nvPr/>
          </p:nvSpPr>
          <p:spPr>
            <a:xfrm>
              <a:off x="6279120" y="3116880"/>
              <a:ext cx="190440" cy="7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0501" h="7621">
                  <a:moveTo>
                    <a:pt x="0" y="7620"/>
                  </a:moveTo>
                  <a:lnTo>
                    <a:pt x="76553" y="7620"/>
                  </a:lnTo>
                  <a:lnTo>
                    <a:pt x="84055" y="6773"/>
                  </a:lnTo>
                  <a:lnTo>
                    <a:pt x="91597" y="5362"/>
                  </a:lnTo>
                  <a:lnTo>
                    <a:pt x="99165" y="3575"/>
                  </a:lnTo>
                  <a:lnTo>
                    <a:pt x="107597" y="2383"/>
                  </a:lnTo>
                  <a:lnTo>
                    <a:pt x="116605" y="1589"/>
                  </a:lnTo>
                  <a:lnTo>
                    <a:pt x="125996" y="1059"/>
                  </a:lnTo>
                  <a:lnTo>
                    <a:pt x="145463" y="471"/>
                  </a:ln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SMARTInkAnnotation104"/>
            <p:cNvSpPr/>
            <p:nvPr/>
          </p:nvSpPr>
          <p:spPr>
            <a:xfrm>
              <a:off x="6180120" y="3376080"/>
              <a:ext cx="457200" cy="53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57201" h="53341">
                  <a:moveTo>
                    <a:pt x="0" y="53340"/>
                  </a:moveTo>
                  <a:lnTo>
                    <a:pt x="0" y="49295"/>
                  </a:lnTo>
                  <a:lnTo>
                    <a:pt x="2540" y="48103"/>
                  </a:lnTo>
                  <a:lnTo>
                    <a:pt x="12136" y="46780"/>
                  </a:lnTo>
                  <a:lnTo>
                    <a:pt x="23728" y="46034"/>
                  </a:lnTo>
                  <a:lnTo>
                    <a:pt x="29365" y="45083"/>
                  </a:lnTo>
                  <a:lnTo>
                    <a:pt x="36510" y="43602"/>
                  </a:lnTo>
                  <a:lnTo>
                    <a:pt x="53480" y="39699"/>
                  </a:lnTo>
                  <a:lnTo>
                    <a:pt x="72312" y="35142"/>
                  </a:lnTo>
                  <a:lnTo>
                    <a:pt x="83768" y="32741"/>
                  </a:lnTo>
                  <a:lnTo>
                    <a:pt x="110044" y="27816"/>
                  </a:lnTo>
                  <a:lnTo>
                    <a:pt x="157442" y="20283"/>
                  </a:lnTo>
                  <a:lnTo>
                    <a:pt x="173542" y="18602"/>
                  </a:lnTo>
                  <a:lnTo>
                    <a:pt x="189354" y="17482"/>
                  </a:lnTo>
                  <a:lnTo>
                    <a:pt x="204976" y="16734"/>
                  </a:lnTo>
                  <a:lnTo>
                    <a:pt x="221318" y="15390"/>
                  </a:lnTo>
                  <a:lnTo>
                    <a:pt x="255279" y="11638"/>
                  </a:lnTo>
                  <a:lnTo>
                    <a:pt x="271787" y="10298"/>
                  </a:lnTo>
                  <a:lnTo>
                    <a:pt x="287871" y="9405"/>
                  </a:lnTo>
                  <a:lnTo>
                    <a:pt x="303674" y="8811"/>
                  </a:lnTo>
                  <a:lnTo>
                    <a:pt x="319290" y="7567"/>
                  </a:lnTo>
                  <a:lnTo>
                    <a:pt x="334780" y="5891"/>
                  </a:lnTo>
                  <a:lnTo>
                    <a:pt x="350187" y="3928"/>
                  </a:lnTo>
                  <a:lnTo>
                    <a:pt x="365538" y="2619"/>
                  </a:lnTo>
                  <a:lnTo>
                    <a:pt x="380852" y="1746"/>
                  </a:lnTo>
                  <a:lnTo>
                    <a:pt x="408875" y="776"/>
                  </a:lnTo>
                  <a:lnTo>
                    <a:pt x="4572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MARTInkAnnotation105"/>
            <p:cNvSpPr/>
            <p:nvPr/>
          </p:nvSpPr>
          <p:spPr>
            <a:xfrm>
              <a:off x="6279120" y="3429720"/>
              <a:ext cx="220320" cy="20556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220493" h="205637">
                  <a:moveTo>
                    <a:pt x="0" y="37996"/>
                  </a:moveTo>
                  <a:lnTo>
                    <a:pt x="4046" y="37996"/>
                  </a:lnTo>
                  <a:lnTo>
                    <a:pt x="6083" y="37149"/>
                  </a:lnTo>
                  <a:lnTo>
                    <a:pt x="10606" y="33951"/>
                  </a:lnTo>
                  <a:lnTo>
                    <a:pt x="12997" y="32759"/>
                  </a:lnTo>
                  <a:lnTo>
                    <a:pt x="17913" y="31436"/>
                  </a:lnTo>
                  <a:lnTo>
                    <a:pt x="22102" y="30236"/>
                  </a:lnTo>
                  <a:lnTo>
                    <a:pt x="33529" y="26645"/>
                  </a:lnTo>
                  <a:lnTo>
                    <a:pt x="40980" y="25348"/>
                  </a:lnTo>
                  <a:lnTo>
                    <a:pt x="49333" y="24484"/>
                  </a:lnTo>
                  <a:lnTo>
                    <a:pt x="58289" y="23908"/>
                  </a:lnTo>
                  <a:lnTo>
                    <a:pt x="67647" y="22678"/>
                  </a:lnTo>
                  <a:lnTo>
                    <a:pt x="77271" y="21011"/>
                  </a:lnTo>
                  <a:lnTo>
                    <a:pt x="87074" y="19053"/>
                  </a:lnTo>
                  <a:lnTo>
                    <a:pt x="96149" y="16900"/>
                  </a:lnTo>
                  <a:lnTo>
                    <a:pt x="104740" y="14619"/>
                  </a:lnTo>
                  <a:lnTo>
                    <a:pt x="113007" y="12251"/>
                  </a:lnTo>
                  <a:lnTo>
                    <a:pt x="121058" y="10673"/>
                  </a:lnTo>
                  <a:lnTo>
                    <a:pt x="128966" y="9621"/>
                  </a:lnTo>
                  <a:lnTo>
                    <a:pt x="136777" y="8919"/>
                  </a:lnTo>
                  <a:lnTo>
                    <a:pt x="144525" y="7604"/>
                  </a:lnTo>
                  <a:lnTo>
                    <a:pt x="152230" y="5882"/>
                  </a:lnTo>
                  <a:lnTo>
                    <a:pt x="159906" y="3886"/>
                  </a:lnTo>
                  <a:lnTo>
                    <a:pt x="166718" y="2556"/>
                  </a:lnTo>
                  <a:lnTo>
                    <a:pt x="172952" y="1670"/>
                  </a:lnTo>
                  <a:lnTo>
                    <a:pt x="178802" y="1078"/>
                  </a:lnTo>
                  <a:lnTo>
                    <a:pt x="184394" y="684"/>
                  </a:lnTo>
                  <a:lnTo>
                    <a:pt x="189816" y="422"/>
                  </a:lnTo>
                  <a:lnTo>
                    <a:pt x="203279" y="51"/>
                  </a:lnTo>
                  <a:lnTo>
                    <a:pt x="206640" y="0"/>
                  </a:lnTo>
                  <a:lnTo>
                    <a:pt x="209727" y="812"/>
                  </a:lnTo>
                  <a:lnTo>
                    <a:pt x="215414" y="3972"/>
                  </a:lnTo>
                  <a:lnTo>
                    <a:pt x="220492" y="7205"/>
                  </a:lnTo>
                  <a:lnTo>
                    <a:pt x="218506" y="11893"/>
                  </a:lnTo>
                  <a:lnTo>
                    <a:pt x="216790" y="15514"/>
                  </a:lnTo>
                  <a:lnTo>
                    <a:pt x="212627" y="21795"/>
                  </a:lnTo>
                  <a:lnTo>
                    <a:pt x="210331" y="24655"/>
                  </a:lnTo>
                  <a:lnTo>
                    <a:pt x="207954" y="28256"/>
                  </a:lnTo>
                  <a:lnTo>
                    <a:pt x="205522" y="32349"/>
                  </a:lnTo>
                  <a:lnTo>
                    <a:pt x="203055" y="36772"/>
                  </a:lnTo>
                  <a:lnTo>
                    <a:pt x="199717" y="40566"/>
                  </a:lnTo>
                  <a:lnTo>
                    <a:pt x="195797" y="43943"/>
                  </a:lnTo>
                  <a:lnTo>
                    <a:pt x="191492" y="47041"/>
                  </a:lnTo>
                  <a:lnTo>
                    <a:pt x="186928" y="50799"/>
                  </a:lnTo>
                  <a:lnTo>
                    <a:pt x="182192" y="54998"/>
                  </a:lnTo>
                  <a:lnTo>
                    <a:pt x="177341" y="59491"/>
                  </a:lnTo>
                  <a:lnTo>
                    <a:pt x="172414" y="65026"/>
                  </a:lnTo>
                  <a:lnTo>
                    <a:pt x="167436" y="71256"/>
                  </a:lnTo>
                  <a:lnTo>
                    <a:pt x="162424" y="77949"/>
                  </a:lnTo>
                  <a:lnTo>
                    <a:pt x="157390" y="84105"/>
                  </a:lnTo>
                  <a:lnTo>
                    <a:pt x="152339" y="89902"/>
                  </a:lnTo>
                  <a:lnTo>
                    <a:pt x="147280" y="95460"/>
                  </a:lnTo>
                  <a:lnTo>
                    <a:pt x="137142" y="106151"/>
                  </a:lnTo>
                  <a:lnTo>
                    <a:pt x="132068" y="111373"/>
                  </a:lnTo>
                  <a:lnTo>
                    <a:pt x="127839" y="116547"/>
                  </a:lnTo>
                  <a:lnTo>
                    <a:pt x="124173" y="121690"/>
                  </a:lnTo>
                  <a:lnTo>
                    <a:pt x="108160" y="146156"/>
                  </a:lnTo>
                  <a:lnTo>
                    <a:pt x="103433" y="152436"/>
                  </a:lnTo>
                  <a:lnTo>
                    <a:pt x="98589" y="158316"/>
                  </a:lnTo>
                  <a:lnTo>
                    <a:pt x="93666" y="163930"/>
                  </a:lnTo>
                  <a:lnTo>
                    <a:pt x="89537" y="169365"/>
                  </a:lnTo>
                  <a:lnTo>
                    <a:pt x="85938" y="174682"/>
                  </a:lnTo>
                  <a:lnTo>
                    <a:pt x="82692" y="179920"/>
                  </a:lnTo>
                  <a:lnTo>
                    <a:pt x="79681" y="184259"/>
                  </a:lnTo>
                  <a:lnTo>
                    <a:pt x="76827" y="187998"/>
                  </a:lnTo>
                  <a:lnTo>
                    <a:pt x="70209" y="196037"/>
                  </a:lnTo>
                  <a:lnTo>
                    <a:pt x="65017" y="201475"/>
                  </a:lnTo>
                  <a:lnTo>
                    <a:pt x="60961" y="2056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SMARTInkAnnotation106"/>
            <p:cNvSpPr/>
            <p:nvPr/>
          </p:nvSpPr>
          <p:spPr>
            <a:xfrm>
              <a:off x="6340320" y="3528720"/>
              <a:ext cx="182880" cy="6480"/>
            </a:xfrm>
            <a:custGeom>
              <a:avLst/>
              <a:gdLst>
                <a:gd name="textAreaLeft" fmla="*/ 0 w 182880"/>
                <a:gd name="textAreaRight" fmla="*/ 182880 w 182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2880" h="6562">
                  <a:moveTo>
                    <a:pt x="0" y="0"/>
                  </a:moveTo>
                  <a:lnTo>
                    <a:pt x="47682" y="0"/>
                  </a:lnTo>
                  <a:lnTo>
                    <a:pt x="54648" y="847"/>
                  </a:lnTo>
                  <a:lnTo>
                    <a:pt x="61832" y="2257"/>
                  </a:lnTo>
                  <a:lnTo>
                    <a:pt x="69161" y="4045"/>
                  </a:lnTo>
                  <a:lnTo>
                    <a:pt x="77434" y="5237"/>
                  </a:lnTo>
                  <a:lnTo>
                    <a:pt x="86336" y="6031"/>
                  </a:lnTo>
                  <a:lnTo>
                    <a:pt x="95657" y="6561"/>
                  </a:lnTo>
                  <a:lnTo>
                    <a:pt x="105257" y="6067"/>
                  </a:lnTo>
                  <a:lnTo>
                    <a:pt x="115046" y="4891"/>
                  </a:lnTo>
                  <a:lnTo>
                    <a:pt x="124957" y="3261"/>
                  </a:lnTo>
                  <a:lnTo>
                    <a:pt x="134104" y="2174"/>
                  </a:lnTo>
                  <a:lnTo>
                    <a:pt x="142743" y="1450"/>
                  </a:lnTo>
                  <a:lnTo>
                    <a:pt x="158267" y="644"/>
                  </a:lnTo>
                  <a:lnTo>
                    <a:pt x="1828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SMARTInkAnnotation107"/>
            <p:cNvSpPr/>
            <p:nvPr/>
          </p:nvSpPr>
          <p:spPr>
            <a:xfrm>
              <a:off x="6713640" y="3254400"/>
              <a:ext cx="274320" cy="1980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274321" h="198121">
                  <a:moveTo>
                    <a:pt x="274320" y="0"/>
                  </a:moveTo>
                  <a:lnTo>
                    <a:pt x="274320" y="4045"/>
                  </a:lnTo>
                  <a:lnTo>
                    <a:pt x="273474" y="5237"/>
                  </a:lnTo>
                  <a:lnTo>
                    <a:pt x="272061" y="6031"/>
                  </a:lnTo>
                  <a:lnTo>
                    <a:pt x="270275" y="6561"/>
                  </a:lnTo>
                  <a:lnTo>
                    <a:pt x="269083" y="7761"/>
                  </a:lnTo>
                  <a:lnTo>
                    <a:pt x="268289" y="9407"/>
                  </a:lnTo>
                  <a:lnTo>
                    <a:pt x="267759" y="11351"/>
                  </a:lnTo>
                  <a:lnTo>
                    <a:pt x="264866" y="13494"/>
                  </a:lnTo>
                  <a:lnTo>
                    <a:pt x="260397" y="15769"/>
                  </a:lnTo>
                  <a:lnTo>
                    <a:pt x="254879" y="18133"/>
                  </a:lnTo>
                  <a:lnTo>
                    <a:pt x="249505" y="21402"/>
                  </a:lnTo>
                  <a:lnTo>
                    <a:pt x="244231" y="25275"/>
                  </a:lnTo>
                  <a:lnTo>
                    <a:pt x="239020" y="29550"/>
                  </a:lnTo>
                  <a:lnTo>
                    <a:pt x="233854" y="34093"/>
                  </a:lnTo>
                  <a:lnTo>
                    <a:pt x="228715" y="38815"/>
                  </a:lnTo>
                  <a:lnTo>
                    <a:pt x="223598" y="43657"/>
                  </a:lnTo>
                  <a:lnTo>
                    <a:pt x="217645" y="48578"/>
                  </a:lnTo>
                  <a:lnTo>
                    <a:pt x="211137" y="53552"/>
                  </a:lnTo>
                  <a:lnTo>
                    <a:pt x="178396" y="77747"/>
                  </a:lnTo>
                  <a:lnTo>
                    <a:pt x="169731" y="84851"/>
                  </a:lnTo>
                  <a:lnTo>
                    <a:pt x="161414" y="92127"/>
                  </a:lnTo>
                  <a:lnTo>
                    <a:pt x="153329" y="99518"/>
                  </a:lnTo>
                  <a:lnTo>
                    <a:pt x="144553" y="106985"/>
                  </a:lnTo>
                  <a:lnTo>
                    <a:pt x="125771" y="122056"/>
                  </a:lnTo>
                  <a:lnTo>
                    <a:pt x="116867" y="129631"/>
                  </a:lnTo>
                  <a:lnTo>
                    <a:pt x="108392" y="137220"/>
                  </a:lnTo>
                  <a:lnTo>
                    <a:pt x="100201" y="144820"/>
                  </a:lnTo>
                  <a:lnTo>
                    <a:pt x="91355" y="151580"/>
                  </a:lnTo>
                  <a:lnTo>
                    <a:pt x="82070" y="157780"/>
                  </a:lnTo>
                  <a:lnTo>
                    <a:pt x="72494" y="163607"/>
                  </a:lnTo>
                  <a:lnTo>
                    <a:pt x="64416" y="168338"/>
                  </a:lnTo>
                  <a:lnTo>
                    <a:pt x="50924" y="175853"/>
                  </a:lnTo>
                  <a:lnTo>
                    <a:pt x="33809" y="184843"/>
                  </a:lnTo>
                  <a:lnTo>
                    <a:pt x="18014" y="192869"/>
                  </a:lnTo>
                  <a:lnTo>
                    <a:pt x="9982" y="195786"/>
                  </a:lnTo>
                  <a:lnTo>
                    <a:pt x="0" y="198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MARTInkAnnotation108"/>
            <p:cNvSpPr/>
            <p:nvPr/>
          </p:nvSpPr>
          <p:spPr>
            <a:xfrm>
              <a:off x="6782040" y="3307680"/>
              <a:ext cx="220680" cy="121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20981" h="121921">
                  <a:moveTo>
                    <a:pt x="0" y="0"/>
                  </a:moveTo>
                  <a:lnTo>
                    <a:pt x="0" y="4045"/>
                  </a:lnTo>
                  <a:lnTo>
                    <a:pt x="846" y="6930"/>
                  </a:lnTo>
                  <a:lnTo>
                    <a:pt x="2258" y="10547"/>
                  </a:lnTo>
                  <a:lnTo>
                    <a:pt x="4045" y="14651"/>
                  </a:lnTo>
                  <a:lnTo>
                    <a:pt x="6083" y="18234"/>
                  </a:lnTo>
                  <a:lnTo>
                    <a:pt x="8289" y="21470"/>
                  </a:lnTo>
                  <a:lnTo>
                    <a:pt x="10606" y="24473"/>
                  </a:lnTo>
                  <a:lnTo>
                    <a:pt x="13844" y="27322"/>
                  </a:lnTo>
                  <a:lnTo>
                    <a:pt x="17696" y="30068"/>
                  </a:lnTo>
                  <a:lnTo>
                    <a:pt x="27338" y="36224"/>
                  </a:lnTo>
                  <a:lnTo>
                    <a:pt x="61550" y="58842"/>
                  </a:lnTo>
                  <a:lnTo>
                    <a:pt x="69820" y="63781"/>
                  </a:lnTo>
                  <a:lnTo>
                    <a:pt x="78720" y="68767"/>
                  </a:lnTo>
                  <a:lnTo>
                    <a:pt x="88040" y="73785"/>
                  </a:lnTo>
                  <a:lnTo>
                    <a:pt x="97640" y="77977"/>
                  </a:lnTo>
                  <a:lnTo>
                    <a:pt x="107427" y="81618"/>
                  </a:lnTo>
                  <a:lnTo>
                    <a:pt x="117338" y="84892"/>
                  </a:lnTo>
                  <a:lnTo>
                    <a:pt x="127332" y="88768"/>
                  </a:lnTo>
                  <a:lnTo>
                    <a:pt x="137382" y="93045"/>
                  </a:lnTo>
                  <a:lnTo>
                    <a:pt x="147468" y="97590"/>
                  </a:lnTo>
                  <a:lnTo>
                    <a:pt x="169964" y="107155"/>
                  </a:lnTo>
                  <a:lnTo>
                    <a:pt x="181890" y="112077"/>
                  </a:lnTo>
                  <a:lnTo>
                    <a:pt x="191532" y="115358"/>
                  </a:lnTo>
                  <a:lnTo>
                    <a:pt x="199656" y="117545"/>
                  </a:lnTo>
                  <a:lnTo>
                    <a:pt x="2209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MARTInkAnnotation109"/>
            <p:cNvSpPr/>
            <p:nvPr/>
          </p:nvSpPr>
          <p:spPr>
            <a:xfrm>
              <a:off x="7278480" y="3284640"/>
              <a:ext cx="96840" cy="5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7083" h="57627">
                  <a:moveTo>
                    <a:pt x="82994" y="38060"/>
                  </a:moveTo>
                  <a:lnTo>
                    <a:pt x="89556" y="38060"/>
                  </a:lnTo>
                  <a:lnTo>
                    <a:pt x="90754" y="38907"/>
                  </a:lnTo>
                  <a:lnTo>
                    <a:pt x="92401" y="40318"/>
                  </a:lnTo>
                  <a:lnTo>
                    <a:pt x="97082" y="44621"/>
                  </a:lnTo>
                  <a:lnTo>
                    <a:pt x="96619" y="44974"/>
                  </a:lnTo>
                  <a:lnTo>
                    <a:pt x="93847" y="45367"/>
                  </a:lnTo>
                  <a:lnTo>
                    <a:pt x="91923" y="46318"/>
                  </a:lnTo>
                  <a:lnTo>
                    <a:pt x="89793" y="47798"/>
                  </a:lnTo>
                  <a:lnTo>
                    <a:pt x="87527" y="49632"/>
                  </a:lnTo>
                  <a:lnTo>
                    <a:pt x="85169" y="50855"/>
                  </a:lnTo>
                  <a:lnTo>
                    <a:pt x="82752" y="51670"/>
                  </a:lnTo>
                  <a:lnTo>
                    <a:pt x="80292" y="52213"/>
                  </a:lnTo>
                  <a:lnTo>
                    <a:pt x="76959" y="52575"/>
                  </a:lnTo>
                  <a:lnTo>
                    <a:pt x="73044" y="52817"/>
                  </a:lnTo>
                  <a:lnTo>
                    <a:pt x="68741" y="52978"/>
                  </a:lnTo>
                  <a:lnTo>
                    <a:pt x="64179" y="53932"/>
                  </a:lnTo>
                  <a:lnTo>
                    <a:pt x="59444" y="55415"/>
                  </a:lnTo>
                  <a:lnTo>
                    <a:pt x="54594" y="57250"/>
                  </a:lnTo>
                  <a:lnTo>
                    <a:pt x="48821" y="57626"/>
                  </a:lnTo>
                  <a:lnTo>
                    <a:pt x="42432" y="57031"/>
                  </a:lnTo>
                  <a:lnTo>
                    <a:pt x="35632" y="55787"/>
                  </a:lnTo>
                  <a:lnTo>
                    <a:pt x="30253" y="54958"/>
                  </a:lnTo>
                  <a:lnTo>
                    <a:pt x="25820" y="54406"/>
                  </a:lnTo>
                  <a:lnTo>
                    <a:pt x="22018" y="54037"/>
                  </a:lnTo>
                  <a:lnTo>
                    <a:pt x="17790" y="52945"/>
                  </a:lnTo>
                  <a:lnTo>
                    <a:pt x="13279" y="51370"/>
                  </a:lnTo>
                  <a:lnTo>
                    <a:pt x="1960" y="46804"/>
                  </a:lnTo>
                  <a:lnTo>
                    <a:pt x="1032" y="45583"/>
                  </a:lnTo>
                  <a:lnTo>
                    <a:pt x="413" y="43922"/>
                  </a:lnTo>
                  <a:lnTo>
                    <a:pt x="0" y="41968"/>
                  </a:lnTo>
                  <a:lnTo>
                    <a:pt x="572" y="38972"/>
                  </a:lnTo>
                  <a:lnTo>
                    <a:pt x="1799" y="35281"/>
                  </a:lnTo>
                  <a:lnTo>
                    <a:pt x="3464" y="31128"/>
                  </a:lnTo>
                  <a:lnTo>
                    <a:pt x="5420" y="27512"/>
                  </a:lnTo>
                  <a:lnTo>
                    <a:pt x="7572" y="24254"/>
                  </a:lnTo>
                  <a:lnTo>
                    <a:pt x="9852" y="21236"/>
                  </a:lnTo>
                  <a:lnTo>
                    <a:pt x="13066" y="18378"/>
                  </a:lnTo>
                  <a:lnTo>
                    <a:pt x="16902" y="15625"/>
                  </a:lnTo>
                  <a:lnTo>
                    <a:pt x="21153" y="12943"/>
                  </a:lnTo>
                  <a:lnTo>
                    <a:pt x="25679" y="10309"/>
                  </a:lnTo>
                  <a:lnTo>
                    <a:pt x="35226" y="5124"/>
                  </a:lnTo>
                  <a:lnTo>
                    <a:pt x="40142" y="3403"/>
                  </a:lnTo>
                  <a:lnTo>
                    <a:pt x="45113" y="2255"/>
                  </a:lnTo>
                  <a:lnTo>
                    <a:pt x="50120" y="1490"/>
                  </a:lnTo>
                  <a:lnTo>
                    <a:pt x="55151" y="980"/>
                  </a:lnTo>
                  <a:lnTo>
                    <a:pt x="60198" y="640"/>
                  </a:lnTo>
                  <a:lnTo>
                    <a:pt x="69476" y="262"/>
                  </a:lnTo>
                  <a:lnTo>
                    <a:pt x="79460" y="50"/>
                  </a:lnTo>
                  <a:lnTo>
                    <a:pt x="85092" y="0"/>
                  </a:lnTo>
                  <a:lnTo>
                    <a:pt x="87779" y="833"/>
                  </a:lnTo>
                  <a:lnTo>
                    <a:pt x="90417" y="2236"/>
                  </a:lnTo>
                  <a:lnTo>
                    <a:pt x="93023" y="4017"/>
                  </a:lnTo>
                  <a:lnTo>
                    <a:pt x="93914" y="5204"/>
                  </a:lnTo>
                  <a:lnTo>
                    <a:pt x="93660" y="5997"/>
                  </a:lnTo>
                  <a:lnTo>
                    <a:pt x="92645" y="6524"/>
                  </a:lnTo>
                  <a:lnTo>
                    <a:pt x="91968" y="7723"/>
                  </a:lnTo>
                  <a:lnTo>
                    <a:pt x="91517" y="9369"/>
                  </a:lnTo>
                  <a:lnTo>
                    <a:pt x="91216" y="11312"/>
                  </a:lnTo>
                  <a:lnTo>
                    <a:pt x="89322" y="13455"/>
                  </a:lnTo>
                  <a:lnTo>
                    <a:pt x="86366" y="15730"/>
                  </a:lnTo>
                  <a:lnTo>
                    <a:pt x="82702" y="18093"/>
                  </a:lnTo>
                  <a:lnTo>
                    <a:pt x="79413" y="19669"/>
                  </a:lnTo>
                  <a:lnTo>
                    <a:pt x="76373" y="20719"/>
                  </a:lnTo>
                  <a:lnTo>
                    <a:pt x="73500" y="21419"/>
                  </a:lnTo>
                  <a:lnTo>
                    <a:pt x="70739" y="22733"/>
                  </a:lnTo>
                  <a:lnTo>
                    <a:pt x="68050" y="24455"/>
                  </a:lnTo>
                  <a:lnTo>
                    <a:pt x="65411" y="26450"/>
                  </a:lnTo>
                  <a:lnTo>
                    <a:pt x="61959" y="28627"/>
                  </a:lnTo>
                  <a:lnTo>
                    <a:pt x="57964" y="30924"/>
                  </a:lnTo>
                  <a:lnTo>
                    <a:pt x="53607" y="33303"/>
                  </a:lnTo>
                  <a:lnTo>
                    <a:pt x="49857" y="34889"/>
                  </a:lnTo>
                  <a:lnTo>
                    <a:pt x="46509" y="35946"/>
                  </a:lnTo>
                  <a:lnTo>
                    <a:pt x="43431" y="36651"/>
                  </a:lnTo>
                  <a:lnTo>
                    <a:pt x="39685" y="37121"/>
                  </a:lnTo>
                  <a:lnTo>
                    <a:pt x="35495" y="37434"/>
                  </a:lnTo>
                  <a:lnTo>
                    <a:pt x="27170" y="37781"/>
                  </a:lnTo>
                  <a:lnTo>
                    <a:pt x="17724" y="37978"/>
                  </a:lnTo>
                  <a:lnTo>
                    <a:pt x="8401" y="38049"/>
                  </a:lnTo>
                  <a:lnTo>
                    <a:pt x="7865" y="37206"/>
                  </a:lnTo>
                  <a:lnTo>
                    <a:pt x="7508" y="35797"/>
                  </a:lnTo>
                  <a:lnTo>
                    <a:pt x="7270" y="34011"/>
                  </a:lnTo>
                  <a:lnTo>
                    <a:pt x="7958" y="32821"/>
                  </a:lnTo>
                  <a:lnTo>
                    <a:pt x="9263" y="32028"/>
                  </a:lnTo>
                  <a:lnTo>
                    <a:pt x="10980" y="31498"/>
                  </a:lnTo>
                  <a:lnTo>
                    <a:pt x="12972" y="30299"/>
                  </a:lnTo>
                  <a:lnTo>
                    <a:pt x="15147" y="28653"/>
                  </a:lnTo>
                  <a:lnTo>
                    <a:pt x="17442" y="26708"/>
                  </a:lnTo>
                  <a:lnTo>
                    <a:pt x="21512" y="25412"/>
                  </a:lnTo>
                  <a:lnTo>
                    <a:pt x="26767" y="24548"/>
                  </a:lnTo>
                  <a:lnTo>
                    <a:pt x="32809" y="23973"/>
                  </a:lnTo>
                  <a:lnTo>
                    <a:pt x="37685" y="22742"/>
                  </a:lnTo>
                  <a:lnTo>
                    <a:pt x="41781" y="21074"/>
                  </a:lnTo>
                  <a:lnTo>
                    <a:pt x="45360" y="19116"/>
                  </a:lnTo>
                  <a:lnTo>
                    <a:pt x="49438" y="17811"/>
                  </a:lnTo>
                  <a:lnTo>
                    <a:pt x="53850" y="16940"/>
                  </a:lnTo>
                  <a:lnTo>
                    <a:pt x="58484" y="16361"/>
                  </a:lnTo>
                  <a:lnTo>
                    <a:pt x="62421" y="15973"/>
                  </a:lnTo>
                  <a:lnTo>
                    <a:pt x="65892" y="15716"/>
                  </a:lnTo>
                  <a:lnTo>
                    <a:pt x="69053" y="15544"/>
                  </a:lnTo>
                  <a:lnTo>
                    <a:pt x="77080" y="15353"/>
                  </a:lnTo>
                  <a:lnTo>
                    <a:pt x="94477" y="15206"/>
                  </a:lnTo>
                  <a:lnTo>
                    <a:pt x="92895" y="15203"/>
                  </a:lnTo>
                  <a:lnTo>
                    <a:pt x="92135" y="16048"/>
                  </a:lnTo>
                  <a:lnTo>
                    <a:pt x="91628" y="17459"/>
                  </a:lnTo>
                  <a:lnTo>
                    <a:pt x="91291" y="19246"/>
                  </a:lnTo>
                  <a:lnTo>
                    <a:pt x="90218" y="20438"/>
                  </a:lnTo>
                  <a:lnTo>
                    <a:pt x="88657" y="21231"/>
                  </a:lnTo>
                  <a:lnTo>
                    <a:pt x="86770" y="21761"/>
                  </a:lnTo>
                  <a:lnTo>
                    <a:pt x="84665" y="22961"/>
                  </a:lnTo>
                  <a:lnTo>
                    <a:pt x="82415" y="24607"/>
                  </a:lnTo>
                  <a:lnTo>
                    <a:pt x="80068" y="26551"/>
                  </a:lnTo>
                  <a:lnTo>
                    <a:pt x="77657" y="28694"/>
                  </a:lnTo>
                  <a:lnTo>
                    <a:pt x="72720" y="33333"/>
                  </a:lnTo>
                  <a:lnTo>
                    <a:pt x="70218" y="34909"/>
                  </a:lnTo>
                  <a:lnTo>
                    <a:pt x="67703" y="35959"/>
                  </a:lnTo>
                  <a:lnTo>
                    <a:pt x="65181" y="36659"/>
                  </a:lnTo>
                  <a:lnTo>
                    <a:pt x="63498" y="37973"/>
                  </a:lnTo>
                  <a:lnTo>
                    <a:pt x="62377" y="39695"/>
                  </a:lnTo>
                  <a:lnTo>
                    <a:pt x="60135" y="456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MARTInkAnnotation110"/>
            <p:cNvSpPr/>
            <p:nvPr/>
          </p:nvSpPr>
          <p:spPr>
            <a:xfrm>
              <a:off x="7574760" y="3033360"/>
              <a:ext cx="241920" cy="2325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42181" h="232723">
                  <a:moveTo>
                    <a:pt x="0" y="37996"/>
                  </a:moveTo>
                  <a:lnTo>
                    <a:pt x="8090" y="37996"/>
                  </a:lnTo>
                  <a:lnTo>
                    <a:pt x="11321" y="37149"/>
                  </a:lnTo>
                  <a:lnTo>
                    <a:pt x="17167" y="33951"/>
                  </a:lnTo>
                  <a:lnTo>
                    <a:pt x="21604" y="32759"/>
                  </a:lnTo>
                  <a:lnTo>
                    <a:pt x="27103" y="31965"/>
                  </a:lnTo>
                  <a:lnTo>
                    <a:pt x="33309" y="31435"/>
                  </a:lnTo>
                  <a:lnTo>
                    <a:pt x="39985" y="31082"/>
                  </a:lnTo>
                  <a:lnTo>
                    <a:pt x="54178" y="30690"/>
                  </a:lnTo>
                  <a:lnTo>
                    <a:pt x="63212" y="29739"/>
                  </a:lnTo>
                  <a:lnTo>
                    <a:pt x="73468" y="28258"/>
                  </a:lnTo>
                  <a:lnTo>
                    <a:pt x="84539" y="26424"/>
                  </a:lnTo>
                  <a:lnTo>
                    <a:pt x="95306" y="24354"/>
                  </a:lnTo>
                  <a:lnTo>
                    <a:pt x="116301" y="19798"/>
                  </a:lnTo>
                  <a:lnTo>
                    <a:pt x="147160" y="12472"/>
                  </a:lnTo>
                  <a:lnTo>
                    <a:pt x="157374" y="10820"/>
                  </a:lnTo>
                  <a:lnTo>
                    <a:pt x="167569" y="9719"/>
                  </a:lnTo>
                  <a:lnTo>
                    <a:pt x="177753" y="8985"/>
                  </a:lnTo>
                  <a:lnTo>
                    <a:pt x="186235" y="7648"/>
                  </a:lnTo>
                  <a:lnTo>
                    <a:pt x="193584" y="5911"/>
                  </a:lnTo>
                  <a:lnTo>
                    <a:pt x="200176" y="3906"/>
                  </a:lnTo>
                  <a:lnTo>
                    <a:pt x="206264" y="2570"/>
                  </a:lnTo>
                  <a:lnTo>
                    <a:pt x="212016" y="1678"/>
                  </a:lnTo>
                  <a:lnTo>
                    <a:pt x="217544" y="1084"/>
                  </a:lnTo>
                  <a:lnTo>
                    <a:pt x="222076" y="688"/>
                  </a:lnTo>
                  <a:lnTo>
                    <a:pt x="229369" y="248"/>
                  </a:lnTo>
                  <a:lnTo>
                    <a:pt x="235433" y="53"/>
                  </a:lnTo>
                  <a:lnTo>
                    <a:pt x="238236" y="0"/>
                  </a:lnTo>
                  <a:lnTo>
                    <a:pt x="240103" y="812"/>
                  </a:lnTo>
                  <a:lnTo>
                    <a:pt x="241349" y="2200"/>
                  </a:lnTo>
                  <a:lnTo>
                    <a:pt x="242180" y="3972"/>
                  </a:lnTo>
                  <a:lnTo>
                    <a:pt x="241886" y="6000"/>
                  </a:lnTo>
                  <a:lnTo>
                    <a:pt x="238276" y="12899"/>
                  </a:lnTo>
                  <a:lnTo>
                    <a:pt x="237134" y="17811"/>
                  </a:lnTo>
                  <a:lnTo>
                    <a:pt x="232111" y="25074"/>
                  </a:lnTo>
                  <a:lnTo>
                    <a:pt x="228400" y="29381"/>
                  </a:lnTo>
                  <a:lnTo>
                    <a:pt x="225080" y="34793"/>
                  </a:lnTo>
                  <a:lnTo>
                    <a:pt x="222020" y="40940"/>
                  </a:lnTo>
                  <a:lnTo>
                    <a:pt x="219134" y="47579"/>
                  </a:lnTo>
                  <a:lnTo>
                    <a:pt x="215516" y="53698"/>
                  </a:lnTo>
                  <a:lnTo>
                    <a:pt x="211411" y="59471"/>
                  </a:lnTo>
                  <a:lnTo>
                    <a:pt x="206980" y="65012"/>
                  </a:lnTo>
                  <a:lnTo>
                    <a:pt x="203180" y="71247"/>
                  </a:lnTo>
                  <a:lnTo>
                    <a:pt x="199801" y="77944"/>
                  </a:lnTo>
                  <a:lnTo>
                    <a:pt x="196700" y="84948"/>
                  </a:lnTo>
                  <a:lnTo>
                    <a:pt x="192940" y="92157"/>
                  </a:lnTo>
                  <a:lnTo>
                    <a:pt x="188740" y="99504"/>
                  </a:lnTo>
                  <a:lnTo>
                    <a:pt x="184246" y="106941"/>
                  </a:lnTo>
                  <a:lnTo>
                    <a:pt x="174738" y="121979"/>
                  </a:lnTo>
                  <a:lnTo>
                    <a:pt x="169833" y="129544"/>
                  </a:lnTo>
                  <a:lnTo>
                    <a:pt x="165715" y="137128"/>
                  </a:lnTo>
                  <a:lnTo>
                    <a:pt x="162123" y="144724"/>
                  </a:lnTo>
                  <a:lnTo>
                    <a:pt x="158883" y="152328"/>
                  </a:lnTo>
                  <a:lnTo>
                    <a:pt x="155028" y="159091"/>
                  </a:lnTo>
                  <a:lnTo>
                    <a:pt x="150766" y="165293"/>
                  </a:lnTo>
                  <a:lnTo>
                    <a:pt x="146230" y="171120"/>
                  </a:lnTo>
                  <a:lnTo>
                    <a:pt x="143207" y="177546"/>
                  </a:lnTo>
                  <a:lnTo>
                    <a:pt x="141192" y="184369"/>
                  </a:lnTo>
                  <a:lnTo>
                    <a:pt x="139848" y="191458"/>
                  </a:lnTo>
                  <a:lnTo>
                    <a:pt x="138952" y="197031"/>
                  </a:lnTo>
                  <a:lnTo>
                    <a:pt x="138355" y="201593"/>
                  </a:lnTo>
                  <a:lnTo>
                    <a:pt x="137956" y="205480"/>
                  </a:lnTo>
                  <a:lnTo>
                    <a:pt x="136845" y="209766"/>
                  </a:lnTo>
                  <a:lnTo>
                    <a:pt x="135256" y="214316"/>
                  </a:lnTo>
                  <a:lnTo>
                    <a:pt x="133351" y="219043"/>
                  </a:lnTo>
                  <a:lnTo>
                    <a:pt x="131234" y="222194"/>
                  </a:lnTo>
                  <a:lnTo>
                    <a:pt x="128976" y="224295"/>
                  </a:lnTo>
                  <a:lnTo>
                    <a:pt x="123314" y="227666"/>
                  </a:lnTo>
                  <a:lnTo>
                    <a:pt x="122849" y="228790"/>
                  </a:lnTo>
                  <a:lnTo>
                    <a:pt x="122195" y="232722"/>
                  </a:lnTo>
                  <a:lnTo>
                    <a:pt x="121920" y="2284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MARTInkAnnotation111"/>
            <p:cNvSpPr/>
            <p:nvPr/>
          </p:nvSpPr>
          <p:spPr>
            <a:xfrm>
              <a:off x="7673760" y="3162600"/>
              <a:ext cx="152280" cy="151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2401" h="15241">
                  <a:moveTo>
                    <a:pt x="0" y="15240"/>
                  </a:moveTo>
                  <a:lnTo>
                    <a:pt x="0" y="7934"/>
                  </a:lnTo>
                  <a:lnTo>
                    <a:pt x="4046" y="7713"/>
                  </a:lnTo>
                  <a:lnTo>
                    <a:pt x="69077" y="7621"/>
                  </a:lnTo>
                  <a:lnTo>
                    <a:pt x="76531" y="6774"/>
                  </a:lnTo>
                  <a:lnTo>
                    <a:pt x="84042" y="5363"/>
                  </a:lnTo>
                  <a:lnTo>
                    <a:pt x="91588" y="3575"/>
                  </a:lnTo>
                  <a:lnTo>
                    <a:pt x="98311" y="2383"/>
                  </a:lnTo>
                  <a:lnTo>
                    <a:pt x="104488" y="1589"/>
                  </a:lnTo>
                  <a:lnTo>
                    <a:pt x="110299" y="1059"/>
                  </a:lnTo>
                  <a:lnTo>
                    <a:pt x="116712" y="706"/>
                  </a:lnTo>
                  <a:lnTo>
                    <a:pt x="130613" y="314"/>
                  </a:lnTo>
                  <a:lnTo>
                    <a:pt x="1524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MARTInkAnnotation112"/>
            <p:cNvSpPr/>
            <p:nvPr/>
          </p:nvSpPr>
          <p:spPr>
            <a:xfrm>
              <a:off x="7620480" y="3345840"/>
              <a:ext cx="327600" cy="756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27661" h="7621">
                  <a:moveTo>
                    <a:pt x="0" y="7620"/>
                  </a:moveTo>
                  <a:lnTo>
                    <a:pt x="21957" y="7620"/>
                  </a:lnTo>
                  <a:lnTo>
                    <a:pt x="27338" y="6773"/>
                  </a:lnTo>
                  <a:lnTo>
                    <a:pt x="33466" y="5362"/>
                  </a:lnTo>
                  <a:lnTo>
                    <a:pt x="40091" y="3575"/>
                  </a:lnTo>
                  <a:lnTo>
                    <a:pt x="47894" y="2383"/>
                  </a:lnTo>
                  <a:lnTo>
                    <a:pt x="56483" y="1589"/>
                  </a:lnTo>
                  <a:lnTo>
                    <a:pt x="65595" y="1060"/>
                  </a:lnTo>
                  <a:lnTo>
                    <a:pt x="87009" y="471"/>
                  </a:lnTo>
                  <a:lnTo>
                    <a:pt x="312770" y="0"/>
                  </a:lnTo>
                  <a:lnTo>
                    <a:pt x="316040" y="847"/>
                  </a:lnTo>
                  <a:lnTo>
                    <a:pt x="319067" y="2258"/>
                  </a:lnTo>
                  <a:lnTo>
                    <a:pt x="327660" y="76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MARTInkAnnotation113"/>
            <p:cNvSpPr/>
            <p:nvPr/>
          </p:nvSpPr>
          <p:spPr>
            <a:xfrm>
              <a:off x="7674480" y="3421800"/>
              <a:ext cx="195840" cy="19368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95999" h="193862">
                  <a:moveTo>
                    <a:pt x="60512" y="0"/>
                  </a:moveTo>
                  <a:lnTo>
                    <a:pt x="67074" y="0"/>
                  </a:lnTo>
                  <a:lnTo>
                    <a:pt x="67426" y="847"/>
                  </a:lnTo>
                  <a:lnTo>
                    <a:pt x="67819" y="4045"/>
                  </a:lnTo>
                  <a:lnTo>
                    <a:pt x="68769" y="5237"/>
                  </a:lnTo>
                  <a:lnTo>
                    <a:pt x="70250" y="6031"/>
                  </a:lnTo>
                  <a:lnTo>
                    <a:pt x="74665" y="7306"/>
                  </a:lnTo>
                  <a:lnTo>
                    <a:pt x="75027" y="8257"/>
                  </a:lnTo>
                  <a:lnTo>
                    <a:pt x="75430" y="11572"/>
                  </a:lnTo>
                  <a:lnTo>
                    <a:pt x="74691" y="13641"/>
                  </a:lnTo>
                  <a:lnTo>
                    <a:pt x="71611" y="18198"/>
                  </a:lnTo>
                  <a:lnTo>
                    <a:pt x="69678" y="23046"/>
                  </a:lnTo>
                  <a:lnTo>
                    <a:pt x="69163" y="25524"/>
                  </a:lnTo>
                  <a:lnTo>
                    <a:pt x="67126" y="28869"/>
                  </a:lnTo>
                  <a:lnTo>
                    <a:pt x="64075" y="32793"/>
                  </a:lnTo>
                  <a:lnTo>
                    <a:pt x="60348" y="37102"/>
                  </a:lnTo>
                  <a:lnTo>
                    <a:pt x="57015" y="41668"/>
                  </a:lnTo>
                  <a:lnTo>
                    <a:pt x="53948" y="46406"/>
                  </a:lnTo>
                  <a:lnTo>
                    <a:pt x="51056" y="51257"/>
                  </a:lnTo>
                  <a:lnTo>
                    <a:pt x="47435" y="55338"/>
                  </a:lnTo>
                  <a:lnTo>
                    <a:pt x="43327" y="58905"/>
                  </a:lnTo>
                  <a:lnTo>
                    <a:pt x="38895" y="62130"/>
                  </a:lnTo>
                  <a:lnTo>
                    <a:pt x="35094" y="65973"/>
                  </a:lnTo>
                  <a:lnTo>
                    <a:pt x="31714" y="70229"/>
                  </a:lnTo>
                  <a:lnTo>
                    <a:pt x="28613" y="74760"/>
                  </a:lnTo>
                  <a:lnTo>
                    <a:pt x="25699" y="78627"/>
                  </a:lnTo>
                  <a:lnTo>
                    <a:pt x="22910" y="82051"/>
                  </a:lnTo>
                  <a:lnTo>
                    <a:pt x="20204" y="85180"/>
                  </a:lnTo>
                  <a:lnTo>
                    <a:pt x="14940" y="90916"/>
                  </a:lnTo>
                  <a:lnTo>
                    <a:pt x="12351" y="93631"/>
                  </a:lnTo>
                  <a:lnTo>
                    <a:pt x="9777" y="95440"/>
                  </a:lnTo>
                  <a:lnTo>
                    <a:pt x="4661" y="97451"/>
                  </a:lnTo>
                  <a:lnTo>
                    <a:pt x="2958" y="98834"/>
                  </a:lnTo>
                  <a:lnTo>
                    <a:pt x="1823" y="100603"/>
                  </a:lnTo>
                  <a:lnTo>
                    <a:pt x="0" y="105479"/>
                  </a:lnTo>
                  <a:lnTo>
                    <a:pt x="698" y="105033"/>
                  </a:lnTo>
                  <a:lnTo>
                    <a:pt x="3730" y="102279"/>
                  </a:lnTo>
                  <a:lnTo>
                    <a:pt x="5724" y="101206"/>
                  </a:lnTo>
                  <a:lnTo>
                    <a:pt x="10198" y="100014"/>
                  </a:lnTo>
                  <a:lnTo>
                    <a:pt x="12575" y="98002"/>
                  </a:lnTo>
                  <a:lnTo>
                    <a:pt x="15008" y="94968"/>
                  </a:lnTo>
                  <a:lnTo>
                    <a:pt x="17476" y="91252"/>
                  </a:lnTo>
                  <a:lnTo>
                    <a:pt x="20815" y="87928"/>
                  </a:lnTo>
                  <a:lnTo>
                    <a:pt x="24734" y="84866"/>
                  </a:lnTo>
                  <a:lnTo>
                    <a:pt x="29040" y="81977"/>
                  </a:lnTo>
                  <a:lnTo>
                    <a:pt x="34450" y="79205"/>
                  </a:lnTo>
                  <a:lnTo>
                    <a:pt x="40598" y="76510"/>
                  </a:lnTo>
                  <a:lnTo>
                    <a:pt x="47235" y="73867"/>
                  </a:lnTo>
                  <a:lnTo>
                    <a:pt x="61386" y="68672"/>
                  </a:lnTo>
                  <a:lnTo>
                    <a:pt x="68715" y="66101"/>
                  </a:lnTo>
                  <a:lnTo>
                    <a:pt x="76140" y="64387"/>
                  </a:lnTo>
                  <a:lnTo>
                    <a:pt x="83631" y="63245"/>
                  </a:lnTo>
                  <a:lnTo>
                    <a:pt x="91164" y="62484"/>
                  </a:lnTo>
                  <a:lnTo>
                    <a:pt x="97880" y="61976"/>
                  </a:lnTo>
                  <a:lnTo>
                    <a:pt x="104050" y="61637"/>
                  </a:lnTo>
                  <a:lnTo>
                    <a:pt x="109858" y="61412"/>
                  </a:lnTo>
                  <a:lnTo>
                    <a:pt x="130167" y="61093"/>
                  </a:lnTo>
                  <a:lnTo>
                    <a:pt x="137428" y="61896"/>
                  </a:lnTo>
                  <a:lnTo>
                    <a:pt x="144809" y="63277"/>
                  </a:lnTo>
                  <a:lnTo>
                    <a:pt x="152270" y="65045"/>
                  </a:lnTo>
                  <a:lnTo>
                    <a:pt x="158938" y="67916"/>
                  </a:lnTo>
                  <a:lnTo>
                    <a:pt x="165075" y="71524"/>
                  </a:lnTo>
                  <a:lnTo>
                    <a:pt x="170860" y="75623"/>
                  </a:lnTo>
                  <a:lnTo>
                    <a:pt x="175565" y="79202"/>
                  </a:lnTo>
                  <a:lnTo>
                    <a:pt x="179547" y="82435"/>
                  </a:lnTo>
                  <a:lnTo>
                    <a:pt x="183049" y="85436"/>
                  </a:lnTo>
                  <a:lnTo>
                    <a:pt x="186230" y="89131"/>
                  </a:lnTo>
                  <a:lnTo>
                    <a:pt x="189197" y="93287"/>
                  </a:lnTo>
                  <a:lnTo>
                    <a:pt x="192022" y="97751"/>
                  </a:lnTo>
                  <a:lnTo>
                    <a:pt x="193905" y="102421"/>
                  </a:lnTo>
                  <a:lnTo>
                    <a:pt x="195160" y="107227"/>
                  </a:lnTo>
                  <a:lnTo>
                    <a:pt x="195998" y="112125"/>
                  </a:lnTo>
                  <a:lnTo>
                    <a:pt x="195709" y="117083"/>
                  </a:lnTo>
                  <a:lnTo>
                    <a:pt x="194670" y="122082"/>
                  </a:lnTo>
                  <a:lnTo>
                    <a:pt x="193131" y="127108"/>
                  </a:lnTo>
                  <a:lnTo>
                    <a:pt x="191258" y="132152"/>
                  </a:lnTo>
                  <a:lnTo>
                    <a:pt x="189163" y="137208"/>
                  </a:lnTo>
                  <a:lnTo>
                    <a:pt x="186919" y="142272"/>
                  </a:lnTo>
                  <a:lnTo>
                    <a:pt x="183729" y="147341"/>
                  </a:lnTo>
                  <a:lnTo>
                    <a:pt x="179911" y="152414"/>
                  </a:lnTo>
                  <a:lnTo>
                    <a:pt x="175672" y="157490"/>
                  </a:lnTo>
                  <a:lnTo>
                    <a:pt x="171152" y="161720"/>
                  </a:lnTo>
                  <a:lnTo>
                    <a:pt x="166445" y="165387"/>
                  </a:lnTo>
                  <a:lnTo>
                    <a:pt x="161614" y="168678"/>
                  </a:lnTo>
                  <a:lnTo>
                    <a:pt x="156701" y="171719"/>
                  </a:lnTo>
                  <a:lnTo>
                    <a:pt x="151730" y="174592"/>
                  </a:lnTo>
                  <a:lnTo>
                    <a:pt x="141693" y="180043"/>
                  </a:lnTo>
                  <a:lnTo>
                    <a:pt x="121453" y="190441"/>
                  </a:lnTo>
                  <a:lnTo>
                    <a:pt x="116379" y="193001"/>
                  </a:lnTo>
                  <a:lnTo>
                    <a:pt x="111303" y="193861"/>
                  </a:lnTo>
                  <a:lnTo>
                    <a:pt x="106226" y="193587"/>
                  </a:lnTo>
                  <a:lnTo>
                    <a:pt x="101148" y="192558"/>
                  </a:lnTo>
                  <a:lnTo>
                    <a:pt x="96070" y="191025"/>
                  </a:lnTo>
                  <a:lnTo>
                    <a:pt x="90990" y="189157"/>
                  </a:lnTo>
                  <a:lnTo>
                    <a:pt x="85910" y="187064"/>
                  </a:lnTo>
                  <a:lnTo>
                    <a:pt x="81678" y="185670"/>
                  </a:lnTo>
                  <a:lnTo>
                    <a:pt x="78009" y="184740"/>
                  </a:lnTo>
                  <a:lnTo>
                    <a:pt x="68132" y="1828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MARTInkAnnotation114"/>
            <p:cNvSpPr/>
            <p:nvPr/>
          </p:nvSpPr>
          <p:spPr>
            <a:xfrm>
              <a:off x="7864560" y="3415320"/>
              <a:ext cx="152280" cy="14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52401" h="14182">
                  <a:moveTo>
                    <a:pt x="0" y="6561"/>
                  </a:moveTo>
                  <a:lnTo>
                    <a:pt x="7528" y="6561"/>
                  </a:lnTo>
                  <a:lnTo>
                    <a:pt x="11637" y="2516"/>
                  </a:lnTo>
                  <a:lnTo>
                    <a:pt x="14533" y="1324"/>
                  </a:lnTo>
                  <a:lnTo>
                    <a:pt x="18155" y="530"/>
                  </a:lnTo>
                  <a:lnTo>
                    <a:pt x="22264" y="0"/>
                  </a:lnTo>
                  <a:lnTo>
                    <a:pt x="26696" y="493"/>
                  </a:lnTo>
                  <a:lnTo>
                    <a:pt x="31343" y="1670"/>
                  </a:lnTo>
                  <a:lnTo>
                    <a:pt x="36136" y="3300"/>
                  </a:lnTo>
                  <a:lnTo>
                    <a:pt x="41870" y="4387"/>
                  </a:lnTo>
                  <a:lnTo>
                    <a:pt x="48234" y="5111"/>
                  </a:lnTo>
                  <a:lnTo>
                    <a:pt x="55015" y="5595"/>
                  </a:lnTo>
                  <a:lnTo>
                    <a:pt x="62078" y="5917"/>
                  </a:lnTo>
                  <a:lnTo>
                    <a:pt x="76698" y="6275"/>
                  </a:lnTo>
                  <a:lnTo>
                    <a:pt x="99208" y="6476"/>
                  </a:lnTo>
                  <a:lnTo>
                    <a:pt x="107626" y="7351"/>
                  </a:lnTo>
                  <a:lnTo>
                    <a:pt x="116624" y="8781"/>
                  </a:lnTo>
                  <a:lnTo>
                    <a:pt x="126010" y="10581"/>
                  </a:lnTo>
                  <a:lnTo>
                    <a:pt x="133113" y="11781"/>
                  </a:lnTo>
                  <a:lnTo>
                    <a:pt x="138696" y="12581"/>
                  </a:lnTo>
                  <a:lnTo>
                    <a:pt x="152400" y="141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MARTInkAnnotation115"/>
            <p:cNvSpPr/>
            <p:nvPr/>
          </p:nvSpPr>
          <p:spPr>
            <a:xfrm>
              <a:off x="4953600" y="3437280"/>
              <a:ext cx="98280" cy="4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98397" h="45625">
                  <a:moveTo>
                    <a:pt x="52847" y="38096"/>
                  </a:moveTo>
                  <a:lnTo>
                    <a:pt x="46286" y="38096"/>
                  </a:lnTo>
                  <a:lnTo>
                    <a:pt x="45933" y="38943"/>
                  </a:lnTo>
                  <a:lnTo>
                    <a:pt x="45698" y="40354"/>
                  </a:lnTo>
                  <a:lnTo>
                    <a:pt x="45320" y="44657"/>
                  </a:lnTo>
                  <a:lnTo>
                    <a:pt x="44442" y="45010"/>
                  </a:lnTo>
                  <a:lnTo>
                    <a:pt x="43011" y="45245"/>
                  </a:lnTo>
                  <a:lnTo>
                    <a:pt x="41209" y="45402"/>
                  </a:lnTo>
                  <a:lnTo>
                    <a:pt x="39162" y="45507"/>
                  </a:lnTo>
                  <a:lnTo>
                    <a:pt x="34629" y="45624"/>
                  </a:lnTo>
                  <a:lnTo>
                    <a:pt x="32235" y="44807"/>
                  </a:lnTo>
                  <a:lnTo>
                    <a:pt x="29792" y="43417"/>
                  </a:lnTo>
                  <a:lnTo>
                    <a:pt x="27317" y="41644"/>
                  </a:lnTo>
                  <a:lnTo>
                    <a:pt x="24820" y="40461"/>
                  </a:lnTo>
                  <a:lnTo>
                    <a:pt x="22309" y="39673"/>
                  </a:lnTo>
                  <a:lnTo>
                    <a:pt x="19788" y="39147"/>
                  </a:lnTo>
                  <a:lnTo>
                    <a:pt x="16414" y="37950"/>
                  </a:lnTo>
                  <a:lnTo>
                    <a:pt x="12472" y="36305"/>
                  </a:lnTo>
                  <a:lnTo>
                    <a:pt x="2068" y="31627"/>
                  </a:lnTo>
                  <a:lnTo>
                    <a:pt x="1214" y="30397"/>
                  </a:lnTo>
                  <a:lnTo>
                    <a:pt x="645" y="28730"/>
                  </a:lnTo>
                  <a:lnTo>
                    <a:pt x="265" y="26772"/>
                  </a:lnTo>
                  <a:lnTo>
                    <a:pt x="859" y="24620"/>
                  </a:lnTo>
                  <a:lnTo>
                    <a:pt x="2102" y="22339"/>
                  </a:lnTo>
                  <a:lnTo>
                    <a:pt x="3777" y="19971"/>
                  </a:lnTo>
                  <a:lnTo>
                    <a:pt x="5740" y="17546"/>
                  </a:lnTo>
                  <a:lnTo>
                    <a:pt x="7895" y="15083"/>
                  </a:lnTo>
                  <a:lnTo>
                    <a:pt x="10180" y="12594"/>
                  </a:lnTo>
                  <a:lnTo>
                    <a:pt x="14242" y="10088"/>
                  </a:lnTo>
                  <a:lnTo>
                    <a:pt x="19490" y="7570"/>
                  </a:lnTo>
                  <a:lnTo>
                    <a:pt x="25529" y="5046"/>
                  </a:lnTo>
                  <a:lnTo>
                    <a:pt x="31248" y="3363"/>
                  </a:lnTo>
                  <a:lnTo>
                    <a:pt x="36754" y="2240"/>
                  </a:lnTo>
                  <a:lnTo>
                    <a:pt x="42118" y="1492"/>
                  </a:lnTo>
                  <a:lnTo>
                    <a:pt x="47388" y="994"/>
                  </a:lnTo>
                  <a:lnTo>
                    <a:pt x="52594" y="661"/>
                  </a:lnTo>
                  <a:lnTo>
                    <a:pt x="57759" y="439"/>
                  </a:lnTo>
                  <a:lnTo>
                    <a:pt x="68012" y="193"/>
                  </a:lnTo>
                  <a:lnTo>
                    <a:pt x="96929" y="0"/>
                  </a:lnTo>
                  <a:lnTo>
                    <a:pt x="97475" y="845"/>
                  </a:lnTo>
                  <a:lnTo>
                    <a:pt x="97839" y="2256"/>
                  </a:lnTo>
                  <a:lnTo>
                    <a:pt x="98082" y="4042"/>
                  </a:lnTo>
                  <a:lnTo>
                    <a:pt x="97397" y="6080"/>
                  </a:lnTo>
                  <a:lnTo>
                    <a:pt x="96094" y="8285"/>
                  </a:lnTo>
                  <a:lnTo>
                    <a:pt x="94378" y="10602"/>
                  </a:lnTo>
                  <a:lnTo>
                    <a:pt x="90694" y="12994"/>
                  </a:lnTo>
                  <a:lnTo>
                    <a:pt x="85699" y="15435"/>
                  </a:lnTo>
                  <a:lnTo>
                    <a:pt x="79828" y="17909"/>
                  </a:lnTo>
                  <a:lnTo>
                    <a:pt x="74221" y="20404"/>
                  </a:lnTo>
                  <a:lnTo>
                    <a:pt x="63475" y="25435"/>
                  </a:lnTo>
                  <a:lnTo>
                    <a:pt x="57393" y="27115"/>
                  </a:lnTo>
                  <a:lnTo>
                    <a:pt x="50797" y="28235"/>
                  </a:lnTo>
                  <a:lnTo>
                    <a:pt x="43860" y="28983"/>
                  </a:lnTo>
                  <a:lnTo>
                    <a:pt x="37543" y="30327"/>
                  </a:lnTo>
                  <a:lnTo>
                    <a:pt x="31637" y="32070"/>
                  </a:lnTo>
                  <a:lnTo>
                    <a:pt x="26007" y="34079"/>
                  </a:lnTo>
                  <a:lnTo>
                    <a:pt x="21407" y="35418"/>
                  </a:lnTo>
                  <a:lnTo>
                    <a:pt x="17493" y="36311"/>
                  </a:lnTo>
                  <a:lnTo>
                    <a:pt x="14038" y="36905"/>
                  </a:lnTo>
                  <a:lnTo>
                    <a:pt x="10887" y="37302"/>
                  </a:lnTo>
                  <a:lnTo>
                    <a:pt x="7941" y="37567"/>
                  </a:lnTo>
                  <a:lnTo>
                    <a:pt x="0" y="38065"/>
                  </a:lnTo>
                  <a:lnTo>
                    <a:pt x="1529" y="37229"/>
                  </a:lnTo>
                  <a:lnTo>
                    <a:pt x="7743" y="34042"/>
                  </a:lnTo>
                  <a:lnTo>
                    <a:pt x="10925" y="32853"/>
                  </a:lnTo>
                  <a:lnTo>
                    <a:pt x="13892" y="32061"/>
                  </a:lnTo>
                  <a:lnTo>
                    <a:pt x="16717" y="31533"/>
                  </a:lnTo>
                  <a:lnTo>
                    <a:pt x="21141" y="30334"/>
                  </a:lnTo>
                  <a:lnTo>
                    <a:pt x="32829" y="26744"/>
                  </a:lnTo>
                  <a:lnTo>
                    <a:pt x="38655" y="25448"/>
                  </a:lnTo>
                  <a:lnTo>
                    <a:pt x="44231" y="24584"/>
                  </a:lnTo>
                  <a:lnTo>
                    <a:pt x="49643" y="24008"/>
                  </a:lnTo>
                  <a:lnTo>
                    <a:pt x="54944" y="22777"/>
                  </a:lnTo>
                  <a:lnTo>
                    <a:pt x="60172" y="21110"/>
                  </a:lnTo>
                  <a:lnTo>
                    <a:pt x="65350" y="19152"/>
                  </a:lnTo>
                  <a:lnTo>
                    <a:pt x="70496" y="17847"/>
                  </a:lnTo>
                  <a:lnTo>
                    <a:pt x="75619" y="16976"/>
                  </a:lnTo>
                  <a:lnTo>
                    <a:pt x="80729" y="16397"/>
                  </a:lnTo>
                  <a:lnTo>
                    <a:pt x="84982" y="16009"/>
                  </a:lnTo>
                  <a:lnTo>
                    <a:pt x="88663" y="15752"/>
                  </a:lnTo>
                  <a:lnTo>
                    <a:pt x="98396" y="15245"/>
                  </a:lnTo>
                  <a:lnTo>
                    <a:pt x="90947" y="15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SMARTInkAnnotation116"/>
            <p:cNvSpPr/>
            <p:nvPr/>
          </p:nvSpPr>
          <p:spPr>
            <a:xfrm>
              <a:off x="4190760" y="3003840"/>
              <a:ext cx="266040" cy="29592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295920"/>
                <a:gd name="textAreaBottom" fmla="*/ 296280 h 295920"/>
              </a:gdLst>
              <a:ahLst/>
              <a:rect l="textAreaLeft" t="textAreaTop" r="textAreaRight" b="textAreaBottom"/>
              <a:pathLst>
                <a:path w="266130" h="295998">
                  <a:moveTo>
                    <a:pt x="0" y="36917"/>
                  </a:moveTo>
                  <a:lnTo>
                    <a:pt x="10606" y="36917"/>
                  </a:lnTo>
                  <a:lnTo>
                    <a:pt x="17696" y="34659"/>
                  </a:lnTo>
                  <a:lnTo>
                    <a:pt x="21958" y="32872"/>
                  </a:lnTo>
                  <a:lnTo>
                    <a:pt x="27339" y="30833"/>
                  </a:lnTo>
                  <a:lnTo>
                    <a:pt x="40091" y="26311"/>
                  </a:lnTo>
                  <a:lnTo>
                    <a:pt x="47047" y="24766"/>
                  </a:lnTo>
                  <a:lnTo>
                    <a:pt x="54225" y="23737"/>
                  </a:lnTo>
                  <a:lnTo>
                    <a:pt x="61550" y="23050"/>
                  </a:lnTo>
                  <a:lnTo>
                    <a:pt x="70666" y="21746"/>
                  </a:lnTo>
                  <a:lnTo>
                    <a:pt x="92085" y="18039"/>
                  </a:lnTo>
                  <a:lnTo>
                    <a:pt x="127944" y="11192"/>
                  </a:lnTo>
                  <a:lnTo>
                    <a:pt x="139483" y="9607"/>
                  </a:lnTo>
                  <a:lnTo>
                    <a:pt x="150562" y="8550"/>
                  </a:lnTo>
                  <a:lnTo>
                    <a:pt x="161334" y="7846"/>
                  </a:lnTo>
                  <a:lnTo>
                    <a:pt x="171056" y="6529"/>
                  </a:lnTo>
                  <a:lnTo>
                    <a:pt x="180077" y="4805"/>
                  </a:lnTo>
                  <a:lnTo>
                    <a:pt x="188632" y="2809"/>
                  </a:lnTo>
                  <a:lnTo>
                    <a:pt x="197721" y="1479"/>
                  </a:lnTo>
                  <a:lnTo>
                    <a:pt x="207168" y="591"/>
                  </a:lnTo>
                  <a:lnTo>
                    <a:pt x="216852" y="0"/>
                  </a:lnTo>
                  <a:lnTo>
                    <a:pt x="224155" y="452"/>
                  </a:lnTo>
                  <a:lnTo>
                    <a:pt x="229870" y="1600"/>
                  </a:lnTo>
                  <a:lnTo>
                    <a:pt x="234527" y="3213"/>
                  </a:lnTo>
                  <a:lnTo>
                    <a:pt x="239325" y="5134"/>
                  </a:lnTo>
                  <a:lnTo>
                    <a:pt x="244216" y="7262"/>
                  </a:lnTo>
                  <a:lnTo>
                    <a:pt x="249171" y="9527"/>
                  </a:lnTo>
                  <a:lnTo>
                    <a:pt x="256934" y="14301"/>
                  </a:lnTo>
                  <a:lnTo>
                    <a:pt x="260190" y="16760"/>
                  </a:lnTo>
                  <a:lnTo>
                    <a:pt x="262360" y="19246"/>
                  </a:lnTo>
                  <a:lnTo>
                    <a:pt x="263807" y="21749"/>
                  </a:lnTo>
                  <a:lnTo>
                    <a:pt x="264771" y="24265"/>
                  </a:lnTo>
                  <a:lnTo>
                    <a:pt x="265843" y="31576"/>
                  </a:lnTo>
                  <a:lnTo>
                    <a:pt x="266129" y="35896"/>
                  </a:lnTo>
                  <a:lnTo>
                    <a:pt x="265472" y="41317"/>
                  </a:lnTo>
                  <a:lnTo>
                    <a:pt x="264189" y="47470"/>
                  </a:lnTo>
                  <a:lnTo>
                    <a:pt x="262486" y="54113"/>
                  </a:lnTo>
                  <a:lnTo>
                    <a:pt x="259657" y="61081"/>
                  </a:lnTo>
                  <a:lnTo>
                    <a:pt x="256078" y="68266"/>
                  </a:lnTo>
                  <a:lnTo>
                    <a:pt x="251999" y="75596"/>
                  </a:lnTo>
                  <a:lnTo>
                    <a:pt x="247586" y="83023"/>
                  </a:lnTo>
                  <a:lnTo>
                    <a:pt x="238167" y="98049"/>
                  </a:lnTo>
                  <a:lnTo>
                    <a:pt x="234131" y="105611"/>
                  </a:lnTo>
                  <a:lnTo>
                    <a:pt x="230595" y="113193"/>
                  </a:lnTo>
                  <a:lnTo>
                    <a:pt x="227390" y="120788"/>
                  </a:lnTo>
                  <a:lnTo>
                    <a:pt x="223560" y="129238"/>
                  </a:lnTo>
                  <a:lnTo>
                    <a:pt x="214789" y="147657"/>
                  </a:lnTo>
                  <a:lnTo>
                    <a:pt x="210080" y="156464"/>
                  </a:lnTo>
                  <a:lnTo>
                    <a:pt x="205246" y="164875"/>
                  </a:lnTo>
                  <a:lnTo>
                    <a:pt x="200331" y="173022"/>
                  </a:lnTo>
                  <a:lnTo>
                    <a:pt x="196207" y="181841"/>
                  </a:lnTo>
                  <a:lnTo>
                    <a:pt x="192611" y="191106"/>
                  </a:lnTo>
                  <a:lnTo>
                    <a:pt x="180757" y="226265"/>
                  </a:lnTo>
                  <a:lnTo>
                    <a:pt x="178078" y="233423"/>
                  </a:lnTo>
                  <a:lnTo>
                    <a:pt x="175445" y="239888"/>
                  </a:lnTo>
                  <a:lnTo>
                    <a:pt x="172843" y="245891"/>
                  </a:lnTo>
                  <a:lnTo>
                    <a:pt x="171109" y="251586"/>
                  </a:lnTo>
                  <a:lnTo>
                    <a:pt x="169952" y="257077"/>
                  </a:lnTo>
                  <a:lnTo>
                    <a:pt x="169182" y="262430"/>
                  </a:lnTo>
                  <a:lnTo>
                    <a:pt x="167822" y="267692"/>
                  </a:lnTo>
                  <a:lnTo>
                    <a:pt x="166068" y="272894"/>
                  </a:lnTo>
                  <a:lnTo>
                    <a:pt x="164052" y="278055"/>
                  </a:lnTo>
                  <a:lnTo>
                    <a:pt x="161811" y="286047"/>
                  </a:lnTo>
                  <a:lnTo>
                    <a:pt x="160020" y="2959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SMARTInkAnnotation117"/>
            <p:cNvSpPr/>
            <p:nvPr/>
          </p:nvSpPr>
          <p:spPr>
            <a:xfrm>
              <a:off x="4236480" y="3178080"/>
              <a:ext cx="159840" cy="30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60022" h="30481">
                  <a:moveTo>
                    <a:pt x="0" y="30480"/>
                  </a:moveTo>
                  <a:lnTo>
                    <a:pt x="11352" y="30480"/>
                  </a:lnTo>
                  <a:lnTo>
                    <a:pt x="14341" y="29633"/>
                  </a:lnTo>
                  <a:lnTo>
                    <a:pt x="18028" y="28222"/>
                  </a:lnTo>
                  <a:lnTo>
                    <a:pt x="22178" y="26435"/>
                  </a:lnTo>
                  <a:lnTo>
                    <a:pt x="27486" y="25243"/>
                  </a:lnTo>
                  <a:lnTo>
                    <a:pt x="33564" y="24449"/>
                  </a:lnTo>
                  <a:lnTo>
                    <a:pt x="40156" y="23919"/>
                  </a:lnTo>
                  <a:lnTo>
                    <a:pt x="46244" y="22720"/>
                  </a:lnTo>
                  <a:lnTo>
                    <a:pt x="51997" y="21073"/>
                  </a:lnTo>
                  <a:lnTo>
                    <a:pt x="57524" y="19129"/>
                  </a:lnTo>
                  <a:lnTo>
                    <a:pt x="64597" y="17833"/>
                  </a:lnTo>
                  <a:lnTo>
                    <a:pt x="72698" y="16968"/>
                  </a:lnTo>
                  <a:lnTo>
                    <a:pt x="81485" y="16392"/>
                  </a:lnTo>
                  <a:lnTo>
                    <a:pt x="90730" y="15162"/>
                  </a:lnTo>
                  <a:lnTo>
                    <a:pt x="100280" y="13494"/>
                  </a:lnTo>
                  <a:lnTo>
                    <a:pt x="110033" y="11536"/>
                  </a:lnTo>
                  <a:lnTo>
                    <a:pt x="118230" y="10231"/>
                  </a:lnTo>
                  <a:lnTo>
                    <a:pt x="125386" y="9360"/>
                  </a:lnTo>
                  <a:lnTo>
                    <a:pt x="131851" y="8781"/>
                  </a:lnTo>
                  <a:lnTo>
                    <a:pt x="137854" y="7547"/>
                  </a:lnTo>
                  <a:lnTo>
                    <a:pt x="143550" y="5878"/>
                  </a:lnTo>
                  <a:lnTo>
                    <a:pt x="1600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SMARTInkAnnotation118"/>
            <p:cNvSpPr/>
            <p:nvPr/>
          </p:nvSpPr>
          <p:spPr>
            <a:xfrm>
              <a:off x="4251960" y="3063600"/>
              <a:ext cx="297000" cy="502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297181" h="502921">
                  <a:moveTo>
                    <a:pt x="297180" y="0"/>
                  </a:moveTo>
                  <a:lnTo>
                    <a:pt x="297180" y="6561"/>
                  </a:lnTo>
                  <a:lnTo>
                    <a:pt x="291096" y="20424"/>
                  </a:lnTo>
                  <a:lnTo>
                    <a:pt x="286574" y="32784"/>
                  </a:lnTo>
                  <a:lnTo>
                    <a:pt x="279268" y="54023"/>
                  </a:lnTo>
                  <a:lnTo>
                    <a:pt x="272004" y="68884"/>
                  </a:lnTo>
                  <a:lnTo>
                    <a:pt x="267696" y="76402"/>
                  </a:lnTo>
                  <a:lnTo>
                    <a:pt x="263131" y="85648"/>
                  </a:lnTo>
                  <a:lnTo>
                    <a:pt x="258393" y="96045"/>
                  </a:lnTo>
                  <a:lnTo>
                    <a:pt x="253543" y="107210"/>
                  </a:lnTo>
                  <a:lnTo>
                    <a:pt x="243637" y="128647"/>
                  </a:lnTo>
                  <a:lnTo>
                    <a:pt x="238624" y="139104"/>
                  </a:lnTo>
                  <a:lnTo>
                    <a:pt x="231896" y="150310"/>
                  </a:lnTo>
                  <a:lnTo>
                    <a:pt x="224024" y="162013"/>
                  </a:lnTo>
                  <a:lnTo>
                    <a:pt x="215389" y="174049"/>
                  </a:lnTo>
                  <a:lnTo>
                    <a:pt x="207093" y="186306"/>
                  </a:lnTo>
                  <a:lnTo>
                    <a:pt x="163773" y="253082"/>
                  </a:lnTo>
                  <a:lnTo>
                    <a:pt x="154055" y="266935"/>
                  </a:lnTo>
                  <a:lnTo>
                    <a:pt x="134227" y="293615"/>
                  </a:lnTo>
                  <a:lnTo>
                    <a:pt x="125044" y="306657"/>
                  </a:lnTo>
                  <a:lnTo>
                    <a:pt x="116383" y="319585"/>
                  </a:lnTo>
                  <a:lnTo>
                    <a:pt x="108068" y="332436"/>
                  </a:lnTo>
                  <a:lnTo>
                    <a:pt x="99986" y="344391"/>
                  </a:lnTo>
                  <a:lnTo>
                    <a:pt x="84231" y="366705"/>
                  </a:lnTo>
                  <a:lnTo>
                    <a:pt x="76474" y="378243"/>
                  </a:lnTo>
                  <a:lnTo>
                    <a:pt x="53421" y="413862"/>
                  </a:lnTo>
                  <a:lnTo>
                    <a:pt x="38136" y="435681"/>
                  </a:lnTo>
                  <a:lnTo>
                    <a:pt x="32197" y="445394"/>
                  </a:lnTo>
                  <a:lnTo>
                    <a:pt x="27391" y="454409"/>
                  </a:lnTo>
                  <a:lnTo>
                    <a:pt x="23341" y="462959"/>
                  </a:lnTo>
                  <a:lnTo>
                    <a:pt x="14325" y="476975"/>
                  </a:lnTo>
                  <a:lnTo>
                    <a:pt x="6366" y="488003"/>
                  </a:lnTo>
                  <a:lnTo>
                    <a:pt x="0" y="502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MARTInkAnnotation119"/>
            <p:cNvSpPr/>
            <p:nvPr/>
          </p:nvSpPr>
          <p:spPr>
            <a:xfrm>
              <a:off x="4412160" y="3406680"/>
              <a:ext cx="219600" cy="1810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9569" h="181272">
                  <a:moveTo>
                    <a:pt x="76066" y="0"/>
                  </a:moveTo>
                  <a:lnTo>
                    <a:pt x="72021" y="4045"/>
                  </a:lnTo>
                  <a:lnTo>
                    <a:pt x="71675" y="5237"/>
                  </a:lnTo>
                  <a:lnTo>
                    <a:pt x="72293" y="6031"/>
                  </a:lnTo>
                  <a:lnTo>
                    <a:pt x="73550" y="6561"/>
                  </a:lnTo>
                  <a:lnTo>
                    <a:pt x="73542" y="7761"/>
                  </a:lnTo>
                  <a:lnTo>
                    <a:pt x="72689" y="9407"/>
                  </a:lnTo>
                  <a:lnTo>
                    <a:pt x="69485" y="13494"/>
                  </a:lnTo>
                  <a:lnTo>
                    <a:pt x="65238" y="18133"/>
                  </a:lnTo>
                  <a:lnTo>
                    <a:pt x="58088" y="25504"/>
                  </a:lnTo>
                  <a:lnTo>
                    <a:pt x="55614" y="27163"/>
                  </a:lnTo>
                  <a:lnTo>
                    <a:pt x="50607" y="29006"/>
                  </a:lnTo>
                  <a:lnTo>
                    <a:pt x="45559" y="32083"/>
                  </a:lnTo>
                  <a:lnTo>
                    <a:pt x="39647" y="37119"/>
                  </a:lnTo>
                  <a:lnTo>
                    <a:pt x="31375" y="45002"/>
                  </a:lnTo>
                  <a:lnTo>
                    <a:pt x="21243" y="54915"/>
                  </a:lnTo>
                  <a:lnTo>
                    <a:pt x="18351" y="56930"/>
                  </a:lnTo>
                  <a:lnTo>
                    <a:pt x="12879" y="59169"/>
                  </a:lnTo>
                  <a:lnTo>
                    <a:pt x="7625" y="60164"/>
                  </a:lnTo>
                  <a:lnTo>
                    <a:pt x="5038" y="60429"/>
                  </a:lnTo>
                  <a:lnTo>
                    <a:pt x="3314" y="61453"/>
                  </a:lnTo>
                  <a:lnTo>
                    <a:pt x="2164" y="62982"/>
                  </a:lnTo>
                  <a:lnTo>
                    <a:pt x="0" y="68252"/>
                  </a:lnTo>
                  <a:lnTo>
                    <a:pt x="3950" y="64438"/>
                  </a:lnTo>
                  <a:lnTo>
                    <a:pt x="6822" y="63278"/>
                  </a:lnTo>
                  <a:lnTo>
                    <a:pt x="10430" y="62506"/>
                  </a:lnTo>
                  <a:lnTo>
                    <a:pt x="14529" y="61991"/>
                  </a:lnTo>
                  <a:lnTo>
                    <a:pt x="18954" y="61647"/>
                  </a:lnTo>
                  <a:lnTo>
                    <a:pt x="23598" y="61418"/>
                  </a:lnTo>
                  <a:lnTo>
                    <a:pt x="28387" y="61265"/>
                  </a:lnTo>
                  <a:lnTo>
                    <a:pt x="75503" y="60987"/>
                  </a:lnTo>
                  <a:lnTo>
                    <a:pt x="106849" y="60968"/>
                  </a:lnTo>
                  <a:lnTo>
                    <a:pt x="116909" y="61812"/>
                  </a:lnTo>
                  <a:lnTo>
                    <a:pt x="126155" y="63221"/>
                  </a:lnTo>
                  <a:lnTo>
                    <a:pt x="134857" y="65008"/>
                  </a:lnTo>
                  <a:lnTo>
                    <a:pt x="153560" y="69250"/>
                  </a:lnTo>
                  <a:lnTo>
                    <a:pt x="163288" y="71567"/>
                  </a:lnTo>
                  <a:lnTo>
                    <a:pt x="171468" y="74805"/>
                  </a:lnTo>
                  <a:lnTo>
                    <a:pt x="178614" y="78657"/>
                  </a:lnTo>
                  <a:lnTo>
                    <a:pt x="185071" y="82918"/>
                  </a:lnTo>
                  <a:lnTo>
                    <a:pt x="191916" y="86605"/>
                  </a:lnTo>
                  <a:lnTo>
                    <a:pt x="199019" y="89910"/>
                  </a:lnTo>
                  <a:lnTo>
                    <a:pt x="206294" y="92960"/>
                  </a:lnTo>
                  <a:lnTo>
                    <a:pt x="211145" y="96687"/>
                  </a:lnTo>
                  <a:lnTo>
                    <a:pt x="214378" y="100865"/>
                  </a:lnTo>
                  <a:lnTo>
                    <a:pt x="216534" y="105343"/>
                  </a:lnTo>
                  <a:lnTo>
                    <a:pt x="217971" y="110022"/>
                  </a:lnTo>
                  <a:lnTo>
                    <a:pt x="218929" y="114835"/>
                  </a:lnTo>
                  <a:lnTo>
                    <a:pt x="219568" y="119737"/>
                  </a:lnTo>
                  <a:lnTo>
                    <a:pt x="218300" y="124698"/>
                  </a:lnTo>
                  <a:lnTo>
                    <a:pt x="215762" y="129698"/>
                  </a:lnTo>
                  <a:lnTo>
                    <a:pt x="212377" y="134726"/>
                  </a:lnTo>
                  <a:lnTo>
                    <a:pt x="208426" y="138924"/>
                  </a:lnTo>
                  <a:lnTo>
                    <a:pt x="204100" y="142569"/>
                  </a:lnTo>
                  <a:lnTo>
                    <a:pt x="199522" y="145846"/>
                  </a:lnTo>
                  <a:lnTo>
                    <a:pt x="194776" y="149724"/>
                  </a:lnTo>
                  <a:lnTo>
                    <a:pt x="189919" y="154003"/>
                  </a:lnTo>
                  <a:lnTo>
                    <a:pt x="184988" y="158549"/>
                  </a:lnTo>
                  <a:lnTo>
                    <a:pt x="178314" y="162426"/>
                  </a:lnTo>
                  <a:lnTo>
                    <a:pt x="170478" y="165857"/>
                  </a:lnTo>
                  <a:lnTo>
                    <a:pt x="153587" y="171928"/>
                  </a:lnTo>
                  <a:lnTo>
                    <a:pt x="137613" y="177448"/>
                  </a:lnTo>
                  <a:lnTo>
                    <a:pt x="129797" y="179259"/>
                  </a:lnTo>
                  <a:lnTo>
                    <a:pt x="122046" y="180466"/>
                  </a:lnTo>
                  <a:lnTo>
                    <a:pt x="114340" y="181271"/>
                  </a:lnTo>
                  <a:lnTo>
                    <a:pt x="106661" y="180960"/>
                  </a:lnTo>
                  <a:lnTo>
                    <a:pt x="99003" y="179907"/>
                  </a:lnTo>
                  <a:lnTo>
                    <a:pt x="91357" y="178358"/>
                  </a:lnTo>
                  <a:lnTo>
                    <a:pt x="83720" y="176479"/>
                  </a:lnTo>
                  <a:lnTo>
                    <a:pt x="76088" y="174379"/>
                  </a:lnTo>
                  <a:lnTo>
                    <a:pt x="68461" y="172133"/>
                  </a:lnTo>
                  <a:lnTo>
                    <a:pt x="61682" y="169789"/>
                  </a:lnTo>
                  <a:lnTo>
                    <a:pt x="55470" y="167379"/>
                  </a:lnTo>
                  <a:lnTo>
                    <a:pt x="49636" y="164926"/>
                  </a:lnTo>
                  <a:lnTo>
                    <a:pt x="44899" y="162444"/>
                  </a:lnTo>
                  <a:lnTo>
                    <a:pt x="40895" y="159943"/>
                  </a:lnTo>
                  <a:lnTo>
                    <a:pt x="30346" y="1524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SMARTInkAnnotation120"/>
            <p:cNvSpPr/>
            <p:nvPr/>
          </p:nvSpPr>
          <p:spPr>
            <a:xfrm>
              <a:off x="4480560" y="3360960"/>
              <a:ext cx="167400" cy="37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67641" h="38101">
                  <a:moveTo>
                    <a:pt x="0" y="38100"/>
                  </a:moveTo>
                  <a:lnTo>
                    <a:pt x="0" y="34055"/>
                  </a:lnTo>
                  <a:lnTo>
                    <a:pt x="1694" y="32863"/>
                  </a:lnTo>
                  <a:lnTo>
                    <a:pt x="4515" y="32069"/>
                  </a:lnTo>
                  <a:lnTo>
                    <a:pt x="13122" y="30794"/>
                  </a:lnTo>
                  <a:lnTo>
                    <a:pt x="15521" y="29842"/>
                  </a:lnTo>
                  <a:lnTo>
                    <a:pt x="18813" y="28362"/>
                  </a:lnTo>
                  <a:lnTo>
                    <a:pt x="22703" y="26528"/>
                  </a:lnTo>
                  <a:lnTo>
                    <a:pt x="26988" y="25306"/>
                  </a:lnTo>
                  <a:lnTo>
                    <a:pt x="31538" y="24490"/>
                  </a:lnTo>
                  <a:lnTo>
                    <a:pt x="36265" y="23947"/>
                  </a:lnTo>
                  <a:lnTo>
                    <a:pt x="41111" y="22738"/>
                  </a:lnTo>
                  <a:lnTo>
                    <a:pt x="46033" y="21085"/>
                  </a:lnTo>
                  <a:lnTo>
                    <a:pt x="51009" y="19137"/>
                  </a:lnTo>
                  <a:lnTo>
                    <a:pt x="56019" y="17838"/>
                  </a:lnTo>
                  <a:lnTo>
                    <a:pt x="61053" y="16972"/>
                  </a:lnTo>
                  <a:lnTo>
                    <a:pt x="66102" y="16394"/>
                  </a:lnTo>
                  <a:lnTo>
                    <a:pt x="71161" y="15163"/>
                  </a:lnTo>
                  <a:lnTo>
                    <a:pt x="76228" y="13496"/>
                  </a:lnTo>
                  <a:lnTo>
                    <a:pt x="81299" y="11537"/>
                  </a:lnTo>
                  <a:lnTo>
                    <a:pt x="86373" y="10232"/>
                  </a:lnTo>
                  <a:lnTo>
                    <a:pt x="91448" y="9361"/>
                  </a:lnTo>
                  <a:lnTo>
                    <a:pt x="96526" y="8781"/>
                  </a:lnTo>
                  <a:lnTo>
                    <a:pt x="101604" y="8394"/>
                  </a:lnTo>
                  <a:lnTo>
                    <a:pt x="106682" y="8136"/>
                  </a:lnTo>
                  <a:lnTo>
                    <a:pt x="111762" y="7964"/>
                  </a:lnTo>
                  <a:lnTo>
                    <a:pt x="131046" y="7722"/>
                  </a:lnTo>
                  <a:lnTo>
                    <a:pt x="136471" y="6842"/>
                  </a:lnTo>
                  <a:lnTo>
                    <a:pt x="140934" y="5407"/>
                  </a:lnTo>
                  <a:lnTo>
                    <a:pt x="144756" y="3605"/>
                  </a:lnTo>
                  <a:lnTo>
                    <a:pt x="148997" y="2403"/>
                  </a:lnTo>
                  <a:lnTo>
                    <a:pt x="153518" y="1602"/>
                  </a:lnTo>
                  <a:lnTo>
                    <a:pt x="1676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SMARTInkAnnotation121"/>
            <p:cNvSpPr/>
            <p:nvPr/>
          </p:nvSpPr>
          <p:spPr>
            <a:xfrm>
              <a:off x="6195240" y="3063600"/>
              <a:ext cx="342720" cy="2286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342901" h="228601">
                  <a:moveTo>
                    <a:pt x="0" y="0"/>
                  </a:moveTo>
                  <a:lnTo>
                    <a:pt x="0" y="4045"/>
                  </a:lnTo>
                  <a:lnTo>
                    <a:pt x="846" y="5237"/>
                  </a:lnTo>
                  <a:lnTo>
                    <a:pt x="2257" y="6031"/>
                  </a:lnTo>
                  <a:lnTo>
                    <a:pt x="4046" y="6561"/>
                  </a:lnTo>
                  <a:lnTo>
                    <a:pt x="8288" y="9407"/>
                  </a:lnTo>
                  <a:lnTo>
                    <a:pt x="15438" y="15769"/>
                  </a:lnTo>
                  <a:lnTo>
                    <a:pt x="21255" y="20555"/>
                  </a:lnTo>
                  <a:lnTo>
                    <a:pt x="29484" y="25504"/>
                  </a:lnTo>
                  <a:lnTo>
                    <a:pt x="38786" y="30526"/>
                  </a:lnTo>
                  <a:lnTo>
                    <a:pt x="48565" y="36427"/>
                  </a:lnTo>
                  <a:lnTo>
                    <a:pt x="53543" y="40372"/>
                  </a:lnTo>
                  <a:lnTo>
                    <a:pt x="58555" y="44694"/>
                  </a:lnTo>
                  <a:lnTo>
                    <a:pt x="64437" y="49269"/>
                  </a:lnTo>
                  <a:lnTo>
                    <a:pt x="70899" y="54013"/>
                  </a:lnTo>
                  <a:lnTo>
                    <a:pt x="84850" y="63799"/>
                  </a:lnTo>
                  <a:lnTo>
                    <a:pt x="99518" y="73793"/>
                  </a:lnTo>
                  <a:lnTo>
                    <a:pt x="107832" y="78829"/>
                  </a:lnTo>
                  <a:lnTo>
                    <a:pt x="116761" y="83879"/>
                  </a:lnTo>
                  <a:lnTo>
                    <a:pt x="126101" y="88939"/>
                  </a:lnTo>
                  <a:lnTo>
                    <a:pt x="134020" y="94853"/>
                  </a:lnTo>
                  <a:lnTo>
                    <a:pt x="140994" y="101335"/>
                  </a:lnTo>
                  <a:lnTo>
                    <a:pt x="147336" y="108197"/>
                  </a:lnTo>
                  <a:lnTo>
                    <a:pt x="154950" y="113618"/>
                  </a:lnTo>
                  <a:lnTo>
                    <a:pt x="163414" y="118079"/>
                  </a:lnTo>
                  <a:lnTo>
                    <a:pt x="172442" y="121899"/>
                  </a:lnTo>
                  <a:lnTo>
                    <a:pt x="181002" y="126986"/>
                  </a:lnTo>
                  <a:lnTo>
                    <a:pt x="189248" y="132917"/>
                  </a:lnTo>
                  <a:lnTo>
                    <a:pt x="197285" y="139411"/>
                  </a:lnTo>
                  <a:lnTo>
                    <a:pt x="205183" y="145434"/>
                  </a:lnTo>
                  <a:lnTo>
                    <a:pt x="220732" y="156642"/>
                  </a:lnTo>
                  <a:lnTo>
                    <a:pt x="229282" y="162002"/>
                  </a:lnTo>
                  <a:lnTo>
                    <a:pt x="238368" y="167268"/>
                  </a:lnTo>
                  <a:lnTo>
                    <a:pt x="247812" y="172472"/>
                  </a:lnTo>
                  <a:lnTo>
                    <a:pt x="256648" y="176788"/>
                  </a:lnTo>
                  <a:lnTo>
                    <a:pt x="265079" y="180512"/>
                  </a:lnTo>
                  <a:lnTo>
                    <a:pt x="273239" y="183841"/>
                  </a:lnTo>
                  <a:lnTo>
                    <a:pt x="281220" y="187754"/>
                  </a:lnTo>
                  <a:lnTo>
                    <a:pt x="289079" y="192056"/>
                  </a:lnTo>
                  <a:lnTo>
                    <a:pt x="296860" y="196617"/>
                  </a:lnTo>
                  <a:lnTo>
                    <a:pt x="303739" y="201351"/>
                  </a:lnTo>
                  <a:lnTo>
                    <a:pt x="310020" y="206201"/>
                  </a:lnTo>
                  <a:lnTo>
                    <a:pt x="315900" y="211127"/>
                  </a:lnTo>
                  <a:lnTo>
                    <a:pt x="321514" y="215258"/>
                  </a:lnTo>
                  <a:lnTo>
                    <a:pt x="326949" y="218859"/>
                  </a:lnTo>
                  <a:lnTo>
                    <a:pt x="342900" y="228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122"/>
            <p:cNvSpPr/>
            <p:nvPr/>
          </p:nvSpPr>
          <p:spPr>
            <a:xfrm>
              <a:off x="7681680" y="3383640"/>
              <a:ext cx="441720" cy="35028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441961" h="350521">
                  <a:moveTo>
                    <a:pt x="0" y="0"/>
                  </a:moveTo>
                  <a:lnTo>
                    <a:pt x="4045" y="0"/>
                  </a:lnTo>
                  <a:lnTo>
                    <a:pt x="6083" y="847"/>
                  </a:lnTo>
                  <a:lnTo>
                    <a:pt x="12998" y="5237"/>
                  </a:lnTo>
                  <a:lnTo>
                    <a:pt x="22102" y="7760"/>
                  </a:lnTo>
                  <a:lnTo>
                    <a:pt x="33529" y="11352"/>
                  </a:lnTo>
                  <a:lnTo>
                    <a:pt x="40980" y="14341"/>
                  </a:lnTo>
                  <a:lnTo>
                    <a:pt x="49332" y="18027"/>
                  </a:lnTo>
                  <a:lnTo>
                    <a:pt x="58289" y="22178"/>
                  </a:lnTo>
                  <a:lnTo>
                    <a:pt x="66800" y="26639"/>
                  </a:lnTo>
                  <a:lnTo>
                    <a:pt x="75013" y="31306"/>
                  </a:lnTo>
                  <a:lnTo>
                    <a:pt x="83028" y="36111"/>
                  </a:lnTo>
                  <a:lnTo>
                    <a:pt x="91759" y="41854"/>
                  </a:lnTo>
                  <a:lnTo>
                    <a:pt x="110491" y="55008"/>
                  </a:lnTo>
                  <a:lnTo>
                    <a:pt x="140076" y="76694"/>
                  </a:lnTo>
                  <a:lnTo>
                    <a:pt x="151805" y="84150"/>
                  </a:lnTo>
                  <a:lnTo>
                    <a:pt x="164704" y="91659"/>
                  </a:lnTo>
                  <a:lnTo>
                    <a:pt x="178382" y="99206"/>
                  </a:lnTo>
                  <a:lnTo>
                    <a:pt x="190888" y="107624"/>
                  </a:lnTo>
                  <a:lnTo>
                    <a:pt x="202612" y="116623"/>
                  </a:lnTo>
                  <a:lnTo>
                    <a:pt x="237551" y="145469"/>
                  </a:lnTo>
                  <a:lnTo>
                    <a:pt x="325197" y="215940"/>
                  </a:lnTo>
                  <a:lnTo>
                    <a:pt x="337024" y="226934"/>
                  </a:lnTo>
                  <a:lnTo>
                    <a:pt x="348296" y="238496"/>
                  </a:lnTo>
                  <a:lnTo>
                    <a:pt x="359197" y="250437"/>
                  </a:lnTo>
                  <a:lnTo>
                    <a:pt x="369005" y="261785"/>
                  </a:lnTo>
                  <a:lnTo>
                    <a:pt x="378084" y="272737"/>
                  </a:lnTo>
                  <a:lnTo>
                    <a:pt x="422259" y="327609"/>
                  </a:lnTo>
                  <a:lnTo>
                    <a:pt x="427980" y="334399"/>
                  </a:lnTo>
                  <a:lnTo>
                    <a:pt x="441960" y="3505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123"/>
            <p:cNvSpPr/>
            <p:nvPr/>
          </p:nvSpPr>
          <p:spPr>
            <a:xfrm>
              <a:off x="6210720" y="3452400"/>
              <a:ext cx="358200" cy="14472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58141" h="144781">
                  <a:moveTo>
                    <a:pt x="0" y="144780"/>
                  </a:moveTo>
                  <a:lnTo>
                    <a:pt x="22924" y="144780"/>
                  </a:lnTo>
                  <a:lnTo>
                    <a:pt x="33895" y="142523"/>
                  </a:lnTo>
                  <a:lnTo>
                    <a:pt x="40377" y="140735"/>
                  </a:lnTo>
                  <a:lnTo>
                    <a:pt x="46391" y="139544"/>
                  </a:lnTo>
                  <a:lnTo>
                    <a:pt x="52094" y="138749"/>
                  </a:lnTo>
                  <a:lnTo>
                    <a:pt x="57590" y="138219"/>
                  </a:lnTo>
                  <a:lnTo>
                    <a:pt x="63793" y="137866"/>
                  </a:lnTo>
                  <a:lnTo>
                    <a:pt x="77459" y="137474"/>
                  </a:lnTo>
                  <a:lnTo>
                    <a:pt x="95388" y="137253"/>
                  </a:lnTo>
                  <a:lnTo>
                    <a:pt x="106176" y="134944"/>
                  </a:lnTo>
                  <a:lnTo>
                    <a:pt x="130946" y="126563"/>
                  </a:lnTo>
                  <a:lnTo>
                    <a:pt x="137250" y="124168"/>
                  </a:lnTo>
                  <a:lnTo>
                    <a:pt x="143147" y="121726"/>
                  </a:lnTo>
                  <a:lnTo>
                    <a:pt x="148772" y="119250"/>
                  </a:lnTo>
                  <a:lnTo>
                    <a:pt x="155061" y="116754"/>
                  </a:lnTo>
                  <a:lnTo>
                    <a:pt x="168823" y="111722"/>
                  </a:lnTo>
                  <a:lnTo>
                    <a:pt x="175201" y="109194"/>
                  </a:lnTo>
                  <a:lnTo>
                    <a:pt x="181149" y="106663"/>
                  </a:lnTo>
                  <a:lnTo>
                    <a:pt x="186805" y="104129"/>
                  </a:lnTo>
                  <a:lnTo>
                    <a:pt x="193117" y="100746"/>
                  </a:lnTo>
                  <a:lnTo>
                    <a:pt x="199865" y="96797"/>
                  </a:lnTo>
                  <a:lnTo>
                    <a:pt x="206904" y="92472"/>
                  </a:lnTo>
                  <a:lnTo>
                    <a:pt x="213290" y="88741"/>
                  </a:lnTo>
                  <a:lnTo>
                    <a:pt x="224900" y="82338"/>
                  </a:lnTo>
                  <a:lnTo>
                    <a:pt x="240956" y="73974"/>
                  </a:lnTo>
                  <a:lnTo>
                    <a:pt x="246998" y="70483"/>
                  </a:lnTo>
                  <a:lnTo>
                    <a:pt x="253566" y="66462"/>
                  </a:lnTo>
                  <a:lnTo>
                    <a:pt x="260483" y="62088"/>
                  </a:lnTo>
                  <a:lnTo>
                    <a:pt x="266789" y="58325"/>
                  </a:lnTo>
                  <a:lnTo>
                    <a:pt x="272686" y="54970"/>
                  </a:lnTo>
                  <a:lnTo>
                    <a:pt x="278311" y="51887"/>
                  </a:lnTo>
                  <a:lnTo>
                    <a:pt x="282908" y="48138"/>
                  </a:lnTo>
                  <a:lnTo>
                    <a:pt x="286819" y="43945"/>
                  </a:lnTo>
                  <a:lnTo>
                    <a:pt x="290272" y="39457"/>
                  </a:lnTo>
                  <a:lnTo>
                    <a:pt x="294269" y="35618"/>
                  </a:lnTo>
                  <a:lnTo>
                    <a:pt x="298626" y="32212"/>
                  </a:lnTo>
                  <a:lnTo>
                    <a:pt x="303223" y="29095"/>
                  </a:lnTo>
                  <a:lnTo>
                    <a:pt x="307983" y="26170"/>
                  </a:lnTo>
                  <a:lnTo>
                    <a:pt x="312849" y="23373"/>
                  </a:lnTo>
                  <a:lnTo>
                    <a:pt x="322771" y="18008"/>
                  </a:lnTo>
                  <a:lnTo>
                    <a:pt x="3581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124"/>
            <p:cNvSpPr/>
            <p:nvPr/>
          </p:nvSpPr>
          <p:spPr>
            <a:xfrm>
              <a:off x="7628040" y="3063600"/>
              <a:ext cx="388440" cy="11412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388621" h="114301">
                  <a:moveTo>
                    <a:pt x="0" y="114300"/>
                  </a:moveTo>
                  <a:lnTo>
                    <a:pt x="4045" y="114300"/>
                  </a:lnTo>
                  <a:lnTo>
                    <a:pt x="6083" y="113454"/>
                  </a:lnTo>
                  <a:lnTo>
                    <a:pt x="10606" y="110255"/>
                  </a:lnTo>
                  <a:lnTo>
                    <a:pt x="12997" y="109063"/>
                  </a:lnTo>
                  <a:lnTo>
                    <a:pt x="21254" y="106540"/>
                  </a:lnTo>
                  <a:lnTo>
                    <a:pt x="25177" y="104893"/>
                  </a:lnTo>
                  <a:lnTo>
                    <a:pt x="29484" y="102949"/>
                  </a:lnTo>
                  <a:lnTo>
                    <a:pt x="38786" y="100789"/>
                  </a:lnTo>
                  <a:lnTo>
                    <a:pt x="43637" y="100212"/>
                  </a:lnTo>
                  <a:lnTo>
                    <a:pt x="48566" y="98135"/>
                  </a:lnTo>
                  <a:lnTo>
                    <a:pt x="53543" y="95057"/>
                  </a:lnTo>
                  <a:lnTo>
                    <a:pt x="58556" y="91311"/>
                  </a:lnTo>
                  <a:lnTo>
                    <a:pt x="64437" y="88814"/>
                  </a:lnTo>
                  <a:lnTo>
                    <a:pt x="70898" y="87149"/>
                  </a:lnTo>
                  <a:lnTo>
                    <a:pt x="77746" y="86040"/>
                  </a:lnTo>
                  <a:lnTo>
                    <a:pt x="89869" y="82549"/>
                  </a:lnTo>
                  <a:lnTo>
                    <a:pt x="95472" y="80433"/>
                  </a:lnTo>
                  <a:lnTo>
                    <a:pt x="108472" y="75823"/>
                  </a:lnTo>
                  <a:lnTo>
                    <a:pt x="137514" y="65966"/>
                  </a:lnTo>
                  <a:lnTo>
                    <a:pt x="144169" y="64297"/>
                  </a:lnTo>
                  <a:lnTo>
                    <a:pt x="156080" y="62443"/>
                  </a:lnTo>
                  <a:lnTo>
                    <a:pt x="162473" y="61102"/>
                  </a:lnTo>
                  <a:lnTo>
                    <a:pt x="169275" y="59361"/>
                  </a:lnTo>
                  <a:lnTo>
                    <a:pt x="176350" y="57354"/>
                  </a:lnTo>
                  <a:lnTo>
                    <a:pt x="190985" y="52866"/>
                  </a:lnTo>
                  <a:lnTo>
                    <a:pt x="221076" y="43086"/>
                  </a:lnTo>
                  <a:lnTo>
                    <a:pt x="227818" y="40578"/>
                  </a:lnTo>
                  <a:lnTo>
                    <a:pt x="234006" y="38058"/>
                  </a:lnTo>
                  <a:lnTo>
                    <a:pt x="239824" y="35532"/>
                  </a:lnTo>
                  <a:lnTo>
                    <a:pt x="246243" y="33848"/>
                  </a:lnTo>
                  <a:lnTo>
                    <a:pt x="253062" y="32726"/>
                  </a:lnTo>
                  <a:lnTo>
                    <a:pt x="260148" y="31977"/>
                  </a:lnTo>
                  <a:lnTo>
                    <a:pt x="267412" y="30631"/>
                  </a:lnTo>
                  <a:lnTo>
                    <a:pt x="274795" y="28888"/>
                  </a:lnTo>
                  <a:lnTo>
                    <a:pt x="282256" y="26879"/>
                  </a:lnTo>
                  <a:lnTo>
                    <a:pt x="288925" y="24692"/>
                  </a:lnTo>
                  <a:lnTo>
                    <a:pt x="295063" y="22388"/>
                  </a:lnTo>
                  <a:lnTo>
                    <a:pt x="300849" y="20006"/>
                  </a:lnTo>
                  <a:lnTo>
                    <a:pt x="308093" y="18417"/>
                  </a:lnTo>
                  <a:lnTo>
                    <a:pt x="316308" y="17358"/>
                  </a:lnTo>
                  <a:lnTo>
                    <a:pt x="325173" y="16652"/>
                  </a:lnTo>
                  <a:lnTo>
                    <a:pt x="332776" y="15335"/>
                  </a:lnTo>
                  <a:lnTo>
                    <a:pt x="339537" y="13610"/>
                  </a:lnTo>
                  <a:lnTo>
                    <a:pt x="366601" y="4758"/>
                  </a:lnTo>
                  <a:lnTo>
                    <a:pt x="376859" y="2115"/>
                  </a:lnTo>
                  <a:lnTo>
                    <a:pt x="3886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MARTInkAnnotation125"/>
            <p:cNvSpPr/>
            <p:nvPr/>
          </p:nvSpPr>
          <p:spPr>
            <a:xfrm>
              <a:off x="6027480" y="3894480"/>
              <a:ext cx="312480" cy="5328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12422" h="53341">
                  <a:moveTo>
                    <a:pt x="0" y="53340"/>
                  </a:moveTo>
                  <a:lnTo>
                    <a:pt x="10606" y="53340"/>
                  </a:lnTo>
                  <a:lnTo>
                    <a:pt x="13844" y="52494"/>
                  </a:lnTo>
                  <a:lnTo>
                    <a:pt x="17696" y="51083"/>
                  </a:lnTo>
                  <a:lnTo>
                    <a:pt x="21958" y="49295"/>
                  </a:lnTo>
                  <a:lnTo>
                    <a:pt x="26492" y="48103"/>
                  </a:lnTo>
                  <a:lnTo>
                    <a:pt x="36045" y="46779"/>
                  </a:lnTo>
                  <a:lnTo>
                    <a:pt x="41810" y="45579"/>
                  </a:lnTo>
                  <a:lnTo>
                    <a:pt x="48193" y="43933"/>
                  </a:lnTo>
                  <a:lnTo>
                    <a:pt x="54989" y="41989"/>
                  </a:lnTo>
                  <a:lnTo>
                    <a:pt x="69313" y="37570"/>
                  </a:lnTo>
                  <a:lnTo>
                    <a:pt x="76689" y="35207"/>
                  </a:lnTo>
                  <a:lnTo>
                    <a:pt x="84993" y="32785"/>
                  </a:lnTo>
                  <a:lnTo>
                    <a:pt x="112013" y="25330"/>
                  </a:lnTo>
                  <a:lnTo>
                    <a:pt x="128524" y="20289"/>
                  </a:lnTo>
                  <a:lnTo>
                    <a:pt x="136483" y="18606"/>
                  </a:lnTo>
                  <a:lnTo>
                    <a:pt x="144329" y="17484"/>
                  </a:lnTo>
                  <a:lnTo>
                    <a:pt x="152099" y="16736"/>
                  </a:lnTo>
                  <a:lnTo>
                    <a:pt x="160666" y="16237"/>
                  </a:lnTo>
                  <a:lnTo>
                    <a:pt x="179217" y="15683"/>
                  </a:lnTo>
                  <a:lnTo>
                    <a:pt x="188904" y="14689"/>
                  </a:lnTo>
                  <a:lnTo>
                    <a:pt x="198750" y="13180"/>
                  </a:lnTo>
                  <a:lnTo>
                    <a:pt x="208700" y="11327"/>
                  </a:lnTo>
                  <a:lnTo>
                    <a:pt x="217874" y="10091"/>
                  </a:lnTo>
                  <a:lnTo>
                    <a:pt x="226529" y="9267"/>
                  </a:lnTo>
                  <a:lnTo>
                    <a:pt x="234840" y="8718"/>
                  </a:lnTo>
                  <a:lnTo>
                    <a:pt x="242920" y="7505"/>
                  </a:lnTo>
                  <a:lnTo>
                    <a:pt x="250847" y="5850"/>
                  </a:lnTo>
                  <a:lnTo>
                    <a:pt x="258671" y="3900"/>
                  </a:lnTo>
                  <a:lnTo>
                    <a:pt x="266428" y="2600"/>
                  </a:lnTo>
                  <a:lnTo>
                    <a:pt x="274138" y="1734"/>
                  </a:lnTo>
                  <a:lnTo>
                    <a:pt x="281819" y="1156"/>
                  </a:lnTo>
                  <a:lnTo>
                    <a:pt x="288633" y="771"/>
                  </a:lnTo>
                  <a:lnTo>
                    <a:pt x="3124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MARTInkAnnotation126"/>
            <p:cNvSpPr/>
            <p:nvPr/>
          </p:nvSpPr>
          <p:spPr>
            <a:xfrm>
              <a:off x="6134400" y="3970800"/>
              <a:ext cx="266400" cy="3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66701" h="1">
                  <a:moveTo>
                    <a:pt x="0" y="0"/>
                  </a:moveTo>
                  <a:lnTo>
                    <a:pt x="2667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MARTInkAnnotation127"/>
            <p:cNvSpPr/>
            <p:nvPr/>
          </p:nvSpPr>
          <p:spPr>
            <a:xfrm>
              <a:off x="6492600" y="3871440"/>
              <a:ext cx="243720" cy="137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43840" h="137161">
                  <a:moveTo>
                    <a:pt x="243839" y="0"/>
                  </a:moveTo>
                  <a:lnTo>
                    <a:pt x="239794" y="0"/>
                  </a:lnTo>
                  <a:lnTo>
                    <a:pt x="238602" y="847"/>
                  </a:lnTo>
                  <a:lnTo>
                    <a:pt x="237808" y="2258"/>
                  </a:lnTo>
                  <a:lnTo>
                    <a:pt x="237278" y="4045"/>
                  </a:lnTo>
                  <a:lnTo>
                    <a:pt x="234432" y="8289"/>
                  </a:lnTo>
                  <a:lnTo>
                    <a:pt x="232487" y="10606"/>
                  </a:lnTo>
                  <a:lnTo>
                    <a:pt x="229498" y="13844"/>
                  </a:lnTo>
                  <a:lnTo>
                    <a:pt x="217200" y="26492"/>
                  </a:lnTo>
                  <a:lnTo>
                    <a:pt x="207728" y="36045"/>
                  </a:lnTo>
                  <a:lnTo>
                    <a:pt x="201139" y="40964"/>
                  </a:lnTo>
                  <a:lnTo>
                    <a:pt x="193359" y="45935"/>
                  </a:lnTo>
                  <a:lnTo>
                    <a:pt x="184786" y="50944"/>
                  </a:lnTo>
                  <a:lnTo>
                    <a:pt x="168487" y="61024"/>
                  </a:lnTo>
                  <a:lnTo>
                    <a:pt x="160585" y="66083"/>
                  </a:lnTo>
                  <a:lnTo>
                    <a:pt x="151929" y="71148"/>
                  </a:lnTo>
                  <a:lnTo>
                    <a:pt x="142772" y="76220"/>
                  </a:lnTo>
                  <a:lnTo>
                    <a:pt x="133282" y="81293"/>
                  </a:lnTo>
                  <a:lnTo>
                    <a:pt x="124414" y="86369"/>
                  </a:lnTo>
                  <a:lnTo>
                    <a:pt x="115963" y="91446"/>
                  </a:lnTo>
                  <a:lnTo>
                    <a:pt x="107789" y="96524"/>
                  </a:lnTo>
                  <a:lnTo>
                    <a:pt x="98952" y="101603"/>
                  </a:lnTo>
                  <a:lnTo>
                    <a:pt x="80102" y="111762"/>
                  </a:lnTo>
                  <a:lnTo>
                    <a:pt x="70334" y="115994"/>
                  </a:lnTo>
                  <a:lnTo>
                    <a:pt x="60437" y="119663"/>
                  </a:lnTo>
                  <a:lnTo>
                    <a:pt x="50450" y="122956"/>
                  </a:lnTo>
                  <a:lnTo>
                    <a:pt x="42100" y="125997"/>
                  </a:lnTo>
                  <a:lnTo>
                    <a:pt x="34840" y="128871"/>
                  </a:lnTo>
                  <a:lnTo>
                    <a:pt x="28307" y="131635"/>
                  </a:lnTo>
                  <a:lnTo>
                    <a:pt x="23105" y="133477"/>
                  </a:lnTo>
                  <a:lnTo>
                    <a:pt x="18789" y="134704"/>
                  </a:lnTo>
                  <a:lnTo>
                    <a:pt x="11737" y="136069"/>
                  </a:lnTo>
                  <a:lnTo>
                    <a:pt x="5781" y="136675"/>
                  </a:lnTo>
                  <a:lnTo>
                    <a:pt x="0" y="137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MARTInkAnnotation128"/>
            <p:cNvSpPr/>
            <p:nvPr/>
          </p:nvSpPr>
          <p:spPr>
            <a:xfrm>
              <a:off x="6584040" y="3833640"/>
              <a:ext cx="144720" cy="121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44781" h="12192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6" y="7306"/>
                  </a:lnTo>
                  <a:lnTo>
                    <a:pt x="6084" y="8257"/>
                  </a:lnTo>
                  <a:lnTo>
                    <a:pt x="10606" y="11572"/>
                  </a:lnTo>
                  <a:lnTo>
                    <a:pt x="12997" y="13642"/>
                  </a:lnTo>
                  <a:lnTo>
                    <a:pt x="15438" y="15867"/>
                  </a:lnTo>
                  <a:lnTo>
                    <a:pt x="17912" y="18199"/>
                  </a:lnTo>
                  <a:lnTo>
                    <a:pt x="43637" y="43663"/>
                  </a:lnTo>
                  <a:lnTo>
                    <a:pt x="49412" y="48582"/>
                  </a:lnTo>
                  <a:lnTo>
                    <a:pt x="55802" y="53555"/>
                  </a:lnTo>
                  <a:lnTo>
                    <a:pt x="62601" y="58563"/>
                  </a:lnTo>
                  <a:lnTo>
                    <a:pt x="76929" y="68644"/>
                  </a:lnTo>
                  <a:lnTo>
                    <a:pt x="106823" y="88913"/>
                  </a:lnTo>
                  <a:lnTo>
                    <a:pt x="113549" y="93989"/>
                  </a:lnTo>
                  <a:lnTo>
                    <a:pt x="119726" y="99066"/>
                  </a:lnTo>
                  <a:lnTo>
                    <a:pt x="130258" y="108376"/>
                  </a:lnTo>
                  <a:lnTo>
                    <a:pt x="144780" y="1219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MARTInkAnnotation129"/>
            <p:cNvSpPr/>
            <p:nvPr/>
          </p:nvSpPr>
          <p:spPr>
            <a:xfrm>
              <a:off x="5097960" y="3810600"/>
              <a:ext cx="236160" cy="75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36221" h="7621">
                  <a:moveTo>
                    <a:pt x="0" y="7620"/>
                  </a:moveTo>
                  <a:lnTo>
                    <a:pt x="21957" y="7620"/>
                  </a:lnTo>
                  <a:lnTo>
                    <a:pt x="26491" y="6774"/>
                  </a:lnTo>
                  <a:lnTo>
                    <a:pt x="31207" y="5362"/>
                  </a:lnTo>
                  <a:lnTo>
                    <a:pt x="36045" y="3575"/>
                  </a:lnTo>
                  <a:lnTo>
                    <a:pt x="40964" y="2383"/>
                  </a:lnTo>
                  <a:lnTo>
                    <a:pt x="45935" y="1589"/>
                  </a:lnTo>
                  <a:lnTo>
                    <a:pt x="50944" y="1059"/>
                  </a:lnTo>
                  <a:lnTo>
                    <a:pt x="56822" y="706"/>
                  </a:lnTo>
                  <a:lnTo>
                    <a:pt x="70128" y="314"/>
                  </a:lnTo>
                  <a:lnTo>
                    <a:pt x="131859" y="12"/>
                  </a:lnTo>
                  <a:lnTo>
                    <a:pt x="2362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MARTInkAnnotation130"/>
            <p:cNvSpPr/>
            <p:nvPr/>
          </p:nvSpPr>
          <p:spPr>
            <a:xfrm>
              <a:off x="5425560" y="3726720"/>
              <a:ext cx="152280" cy="182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52259" h="182727">
                  <a:moveTo>
                    <a:pt x="15097" y="30450"/>
                  </a:moveTo>
                  <a:lnTo>
                    <a:pt x="34042" y="11506"/>
                  </a:lnTo>
                  <a:lnTo>
                    <a:pt x="36193" y="10201"/>
                  </a:lnTo>
                  <a:lnTo>
                    <a:pt x="40842" y="8750"/>
                  </a:lnTo>
                  <a:lnTo>
                    <a:pt x="43267" y="7517"/>
                  </a:lnTo>
                  <a:lnTo>
                    <a:pt x="45730" y="5848"/>
                  </a:lnTo>
                  <a:lnTo>
                    <a:pt x="48219" y="3889"/>
                  </a:lnTo>
                  <a:lnTo>
                    <a:pt x="51572" y="2583"/>
                  </a:lnTo>
                  <a:lnTo>
                    <a:pt x="55501" y="1712"/>
                  </a:lnTo>
                  <a:lnTo>
                    <a:pt x="59812" y="1131"/>
                  </a:lnTo>
                  <a:lnTo>
                    <a:pt x="63534" y="744"/>
                  </a:lnTo>
                  <a:lnTo>
                    <a:pt x="66861" y="486"/>
                  </a:lnTo>
                  <a:lnTo>
                    <a:pt x="69927" y="314"/>
                  </a:lnTo>
                  <a:lnTo>
                    <a:pt x="75591" y="123"/>
                  </a:lnTo>
                  <a:lnTo>
                    <a:pt x="85796" y="16"/>
                  </a:lnTo>
                  <a:lnTo>
                    <a:pt x="90170" y="0"/>
                  </a:lnTo>
                  <a:lnTo>
                    <a:pt x="93933" y="837"/>
                  </a:lnTo>
                  <a:lnTo>
                    <a:pt x="97287" y="2241"/>
                  </a:lnTo>
                  <a:lnTo>
                    <a:pt x="100371" y="4024"/>
                  </a:lnTo>
                  <a:lnTo>
                    <a:pt x="103273" y="5213"/>
                  </a:lnTo>
                  <a:lnTo>
                    <a:pt x="106054" y="6006"/>
                  </a:lnTo>
                  <a:lnTo>
                    <a:pt x="108755" y="6534"/>
                  </a:lnTo>
                  <a:lnTo>
                    <a:pt x="111403" y="7732"/>
                  </a:lnTo>
                  <a:lnTo>
                    <a:pt x="114014" y="9378"/>
                  </a:lnTo>
                  <a:lnTo>
                    <a:pt x="116602" y="11322"/>
                  </a:lnTo>
                  <a:lnTo>
                    <a:pt x="119174" y="12618"/>
                  </a:lnTo>
                  <a:lnTo>
                    <a:pt x="121734" y="13482"/>
                  </a:lnTo>
                  <a:lnTo>
                    <a:pt x="124289" y="14058"/>
                  </a:lnTo>
                  <a:lnTo>
                    <a:pt x="125992" y="15289"/>
                  </a:lnTo>
                  <a:lnTo>
                    <a:pt x="127127" y="16956"/>
                  </a:lnTo>
                  <a:lnTo>
                    <a:pt x="127883" y="18914"/>
                  </a:lnTo>
                  <a:lnTo>
                    <a:pt x="127541" y="21912"/>
                  </a:lnTo>
                  <a:lnTo>
                    <a:pt x="126467" y="25605"/>
                  </a:lnTo>
                  <a:lnTo>
                    <a:pt x="124904" y="29760"/>
                  </a:lnTo>
                  <a:lnTo>
                    <a:pt x="123015" y="33377"/>
                  </a:lnTo>
                  <a:lnTo>
                    <a:pt x="120909" y="36635"/>
                  </a:lnTo>
                  <a:lnTo>
                    <a:pt x="118658" y="39653"/>
                  </a:lnTo>
                  <a:lnTo>
                    <a:pt x="115465" y="42512"/>
                  </a:lnTo>
                  <a:lnTo>
                    <a:pt x="111642" y="45264"/>
                  </a:lnTo>
                  <a:lnTo>
                    <a:pt x="107400" y="47946"/>
                  </a:lnTo>
                  <a:lnTo>
                    <a:pt x="103726" y="51428"/>
                  </a:lnTo>
                  <a:lnTo>
                    <a:pt x="100430" y="55442"/>
                  </a:lnTo>
                  <a:lnTo>
                    <a:pt x="97386" y="59811"/>
                  </a:lnTo>
                  <a:lnTo>
                    <a:pt x="93663" y="63571"/>
                  </a:lnTo>
                  <a:lnTo>
                    <a:pt x="89488" y="66924"/>
                  </a:lnTo>
                  <a:lnTo>
                    <a:pt x="66574" y="82434"/>
                  </a:lnTo>
                  <a:lnTo>
                    <a:pt x="61269" y="87120"/>
                  </a:lnTo>
                  <a:lnTo>
                    <a:pt x="56885" y="91936"/>
                  </a:lnTo>
                  <a:lnTo>
                    <a:pt x="53116" y="96841"/>
                  </a:lnTo>
                  <a:lnTo>
                    <a:pt x="48910" y="100958"/>
                  </a:lnTo>
                  <a:lnTo>
                    <a:pt x="44412" y="104548"/>
                  </a:lnTo>
                  <a:lnTo>
                    <a:pt x="39720" y="107789"/>
                  </a:lnTo>
                  <a:lnTo>
                    <a:pt x="34899" y="111643"/>
                  </a:lnTo>
                  <a:lnTo>
                    <a:pt x="29992" y="115905"/>
                  </a:lnTo>
                  <a:lnTo>
                    <a:pt x="20870" y="124310"/>
                  </a:lnTo>
                  <a:lnTo>
                    <a:pt x="13994" y="130868"/>
                  </a:lnTo>
                  <a:lnTo>
                    <a:pt x="10975" y="134649"/>
                  </a:lnTo>
                  <a:lnTo>
                    <a:pt x="8116" y="138863"/>
                  </a:lnTo>
                  <a:lnTo>
                    <a:pt x="5363" y="143365"/>
                  </a:lnTo>
                  <a:lnTo>
                    <a:pt x="3527" y="147214"/>
                  </a:lnTo>
                  <a:lnTo>
                    <a:pt x="2304" y="150625"/>
                  </a:lnTo>
                  <a:lnTo>
                    <a:pt x="1488" y="153747"/>
                  </a:lnTo>
                  <a:lnTo>
                    <a:pt x="944" y="156675"/>
                  </a:lnTo>
                  <a:lnTo>
                    <a:pt x="340" y="162186"/>
                  </a:lnTo>
                  <a:lnTo>
                    <a:pt x="0" y="166003"/>
                  </a:lnTo>
                  <a:lnTo>
                    <a:pt x="2178" y="169153"/>
                  </a:lnTo>
                  <a:lnTo>
                    <a:pt x="3945" y="171179"/>
                  </a:lnTo>
                  <a:lnTo>
                    <a:pt x="6815" y="173376"/>
                  </a:lnTo>
                  <a:lnTo>
                    <a:pt x="10422" y="175687"/>
                  </a:lnTo>
                  <a:lnTo>
                    <a:pt x="14521" y="178075"/>
                  </a:lnTo>
                  <a:lnTo>
                    <a:pt x="18946" y="179667"/>
                  </a:lnTo>
                  <a:lnTo>
                    <a:pt x="23589" y="180727"/>
                  </a:lnTo>
                  <a:lnTo>
                    <a:pt x="28379" y="181435"/>
                  </a:lnTo>
                  <a:lnTo>
                    <a:pt x="34112" y="181907"/>
                  </a:lnTo>
                  <a:lnTo>
                    <a:pt x="40474" y="182221"/>
                  </a:lnTo>
                  <a:lnTo>
                    <a:pt x="53469" y="182570"/>
                  </a:lnTo>
                  <a:lnTo>
                    <a:pt x="64889" y="182726"/>
                  </a:lnTo>
                  <a:lnTo>
                    <a:pt x="71152" y="181920"/>
                  </a:lnTo>
                  <a:lnTo>
                    <a:pt x="77867" y="180537"/>
                  </a:lnTo>
                  <a:lnTo>
                    <a:pt x="84883" y="178768"/>
                  </a:lnTo>
                  <a:lnTo>
                    <a:pt x="92102" y="177589"/>
                  </a:lnTo>
                  <a:lnTo>
                    <a:pt x="99453" y="176803"/>
                  </a:lnTo>
                  <a:lnTo>
                    <a:pt x="106895" y="176279"/>
                  </a:lnTo>
                  <a:lnTo>
                    <a:pt x="114395" y="175082"/>
                  </a:lnTo>
                  <a:lnTo>
                    <a:pt x="121936" y="173438"/>
                  </a:lnTo>
                  <a:lnTo>
                    <a:pt x="129504" y="171496"/>
                  </a:lnTo>
                  <a:lnTo>
                    <a:pt x="135395" y="169354"/>
                  </a:lnTo>
                  <a:lnTo>
                    <a:pt x="140169" y="167079"/>
                  </a:lnTo>
                  <a:lnTo>
                    <a:pt x="152258" y="1599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MARTInkAnnotation131"/>
            <p:cNvSpPr/>
            <p:nvPr/>
          </p:nvSpPr>
          <p:spPr>
            <a:xfrm>
              <a:off x="5684760" y="3719160"/>
              <a:ext cx="37800" cy="198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7884" h="198121">
                  <a:moveTo>
                    <a:pt x="30356" y="0"/>
                  </a:moveTo>
                  <a:lnTo>
                    <a:pt x="37662" y="0"/>
                  </a:lnTo>
                  <a:lnTo>
                    <a:pt x="37883" y="4045"/>
                  </a:lnTo>
                  <a:lnTo>
                    <a:pt x="37068" y="6084"/>
                  </a:lnTo>
                  <a:lnTo>
                    <a:pt x="35677" y="8289"/>
                  </a:lnTo>
                  <a:lnTo>
                    <a:pt x="33903" y="10606"/>
                  </a:lnTo>
                  <a:lnTo>
                    <a:pt x="32721" y="13844"/>
                  </a:lnTo>
                  <a:lnTo>
                    <a:pt x="31933" y="17696"/>
                  </a:lnTo>
                  <a:lnTo>
                    <a:pt x="31407" y="21958"/>
                  </a:lnTo>
                  <a:lnTo>
                    <a:pt x="30210" y="26492"/>
                  </a:lnTo>
                  <a:lnTo>
                    <a:pt x="28566" y="31208"/>
                  </a:lnTo>
                  <a:lnTo>
                    <a:pt x="26623" y="36045"/>
                  </a:lnTo>
                  <a:lnTo>
                    <a:pt x="24480" y="40117"/>
                  </a:lnTo>
                  <a:lnTo>
                    <a:pt x="22206" y="43678"/>
                  </a:lnTo>
                  <a:lnTo>
                    <a:pt x="19843" y="46899"/>
                  </a:lnTo>
                  <a:lnTo>
                    <a:pt x="18267" y="51586"/>
                  </a:lnTo>
                  <a:lnTo>
                    <a:pt x="17217" y="57251"/>
                  </a:lnTo>
                  <a:lnTo>
                    <a:pt x="16517" y="63567"/>
                  </a:lnTo>
                  <a:lnTo>
                    <a:pt x="15203" y="69471"/>
                  </a:lnTo>
                  <a:lnTo>
                    <a:pt x="13481" y="75101"/>
                  </a:lnTo>
                  <a:lnTo>
                    <a:pt x="11485" y="80547"/>
                  </a:lnTo>
                  <a:lnTo>
                    <a:pt x="9309" y="85872"/>
                  </a:lnTo>
                  <a:lnTo>
                    <a:pt x="7011" y="91114"/>
                  </a:lnTo>
                  <a:lnTo>
                    <a:pt x="4633" y="96303"/>
                  </a:lnTo>
                  <a:lnTo>
                    <a:pt x="3048" y="101455"/>
                  </a:lnTo>
                  <a:lnTo>
                    <a:pt x="1990" y="106584"/>
                  </a:lnTo>
                  <a:lnTo>
                    <a:pt x="1286" y="111696"/>
                  </a:lnTo>
                  <a:lnTo>
                    <a:pt x="816" y="117644"/>
                  </a:lnTo>
                  <a:lnTo>
                    <a:pt x="503" y="124149"/>
                  </a:lnTo>
                  <a:lnTo>
                    <a:pt x="155" y="137304"/>
                  </a:lnTo>
                  <a:lnTo>
                    <a:pt x="0" y="148795"/>
                  </a:lnTo>
                  <a:lnTo>
                    <a:pt x="805" y="154230"/>
                  </a:lnTo>
                  <a:lnTo>
                    <a:pt x="2188" y="159547"/>
                  </a:lnTo>
                  <a:lnTo>
                    <a:pt x="3958" y="164784"/>
                  </a:lnTo>
                  <a:lnTo>
                    <a:pt x="5137" y="169123"/>
                  </a:lnTo>
                  <a:lnTo>
                    <a:pt x="5924" y="172862"/>
                  </a:lnTo>
                  <a:lnTo>
                    <a:pt x="6448" y="176201"/>
                  </a:lnTo>
                  <a:lnTo>
                    <a:pt x="7644" y="179274"/>
                  </a:lnTo>
                  <a:lnTo>
                    <a:pt x="9288" y="182169"/>
                  </a:lnTo>
                  <a:lnTo>
                    <a:pt x="11231" y="184946"/>
                  </a:lnTo>
                  <a:lnTo>
                    <a:pt x="12525" y="187644"/>
                  </a:lnTo>
                  <a:lnTo>
                    <a:pt x="13389" y="190290"/>
                  </a:lnTo>
                  <a:lnTo>
                    <a:pt x="15116" y="198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8" descr="http://fivestarmusic.com/wp-content/uploads/2009/05/electrical-guitar.jpg"/>
          <p:cNvPicPr/>
          <p:nvPr/>
        </p:nvPicPr>
        <p:blipFill>
          <a:blip r:embed="rId1"/>
          <a:stretch/>
        </p:blipFill>
        <p:spPr>
          <a:xfrm>
            <a:off x="6270480" y="2438280"/>
            <a:ext cx="2873520" cy="44197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Applicatio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 variable and write an equation for the given situ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0" y="1828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6) A music store sells a used guitar for $120.  This is $25 more than ½ the cost of a new guitar of the same brand.  What is the cost of the new guit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Applica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 variable and write an equation for the given situ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0" y="1828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7) You order iris bulbs from a catalog.  Iris bulbs cost $0.90 each.  The shipping charge is $2.50.  If you have $18.50 to spend, how many iris bulbs can you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http://www.flowersatyourdoor.com/web/components/com_virtuemart/shop_image/product/Blue_Iris_48cee28d47af1.jpg"/>
          <p:cNvPicPr/>
          <p:nvPr/>
        </p:nvPicPr>
        <p:blipFill>
          <a:blip r:embed="rId1"/>
          <a:stretch/>
        </p:blipFill>
        <p:spPr>
          <a:xfrm>
            <a:off x="6219720" y="2743200"/>
            <a:ext cx="277200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8eb4e3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ing Two-Step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0" y="838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8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Geometric Applicatio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quation for the given geometric illustration. Then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4495680" y="1295280"/>
            <a:ext cx="4362840" cy="5290200"/>
            <a:chOff x="4495680" y="1295280"/>
            <a:chExt cx="4362840" cy="52902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4745880" y="1699200"/>
              <a:ext cx="3863520" cy="46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Box 8"/>
            <p:cNvSpPr/>
            <p:nvPr/>
          </p:nvSpPr>
          <p:spPr>
            <a:xfrm>
              <a:off x="4495680" y="6064920"/>
              <a:ext cx="48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9"/>
            <p:cNvSpPr/>
            <p:nvPr/>
          </p:nvSpPr>
          <p:spPr>
            <a:xfrm>
              <a:off x="8441640" y="6064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0"/>
            <p:cNvSpPr/>
            <p:nvPr/>
          </p:nvSpPr>
          <p:spPr>
            <a:xfrm>
              <a:off x="6438600" y="12952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8" name="Object 3"/>
            <p:cNvGraphicFramePr/>
            <p:nvPr/>
          </p:nvGraphicFramePr>
          <p:xfrm>
            <a:off x="5149440" y="5661000"/>
            <a:ext cx="54216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9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9440" y="5661000"/>
                      <a:ext cx="5421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4"/>
            <p:cNvGraphicFramePr/>
            <p:nvPr/>
          </p:nvGraphicFramePr>
          <p:xfrm>
            <a:off x="6818400" y="5580000"/>
            <a:ext cx="1390680" cy="592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1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818400" y="5580000"/>
                      <a:ext cx="1390680" cy="5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2" name="Group 8211"/>
          <p:cNvGrpSpPr/>
          <p:nvPr/>
        </p:nvGrpSpPr>
        <p:grpSpPr>
          <a:xfrm>
            <a:off x="565200" y="2201760"/>
            <a:ext cx="2986200" cy="2454480"/>
            <a:chOff x="565200" y="2201760"/>
            <a:chExt cx="2986200" cy="2454480"/>
          </a:xfrm>
        </p:grpSpPr>
        <p:sp>
          <p:nvSpPr>
            <p:cNvPr id="293" name="SMARTInkAnnotation0"/>
            <p:cNvSpPr/>
            <p:nvPr/>
          </p:nvSpPr>
          <p:spPr>
            <a:xfrm>
              <a:off x="565200" y="2286360"/>
              <a:ext cx="240480" cy="3416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240674" h="341741">
                  <a:moveTo>
                    <a:pt x="174622" y="21700"/>
                  </a:moveTo>
                  <a:lnTo>
                    <a:pt x="168061" y="15139"/>
                  </a:lnTo>
                  <a:lnTo>
                    <a:pt x="167473" y="12293"/>
                  </a:lnTo>
                  <a:lnTo>
                    <a:pt x="167316" y="10349"/>
                  </a:lnTo>
                  <a:lnTo>
                    <a:pt x="166365" y="9052"/>
                  </a:lnTo>
                  <a:lnTo>
                    <a:pt x="164884" y="8188"/>
                  </a:lnTo>
                  <a:lnTo>
                    <a:pt x="163050" y="7612"/>
                  </a:lnTo>
                  <a:lnTo>
                    <a:pt x="161827" y="6381"/>
                  </a:lnTo>
                  <a:lnTo>
                    <a:pt x="161012" y="4714"/>
                  </a:lnTo>
                  <a:lnTo>
                    <a:pt x="160469" y="2756"/>
                  </a:lnTo>
                  <a:lnTo>
                    <a:pt x="159260" y="1451"/>
                  </a:lnTo>
                  <a:lnTo>
                    <a:pt x="157607" y="581"/>
                  </a:lnTo>
                  <a:lnTo>
                    <a:pt x="155659" y="0"/>
                  </a:lnTo>
                  <a:lnTo>
                    <a:pt x="153513" y="460"/>
                  </a:lnTo>
                  <a:lnTo>
                    <a:pt x="146448" y="4306"/>
                  </a:lnTo>
                  <a:lnTo>
                    <a:pt x="141498" y="5503"/>
                  </a:lnTo>
                  <a:lnTo>
                    <a:pt x="136476" y="8292"/>
                  </a:lnTo>
                  <a:lnTo>
                    <a:pt x="130575" y="13201"/>
                  </a:lnTo>
                  <a:lnTo>
                    <a:pt x="122308" y="21027"/>
                  </a:lnTo>
                  <a:lnTo>
                    <a:pt x="117733" y="24638"/>
                  </a:lnTo>
                  <a:lnTo>
                    <a:pt x="112989" y="27892"/>
                  </a:lnTo>
                  <a:lnTo>
                    <a:pt x="108133" y="30908"/>
                  </a:lnTo>
                  <a:lnTo>
                    <a:pt x="101510" y="34612"/>
                  </a:lnTo>
                  <a:lnTo>
                    <a:pt x="85119" y="43243"/>
                  </a:lnTo>
                  <a:lnTo>
                    <a:pt x="77700" y="47915"/>
                  </a:lnTo>
                  <a:lnTo>
                    <a:pt x="71061" y="52724"/>
                  </a:lnTo>
                  <a:lnTo>
                    <a:pt x="64941" y="57622"/>
                  </a:lnTo>
                  <a:lnTo>
                    <a:pt x="57475" y="62582"/>
                  </a:lnTo>
                  <a:lnTo>
                    <a:pt x="49111" y="67581"/>
                  </a:lnTo>
                  <a:lnTo>
                    <a:pt x="40148" y="72608"/>
                  </a:lnTo>
                  <a:lnTo>
                    <a:pt x="32479" y="77651"/>
                  </a:lnTo>
                  <a:lnTo>
                    <a:pt x="25674" y="82708"/>
                  </a:lnTo>
                  <a:lnTo>
                    <a:pt x="19443" y="87772"/>
                  </a:lnTo>
                  <a:lnTo>
                    <a:pt x="14443" y="91995"/>
                  </a:lnTo>
                  <a:lnTo>
                    <a:pt x="10262" y="95656"/>
                  </a:lnTo>
                  <a:lnTo>
                    <a:pt x="6629" y="98944"/>
                  </a:lnTo>
                  <a:lnTo>
                    <a:pt x="4207" y="101983"/>
                  </a:lnTo>
                  <a:lnTo>
                    <a:pt x="1515" y="107617"/>
                  </a:lnTo>
                  <a:lnTo>
                    <a:pt x="0" y="115549"/>
                  </a:lnTo>
                  <a:lnTo>
                    <a:pt x="1481" y="118133"/>
                  </a:lnTo>
                  <a:lnTo>
                    <a:pt x="7641" y="123261"/>
                  </a:lnTo>
                  <a:lnTo>
                    <a:pt x="11655" y="124967"/>
                  </a:lnTo>
                  <a:lnTo>
                    <a:pt x="16024" y="126105"/>
                  </a:lnTo>
                  <a:lnTo>
                    <a:pt x="20630" y="126864"/>
                  </a:lnTo>
                  <a:lnTo>
                    <a:pt x="27087" y="127369"/>
                  </a:lnTo>
                  <a:lnTo>
                    <a:pt x="34779" y="127706"/>
                  </a:lnTo>
                  <a:lnTo>
                    <a:pt x="52356" y="128081"/>
                  </a:lnTo>
                  <a:lnTo>
                    <a:pt x="101251" y="128341"/>
                  </a:lnTo>
                  <a:lnTo>
                    <a:pt x="111315" y="129201"/>
                  </a:lnTo>
                  <a:lnTo>
                    <a:pt x="121411" y="130620"/>
                  </a:lnTo>
                  <a:lnTo>
                    <a:pt x="131528" y="132413"/>
                  </a:lnTo>
                  <a:lnTo>
                    <a:pt x="141659" y="134456"/>
                  </a:lnTo>
                  <a:lnTo>
                    <a:pt x="161947" y="138983"/>
                  </a:lnTo>
                  <a:lnTo>
                    <a:pt x="172099" y="142222"/>
                  </a:lnTo>
                  <a:lnTo>
                    <a:pt x="182253" y="146075"/>
                  </a:lnTo>
                  <a:lnTo>
                    <a:pt x="192410" y="150337"/>
                  </a:lnTo>
                  <a:lnTo>
                    <a:pt x="201721" y="154024"/>
                  </a:lnTo>
                  <a:lnTo>
                    <a:pt x="218839" y="160380"/>
                  </a:lnTo>
                  <a:lnTo>
                    <a:pt x="225267" y="164953"/>
                  </a:lnTo>
                  <a:lnTo>
                    <a:pt x="230399" y="170542"/>
                  </a:lnTo>
                  <a:lnTo>
                    <a:pt x="234666" y="176808"/>
                  </a:lnTo>
                  <a:lnTo>
                    <a:pt x="237512" y="182679"/>
                  </a:lnTo>
                  <a:lnTo>
                    <a:pt x="239409" y="188286"/>
                  </a:lnTo>
                  <a:lnTo>
                    <a:pt x="240673" y="193717"/>
                  </a:lnTo>
                  <a:lnTo>
                    <a:pt x="240669" y="199878"/>
                  </a:lnTo>
                  <a:lnTo>
                    <a:pt x="239820" y="206526"/>
                  </a:lnTo>
                  <a:lnTo>
                    <a:pt x="238408" y="213497"/>
                  </a:lnTo>
                  <a:lnTo>
                    <a:pt x="236619" y="220685"/>
                  </a:lnTo>
                  <a:lnTo>
                    <a:pt x="234580" y="228017"/>
                  </a:lnTo>
                  <a:lnTo>
                    <a:pt x="232374" y="235444"/>
                  </a:lnTo>
                  <a:lnTo>
                    <a:pt x="229210" y="242090"/>
                  </a:lnTo>
                  <a:lnTo>
                    <a:pt x="225408" y="248213"/>
                  </a:lnTo>
                  <a:lnTo>
                    <a:pt x="221179" y="253989"/>
                  </a:lnTo>
                  <a:lnTo>
                    <a:pt x="215820" y="260379"/>
                  </a:lnTo>
                  <a:lnTo>
                    <a:pt x="209708" y="267179"/>
                  </a:lnTo>
                  <a:lnTo>
                    <a:pt x="203092" y="274253"/>
                  </a:lnTo>
                  <a:lnTo>
                    <a:pt x="196142" y="280662"/>
                  </a:lnTo>
                  <a:lnTo>
                    <a:pt x="188969" y="286628"/>
                  </a:lnTo>
                  <a:lnTo>
                    <a:pt x="181647" y="292299"/>
                  </a:lnTo>
                  <a:lnTo>
                    <a:pt x="174225" y="297773"/>
                  </a:lnTo>
                  <a:lnTo>
                    <a:pt x="159206" y="308370"/>
                  </a:lnTo>
                  <a:lnTo>
                    <a:pt x="150798" y="312720"/>
                  </a:lnTo>
                  <a:lnTo>
                    <a:pt x="141806" y="316467"/>
                  </a:lnTo>
                  <a:lnTo>
                    <a:pt x="132425" y="319811"/>
                  </a:lnTo>
                  <a:lnTo>
                    <a:pt x="122784" y="322888"/>
                  </a:lnTo>
                  <a:lnTo>
                    <a:pt x="112970" y="325785"/>
                  </a:lnTo>
                  <a:lnTo>
                    <a:pt x="103041" y="328563"/>
                  </a:lnTo>
                  <a:lnTo>
                    <a:pt x="92188" y="331262"/>
                  </a:lnTo>
                  <a:lnTo>
                    <a:pt x="68840" y="336519"/>
                  </a:lnTo>
                  <a:lnTo>
                    <a:pt x="59228" y="338259"/>
                  </a:lnTo>
                  <a:lnTo>
                    <a:pt x="51126" y="339419"/>
                  </a:lnTo>
                  <a:lnTo>
                    <a:pt x="44031" y="340193"/>
                  </a:lnTo>
                  <a:lnTo>
                    <a:pt x="37608" y="340709"/>
                  </a:lnTo>
                  <a:lnTo>
                    <a:pt x="31633" y="341053"/>
                  </a:lnTo>
                  <a:lnTo>
                    <a:pt x="14602" y="341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SMARTInkAnnotation1"/>
            <p:cNvSpPr/>
            <p:nvPr/>
          </p:nvSpPr>
          <p:spPr>
            <a:xfrm>
              <a:off x="655920" y="2331000"/>
              <a:ext cx="297000" cy="151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7181" h="15241">
                  <a:moveTo>
                    <a:pt x="0" y="15240"/>
                  </a:moveTo>
                  <a:lnTo>
                    <a:pt x="4045" y="15240"/>
                  </a:lnTo>
                  <a:lnTo>
                    <a:pt x="7777" y="14394"/>
                  </a:lnTo>
                  <a:lnTo>
                    <a:pt x="12805" y="12982"/>
                  </a:lnTo>
                  <a:lnTo>
                    <a:pt x="26989" y="8679"/>
                  </a:lnTo>
                  <a:lnTo>
                    <a:pt x="45626" y="3889"/>
                  </a:lnTo>
                  <a:lnTo>
                    <a:pt x="54971" y="2593"/>
                  </a:lnTo>
                  <a:lnTo>
                    <a:pt x="65434" y="1728"/>
                  </a:lnTo>
                  <a:lnTo>
                    <a:pt x="86655" y="768"/>
                  </a:lnTo>
                  <a:lnTo>
                    <a:pt x="104554" y="342"/>
                  </a:lnTo>
                  <a:lnTo>
                    <a:pt x="2971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SMARTInkAnnotation2"/>
            <p:cNvSpPr/>
            <p:nvPr/>
          </p:nvSpPr>
          <p:spPr>
            <a:xfrm>
              <a:off x="1021680" y="2338560"/>
              <a:ext cx="182880" cy="26676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82881" h="266701">
                  <a:moveTo>
                    <a:pt x="182880" y="0"/>
                  </a:moveTo>
                  <a:lnTo>
                    <a:pt x="182880" y="17912"/>
                  </a:lnTo>
                  <a:lnTo>
                    <a:pt x="180622" y="25177"/>
                  </a:lnTo>
                  <a:lnTo>
                    <a:pt x="178835" y="29484"/>
                  </a:lnTo>
                  <a:lnTo>
                    <a:pt x="176797" y="34896"/>
                  </a:lnTo>
                  <a:lnTo>
                    <a:pt x="172274" y="47683"/>
                  </a:lnTo>
                  <a:lnTo>
                    <a:pt x="169036" y="55495"/>
                  </a:lnTo>
                  <a:lnTo>
                    <a:pt x="165185" y="64090"/>
                  </a:lnTo>
                  <a:lnTo>
                    <a:pt x="160923" y="73207"/>
                  </a:lnTo>
                  <a:lnTo>
                    <a:pt x="156389" y="81825"/>
                  </a:lnTo>
                  <a:lnTo>
                    <a:pt x="151673" y="90110"/>
                  </a:lnTo>
                  <a:lnTo>
                    <a:pt x="146835" y="98173"/>
                  </a:lnTo>
                  <a:lnTo>
                    <a:pt x="141917" y="106935"/>
                  </a:lnTo>
                  <a:lnTo>
                    <a:pt x="131937" y="125702"/>
                  </a:lnTo>
                  <a:lnTo>
                    <a:pt x="126058" y="135448"/>
                  </a:lnTo>
                  <a:lnTo>
                    <a:pt x="119599" y="145332"/>
                  </a:lnTo>
                  <a:lnTo>
                    <a:pt x="112753" y="155308"/>
                  </a:lnTo>
                  <a:lnTo>
                    <a:pt x="105649" y="164499"/>
                  </a:lnTo>
                  <a:lnTo>
                    <a:pt x="98372" y="173166"/>
                  </a:lnTo>
                  <a:lnTo>
                    <a:pt x="90982" y="181484"/>
                  </a:lnTo>
                  <a:lnTo>
                    <a:pt x="83514" y="190416"/>
                  </a:lnTo>
                  <a:lnTo>
                    <a:pt x="68445" y="209372"/>
                  </a:lnTo>
                  <a:lnTo>
                    <a:pt x="61716" y="217474"/>
                  </a:lnTo>
                  <a:lnTo>
                    <a:pt x="55538" y="224570"/>
                  </a:lnTo>
                  <a:lnTo>
                    <a:pt x="49725" y="230993"/>
                  </a:lnTo>
                  <a:lnTo>
                    <a:pt x="36494" y="244903"/>
                  </a:lnTo>
                  <a:lnTo>
                    <a:pt x="29409" y="252169"/>
                  </a:lnTo>
                  <a:lnTo>
                    <a:pt x="22993" y="257013"/>
                  </a:lnTo>
                  <a:lnTo>
                    <a:pt x="17022" y="260242"/>
                  </a:lnTo>
                  <a:lnTo>
                    <a:pt x="0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SMARTInkAnnotation3"/>
            <p:cNvSpPr/>
            <p:nvPr/>
          </p:nvSpPr>
          <p:spPr>
            <a:xfrm>
              <a:off x="968400" y="2506320"/>
              <a:ext cx="274320" cy="608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74321" h="60961">
                  <a:moveTo>
                    <a:pt x="0" y="0"/>
                  </a:moveTo>
                  <a:lnTo>
                    <a:pt x="10606" y="0"/>
                  </a:lnTo>
                  <a:lnTo>
                    <a:pt x="12997" y="847"/>
                  </a:lnTo>
                  <a:lnTo>
                    <a:pt x="15438" y="2258"/>
                  </a:lnTo>
                  <a:lnTo>
                    <a:pt x="17912" y="4045"/>
                  </a:lnTo>
                  <a:lnTo>
                    <a:pt x="22101" y="5237"/>
                  </a:lnTo>
                  <a:lnTo>
                    <a:pt x="27434" y="6031"/>
                  </a:lnTo>
                  <a:lnTo>
                    <a:pt x="33530" y="6561"/>
                  </a:lnTo>
                  <a:lnTo>
                    <a:pt x="39286" y="8607"/>
                  </a:lnTo>
                  <a:lnTo>
                    <a:pt x="44817" y="11665"/>
                  </a:lnTo>
                  <a:lnTo>
                    <a:pt x="50198" y="15396"/>
                  </a:lnTo>
                  <a:lnTo>
                    <a:pt x="57172" y="18731"/>
                  </a:lnTo>
                  <a:lnTo>
                    <a:pt x="65208" y="21801"/>
                  </a:lnTo>
                  <a:lnTo>
                    <a:pt x="73952" y="24694"/>
                  </a:lnTo>
                  <a:lnTo>
                    <a:pt x="83168" y="27469"/>
                  </a:lnTo>
                  <a:lnTo>
                    <a:pt x="102439" y="32811"/>
                  </a:lnTo>
                  <a:lnTo>
                    <a:pt x="162634" y="48242"/>
                  </a:lnTo>
                  <a:lnTo>
                    <a:pt x="173616" y="49941"/>
                  </a:lnTo>
                  <a:lnTo>
                    <a:pt x="185171" y="51074"/>
                  </a:lnTo>
                  <a:lnTo>
                    <a:pt x="197107" y="51829"/>
                  </a:lnTo>
                  <a:lnTo>
                    <a:pt x="209298" y="53180"/>
                  </a:lnTo>
                  <a:lnTo>
                    <a:pt x="221659" y="54926"/>
                  </a:lnTo>
                  <a:lnTo>
                    <a:pt x="234133" y="56938"/>
                  </a:lnTo>
                  <a:lnTo>
                    <a:pt x="244142" y="58279"/>
                  </a:lnTo>
                  <a:lnTo>
                    <a:pt x="252508" y="59172"/>
                  </a:lnTo>
                  <a:lnTo>
                    <a:pt x="274320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SMARTInkAnnotation4"/>
            <p:cNvSpPr/>
            <p:nvPr/>
          </p:nvSpPr>
          <p:spPr>
            <a:xfrm>
              <a:off x="1402560" y="2498760"/>
              <a:ext cx="198000" cy="75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98121" h="7621">
                  <a:moveTo>
                    <a:pt x="0" y="7620"/>
                  </a:moveTo>
                  <a:lnTo>
                    <a:pt x="58068" y="7620"/>
                  </a:lnTo>
                  <a:lnTo>
                    <a:pt x="67499" y="6773"/>
                  </a:lnTo>
                  <a:lnTo>
                    <a:pt x="77172" y="5362"/>
                  </a:lnTo>
                  <a:lnTo>
                    <a:pt x="87008" y="3575"/>
                  </a:lnTo>
                  <a:lnTo>
                    <a:pt x="96952" y="2383"/>
                  </a:lnTo>
                  <a:lnTo>
                    <a:pt x="106968" y="1589"/>
                  </a:lnTo>
                  <a:lnTo>
                    <a:pt x="117032" y="1059"/>
                  </a:lnTo>
                  <a:lnTo>
                    <a:pt x="137245" y="471"/>
                  </a:lnTo>
                  <a:lnTo>
                    <a:pt x="19812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SMARTInkAnnotation5"/>
            <p:cNvSpPr/>
            <p:nvPr/>
          </p:nvSpPr>
          <p:spPr>
            <a:xfrm>
              <a:off x="1654200" y="2384640"/>
              <a:ext cx="320040" cy="259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320041" h="259072">
                  <a:moveTo>
                    <a:pt x="0" y="30471"/>
                  </a:moveTo>
                  <a:lnTo>
                    <a:pt x="4045" y="26426"/>
                  </a:lnTo>
                  <a:lnTo>
                    <a:pt x="6084" y="25234"/>
                  </a:lnTo>
                  <a:lnTo>
                    <a:pt x="14691" y="22711"/>
                  </a:lnTo>
                  <a:lnTo>
                    <a:pt x="32575" y="16977"/>
                  </a:lnTo>
                  <a:lnTo>
                    <a:pt x="46651" y="12338"/>
                  </a:lnTo>
                  <a:lnTo>
                    <a:pt x="54807" y="10762"/>
                  </a:lnTo>
                  <a:lnTo>
                    <a:pt x="63632" y="9712"/>
                  </a:lnTo>
                  <a:lnTo>
                    <a:pt x="72901" y="9012"/>
                  </a:lnTo>
                  <a:lnTo>
                    <a:pt x="81621" y="7698"/>
                  </a:lnTo>
                  <a:lnTo>
                    <a:pt x="89974" y="5976"/>
                  </a:lnTo>
                  <a:lnTo>
                    <a:pt x="98083" y="3981"/>
                  </a:lnTo>
                  <a:lnTo>
                    <a:pt x="106875" y="2651"/>
                  </a:lnTo>
                  <a:lnTo>
                    <a:pt x="116123" y="1764"/>
                  </a:lnTo>
                  <a:lnTo>
                    <a:pt x="125676" y="1173"/>
                  </a:lnTo>
                  <a:lnTo>
                    <a:pt x="145320" y="517"/>
                  </a:lnTo>
                  <a:lnTo>
                    <a:pt x="189210" y="37"/>
                  </a:lnTo>
                  <a:lnTo>
                    <a:pt x="210565" y="0"/>
                  </a:lnTo>
                  <a:lnTo>
                    <a:pt x="214037" y="844"/>
                  </a:lnTo>
                  <a:lnTo>
                    <a:pt x="216351" y="2253"/>
                  </a:lnTo>
                  <a:lnTo>
                    <a:pt x="217894" y="4039"/>
                  </a:lnTo>
                  <a:lnTo>
                    <a:pt x="218922" y="6923"/>
                  </a:lnTo>
                  <a:lnTo>
                    <a:pt x="220066" y="14643"/>
                  </a:lnTo>
                  <a:lnTo>
                    <a:pt x="219524" y="19072"/>
                  </a:lnTo>
                  <a:lnTo>
                    <a:pt x="218316" y="23719"/>
                  </a:lnTo>
                  <a:lnTo>
                    <a:pt x="216664" y="28509"/>
                  </a:lnTo>
                  <a:lnTo>
                    <a:pt x="213869" y="33397"/>
                  </a:lnTo>
                  <a:lnTo>
                    <a:pt x="210313" y="38348"/>
                  </a:lnTo>
                  <a:lnTo>
                    <a:pt x="206249" y="43343"/>
                  </a:lnTo>
                  <a:lnTo>
                    <a:pt x="201845" y="48365"/>
                  </a:lnTo>
                  <a:lnTo>
                    <a:pt x="197217" y="53407"/>
                  </a:lnTo>
                  <a:lnTo>
                    <a:pt x="186712" y="64372"/>
                  </a:lnTo>
                  <a:lnTo>
                    <a:pt x="151901" y="99501"/>
                  </a:lnTo>
                  <a:lnTo>
                    <a:pt x="144447" y="106125"/>
                  </a:lnTo>
                  <a:lnTo>
                    <a:pt x="136938" y="112233"/>
                  </a:lnTo>
                  <a:lnTo>
                    <a:pt x="129392" y="117999"/>
                  </a:lnTo>
                  <a:lnTo>
                    <a:pt x="122668" y="124383"/>
                  </a:lnTo>
                  <a:lnTo>
                    <a:pt x="116492" y="131179"/>
                  </a:lnTo>
                  <a:lnTo>
                    <a:pt x="110681" y="138250"/>
                  </a:lnTo>
                  <a:lnTo>
                    <a:pt x="105114" y="144657"/>
                  </a:lnTo>
                  <a:lnTo>
                    <a:pt x="99710" y="150622"/>
                  </a:lnTo>
                  <a:lnTo>
                    <a:pt x="94413" y="156292"/>
                  </a:lnTo>
                  <a:lnTo>
                    <a:pt x="89189" y="162611"/>
                  </a:lnTo>
                  <a:lnTo>
                    <a:pt x="84012" y="169364"/>
                  </a:lnTo>
                  <a:lnTo>
                    <a:pt x="78868" y="176407"/>
                  </a:lnTo>
                  <a:lnTo>
                    <a:pt x="75439" y="182795"/>
                  </a:lnTo>
                  <a:lnTo>
                    <a:pt x="73152" y="188747"/>
                  </a:lnTo>
                  <a:lnTo>
                    <a:pt x="71629" y="194408"/>
                  </a:lnTo>
                  <a:lnTo>
                    <a:pt x="72306" y="199029"/>
                  </a:lnTo>
                  <a:lnTo>
                    <a:pt x="74450" y="202956"/>
                  </a:lnTo>
                  <a:lnTo>
                    <a:pt x="81349" y="210425"/>
                  </a:lnTo>
                  <a:lnTo>
                    <a:pt x="90060" y="219388"/>
                  </a:lnTo>
                  <a:lnTo>
                    <a:pt x="95600" y="223302"/>
                  </a:lnTo>
                  <a:lnTo>
                    <a:pt x="101833" y="226759"/>
                  </a:lnTo>
                  <a:lnTo>
                    <a:pt x="108529" y="229909"/>
                  </a:lnTo>
                  <a:lnTo>
                    <a:pt x="115532" y="232010"/>
                  </a:lnTo>
                  <a:lnTo>
                    <a:pt x="122742" y="233410"/>
                  </a:lnTo>
                  <a:lnTo>
                    <a:pt x="130088" y="234344"/>
                  </a:lnTo>
                  <a:lnTo>
                    <a:pt x="164698" y="239703"/>
                  </a:lnTo>
                  <a:lnTo>
                    <a:pt x="190321" y="244254"/>
                  </a:lnTo>
                  <a:lnTo>
                    <a:pt x="203081" y="246653"/>
                  </a:lnTo>
                  <a:lnTo>
                    <a:pt x="215820" y="248252"/>
                  </a:lnTo>
                  <a:lnTo>
                    <a:pt x="228547" y="249318"/>
                  </a:lnTo>
                  <a:lnTo>
                    <a:pt x="252283" y="250503"/>
                  </a:lnTo>
                  <a:lnTo>
                    <a:pt x="271299" y="251030"/>
                  </a:lnTo>
                  <a:lnTo>
                    <a:pt x="296285" y="251326"/>
                  </a:lnTo>
                  <a:lnTo>
                    <a:pt x="302510" y="252215"/>
                  </a:lnTo>
                  <a:lnTo>
                    <a:pt x="307506" y="253653"/>
                  </a:lnTo>
                  <a:lnTo>
                    <a:pt x="320040" y="2590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SMARTInkAnnotation6"/>
            <p:cNvSpPr/>
            <p:nvPr/>
          </p:nvSpPr>
          <p:spPr>
            <a:xfrm>
              <a:off x="2385720" y="2460600"/>
              <a:ext cx="137160" cy="7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7161" h="7621">
                  <a:moveTo>
                    <a:pt x="0" y="0"/>
                  </a:moveTo>
                  <a:lnTo>
                    <a:pt x="87885" y="0"/>
                  </a:lnTo>
                  <a:lnTo>
                    <a:pt x="95843" y="847"/>
                  </a:lnTo>
                  <a:lnTo>
                    <a:pt x="102842" y="2258"/>
                  </a:lnTo>
                  <a:lnTo>
                    <a:pt x="109202" y="4045"/>
                  </a:lnTo>
                  <a:lnTo>
                    <a:pt x="115135" y="5237"/>
                  </a:lnTo>
                  <a:lnTo>
                    <a:pt x="120783" y="6031"/>
                  </a:lnTo>
                  <a:lnTo>
                    <a:pt x="13716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SMARTInkAnnotation7"/>
            <p:cNvSpPr/>
            <p:nvPr/>
          </p:nvSpPr>
          <p:spPr>
            <a:xfrm>
              <a:off x="2347560" y="2529360"/>
              <a:ext cx="327600" cy="226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27661" h="22766">
                  <a:moveTo>
                    <a:pt x="0" y="7620"/>
                  </a:moveTo>
                  <a:lnTo>
                    <a:pt x="0" y="14181"/>
                  </a:lnTo>
                  <a:lnTo>
                    <a:pt x="847" y="14534"/>
                  </a:lnTo>
                  <a:lnTo>
                    <a:pt x="4045" y="14926"/>
                  </a:lnTo>
                  <a:lnTo>
                    <a:pt x="6084" y="15877"/>
                  </a:lnTo>
                  <a:lnTo>
                    <a:pt x="8289" y="17358"/>
                  </a:lnTo>
                  <a:lnTo>
                    <a:pt x="10606" y="19192"/>
                  </a:lnTo>
                  <a:lnTo>
                    <a:pt x="13844" y="20415"/>
                  </a:lnTo>
                  <a:lnTo>
                    <a:pt x="17696" y="21230"/>
                  </a:lnTo>
                  <a:lnTo>
                    <a:pt x="21957" y="21773"/>
                  </a:lnTo>
                  <a:lnTo>
                    <a:pt x="27338" y="22136"/>
                  </a:lnTo>
                  <a:lnTo>
                    <a:pt x="33466" y="22377"/>
                  </a:lnTo>
                  <a:lnTo>
                    <a:pt x="48740" y="22645"/>
                  </a:lnTo>
                  <a:lnTo>
                    <a:pt x="69640" y="22765"/>
                  </a:lnTo>
                  <a:lnTo>
                    <a:pt x="81140" y="21950"/>
                  </a:lnTo>
                  <a:lnTo>
                    <a:pt x="93040" y="20560"/>
                  </a:lnTo>
                  <a:lnTo>
                    <a:pt x="105207" y="18787"/>
                  </a:lnTo>
                  <a:lnTo>
                    <a:pt x="117551" y="17605"/>
                  </a:lnTo>
                  <a:lnTo>
                    <a:pt x="130014" y="16816"/>
                  </a:lnTo>
                  <a:lnTo>
                    <a:pt x="142556" y="16291"/>
                  </a:lnTo>
                  <a:lnTo>
                    <a:pt x="155151" y="15094"/>
                  </a:lnTo>
                  <a:lnTo>
                    <a:pt x="167781" y="13450"/>
                  </a:lnTo>
                  <a:lnTo>
                    <a:pt x="180434" y="11506"/>
                  </a:lnTo>
                  <a:lnTo>
                    <a:pt x="193103" y="10211"/>
                  </a:lnTo>
                  <a:lnTo>
                    <a:pt x="205782" y="9347"/>
                  </a:lnTo>
                  <a:lnTo>
                    <a:pt x="218468" y="8772"/>
                  </a:lnTo>
                  <a:lnTo>
                    <a:pt x="243852" y="8132"/>
                  </a:lnTo>
                  <a:lnTo>
                    <a:pt x="256549" y="7961"/>
                  </a:lnTo>
                  <a:lnTo>
                    <a:pt x="268399" y="7001"/>
                  </a:lnTo>
                  <a:lnTo>
                    <a:pt x="279686" y="5514"/>
                  </a:lnTo>
                  <a:lnTo>
                    <a:pt x="290598" y="3676"/>
                  </a:lnTo>
                  <a:lnTo>
                    <a:pt x="299565" y="2451"/>
                  </a:lnTo>
                  <a:lnTo>
                    <a:pt x="307237" y="1634"/>
                  </a:lnTo>
                  <a:lnTo>
                    <a:pt x="3276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SMARTInkAnnotation8"/>
            <p:cNvSpPr/>
            <p:nvPr/>
          </p:nvSpPr>
          <p:spPr>
            <a:xfrm>
              <a:off x="2908080" y="2277720"/>
              <a:ext cx="216720" cy="27432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216744" h="274293">
                  <a:moveTo>
                    <a:pt x="64343" y="7592"/>
                  </a:moveTo>
                  <a:lnTo>
                    <a:pt x="64343" y="65"/>
                  </a:lnTo>
                  <a:lnTo>
                    <a:pt x="60298" y="0"/>
                  </a:lnTo>
                  <a:lnTo>
                    <a:pt x="59106" y="837"/>
                  </a:lnTo>
                  <a:lnTo>
                    <a:pt x="58312" y="2242"/>
                  </a:lnTo>
                  <a:lnTo>
                    <a:pt x="57782" y="4026"/>
                  </a:lnTo>
                  <a:lnTo>
                    <a:pt x="54936" y="8265"/>
                  </a:lnTo>
                  <a:lnTo>
                    <a:pt x="52992" y="10581"/>
                  </a:lnTo>
                  <a:lnTo>
                    <a:pt x="51696" y="13818"/>
                  </a:lnTo>
                  <a:lnTo>
                    <a:pt x="50255" y="21930"/>
                  </a:lnTo>
                  <a:lnTo>
                    <a:pt x="48178" y="26464"/>
                  </a:lnTo>
                  <a:lnTo>
                    <a:pt x="45100" y="31180"/>
                  </a:lnTo>
                  <a:lnTo>
                    <a:pt x="41354" y="36017"/>
                  </a:lnTo>
                  <a:lnTo>
                    <a:pt x="38010" y="41782"/>
                  </a:lnTo>
                  <a:lnTo>
                    <a:pt x="34935" y="48165"/>
                  </a:lnTo>
                  <a:lnTo>
                    <a:pt x="32037" y="54961"/>
                  </a:lnTo>
                  <a:lnTo>
                    <a:pt x="29259" y="62032"/>
                  </a:lnTo>
                  <a:lnTo>
                    <a:pt x="23915" y="76661"/>
                  </a:lnTo>
                  <a:lnTo>
                    <a:pt x="5936" y="129541"/>
                  </a:lnTo>
                  <a:lnTo>
                    <a:pt x="849" y="144765"/>
                  </a:lnTo>
                  <a:lnTo>
                    <a:pt x="0" y="152380"/>
                  </a:lnTo>
                  <a:lnTo>
                    <a:pt x="281" y="159998"/>
                  </a:lnTo>
                  <a:lnTo>
                    <a:pt x="1315" y="167616"/>
                  </a:lnTo>
                  <a:lnTo>
                    <a:pt x="2005" y="175235"/>
                  </a:lnTo>
                  <a:lnTo>
                    <a:pt x="2464" y="182854"/>
                  </a:lnTo>
                  <a:lnTo>
                    <a:pt x="2770" y="190473"/>
                  </a:lnTo>
                  <a:lnTo>
                    <a:pt x="4668" y="197246"/>
                  </a:lnTo>
                  <a:lnTo>
                    <a:pt x="7626" y="203455"/>
                  </a:lnTo>
                  <a:lnTo>
                    <a:pt x="11292" y="209287"/>
                  </a:lnTo>
                  <a:lnTo>
                    <a:pt x="15429" y="214869"/>
                  </a:lnTo>
                  <a:lnTo>
                    <a:pt x="19880" y="220283"/>
                  </a:lnTo>
                  <a:lnTo>
                    <a:pt x="24541" y="225586"/>
                  </a:lnTo>
                  <a:lnTo>
                    <a:pt x="30189" y="229968"/>
                  </a:lnTo>
                  <a:lnTo>
                    <a:pt x="36493" y="233736"/>
                  </a:lnTo>
                  <a:lnTo>
                    <a:pt x="43237" y="237095"/>
                  </a:lnTo>
                  <a:lnTo>
                    <a:pt x="50272" y="239334"/>
                  </a:lnTo>
                  <a:lnTo>
                    <a:pt x="57502" y="240827"/>
                  </a:lnTo>
                  <a:lnTo>
                    <a:pt x="64863" y="241822"/>
                  </a:lnTo>
                  <a:lnTo>
                    <a:pt x="73156" y="242485"/>
                  </a:lnTo>
                  <a:lnTo>
                    <a:pt x="82072" y="242928"/>
                  </a:lnTo>
                  <a:lnTo>
                    <a:pt x="100163" y="243419"/>
                  </a:lnTo>
                  <a:lnTo>
                    <a:pt x="116669" y="243637"/>
                  </a:lnTo>
                  <a:lnTo>
                    <a:pt x="125474" y="242849"/>
                  </a:lnTo>
                  <a:lnTo>
                    <a:pt x="134731" y="241477"/>
                  </a:lnTo>
                  <a:lnTo>
                    <a:pt x="144288" y="239715"/>
                  </a:lnTo>
                  <a:lnTo>
                    <a:pt x="152353" y="236847"/>
                  </a:lnTo>
                  <a:lnTo>
                    <a:pt x="159423" y="233242"/>
                  </a:lnTo>
                  <a:lnTo>
                    <a:pt x="165830" y="229146"/>
                  </a:lnTo>
                  <a:lnTo>
                    <a:pt x="171794" y="225568"/>
                  </a:lnTo>
                  <a:lnTo>
                    <a:pt x="177464" y="222336"/>
                  </a:lnTo>
                  <a:lnTo>
                    <a:pt x="188279" y="216487"/>
                  </a:lnTo>
                  <a:lnTo>
                    <a:pt x="198730" y="211066"/>
                  </a:lnTo>
                  <a:lnTo>
                    <a:pt x="202195" y="207588"/>
                  </a:lnTo>
                  <a:lnTo>
                    <a:pt x="204504" y="203576"/>
                  </a:lnTo>
                  <a:lnTo>
                    <a:pt x="208211" y="193061"/>
                  </a:lnTo>
                  <a:lnTo>
                    <a:pt x="207668" y="191351"/>
                  </a:lnTo>
                  <a:lnTo>
                    <a:pt x="204808" y="187194"/>
                  </a:lnTo>
                  <a:lnTo>
                    <a:pt x="202859" y="185747"/>
                  </a:lnTo>
                  <a:lnTo>
                    <a:pt x="200714" y="184782"/>
                  </a:lnTo>
                  <a:lnTo>
                    <a:pt x="195226" y="183710"/>
                  </a:lnTo>
                  <a:lnTo>
                    <a:pt x="191391" y="183424"/>
                  </a:lnTo>
                  <a:lnTo>
                    <a:pt x="187142" y="183233"/>
                  </a:lnTo>
                  <a:lnTo>
                    <a:pt x="183462" y="183953"/>
                  </a:lnTo>
                  <a:lnTo>
                    <a:pt x="177116" y="187010"/>
                  </a:lnTo>
                  <a:lnTo>
                    <a:pt x="172546" y="189011"/>
                  </a:lnTo>
                  <a:lnTo>
                    <a:pt x="166958" y="191191"/>
                  </a:lnTo>
                  <a:lnTo>
                    <a:pt x="160693" y="193492"/>
                  </a:lnTo>
                  <a:lnTo>
                    <a:pt x="155670" y="195872"/>
                  </a:lnTo>
                  <a:lnTo>
                    <a:pt x="151474" y="198305"/>
                  </a:lnTo>
                  <a:lnTo>
                    <a:pt x="147831" y="200774"/>
                  </a:lnTo>
                  <a:lnTo>
                    <a:pt x="141524" y="208033"/>
                  </a:lnTo>
                  <a:lnTo>
                    <a:pt x="135899" y="216057"/>
                  </a:lnTo>
                  <a:lnTo>
                    <a:pt x="130577" y="222445"/>
                  </a:lnTo>
                  <a:lnTo>
                    <a:pt x="130512" y="225334"/>
                  </a:lnTo>
                  <a:lnTo>
                    <a:pt x="132162" y="228107"/>
                  </a:lnTo>
                  <a:lnTo>
                    <a:pt x="142576" y="238312"/>
                  </a:lnTo>
                  <a:lnTo>
                    <a:pt x="146978" y="242685"/>
                  </a:lnTo>
                  <a:lnTo>
                    <a:pt x="152453" y="246448"/>
                  </a:lnTo>
                  <a:lnTo>
                    <a:pt x="158643" y="249802"/>
                  </a:lnTo>
                  <a:lnTo>
                    <a:pt x="171448" y="255788"/>
                  </a:lnTo>
                  <a:lnTo>
                    <a:pt x="182783" y="261270"/>
                  </a:lnTo>
                  <a:lnTo>
                    <a:pt x="189023" y="263917"/>
                  </a:lnTo>
                  <a:lnTo>
                    <a:pt x="195723" y="266529"/>
                  </a:lnTo>
                  <a:lnTo>
                    <a:pt x="216743" y="2742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SMARTInkAnnotation9"/>
            <p:cNvSpPr/>
            <p:nvPr/>
          </p:nvSpPr>
          <p:spPr>
            <a:xfrm>
              <a:off x="3301920" y="2201760"/>
              <a:ext cx="181080" cy="135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81174" h="135522">
                  <a:moveTo>
                    <a:pt x="181173" y="15145"/>
                  </a:moveTo>
                  <a:lnTo>
                    <a:pt x="181173" y="3573"/>
                  </a:lnTo>
                  <a:lnTo>
                    <a:pt x="180327" y="2350"/>
                  </a:lnTo>
                  <a:lnTo>
                    <a:pt x="178916" y="1535"/>
                  </a:lnTo>
                  <a:lnTo>
                    <a:pt x="175090" y="629"/>
                  </a:lnTo>
                  <a:lnTo>
                    <a:pt x="170567" y="227"/>
                  </a:lnTo>
                  <a:lnTo>
                    <a:pt x="165735" y="48"/>
                  </a:lnTo>
                  <a:lnTo>
                    <a:pt x="163261" y="0"/>
                  </a:lnTo>
                  <a:lnTo>
                    <a:pt x="159072" y="815"/>
                  </a:lnTo>
                  <a:lnTo>
                    <a:pt x="153738" y="2206"/>
                  </a:lnTo>
                  <a:lnTo>
                    <a:pt x="147643" y="3979"/>
                  </a:lnTo>
                  <a:lnTo>
                    <a:pt x="126930" y="10519"/>
                  </a:lnTo>
                  <a:lnTo>
                    <a:pt x="118764" y="13755"/>
                  </a:lnTo>
                  <a:lnTo>
                    <a:pt x="109934" y="17605"/>
                  </a:lnTo>
                  <a:lnTo>
                    <a:pt x="100660" y="21865"/>
                  </a:lnTo>
                  <a:lnTo>
                    <a:pt x="91938" y="27245"/>
                  </a:lnTo>
                  <a:lnTo>
                    <a:pt x="83583" y="33372"/>
                  </a:lnTo>
                  <a:lnTo>
                    <a:pt x="75473" y="39996"/>
                  </a:lnTo>
                  <a:lnTo>
                    <a:pt x="66680" y="46106"/>
                  </a:lnTo>
                  <a:lnTo>
                    <a:pt x="57431" y="51872"/>
                  </a:lnTo>
                  <a:lnTo>
                    <a:pt x="47879" y="57410"/>
                  </a:lnTo>
                  <a:lnTo>
                    <a:pt x="39817" y="62795"/>
                  </a:lnTo>
                  <a:lnTo>
                    <a:pt x="32749" y="68078"/>
                  </a:lnTo>
                  <a:lnTo>
                    <a:pt x="26343" y="73294"/>
                  </a:lnTo>
                  <a:lnTo>
                    <a:pt x="21227" y="78464"/>
                  </a:lnTo>
                  <a:lnTo>
                    <a:pt x="16970" y="83605"/>
                  </a:lnTo>
                  <a:lnTo>
                    <a:pt x="13284" y="88725"/>
                  </a:lnTo>
                  <a:lnTo>
                    <a:pt x="9981" y="93831"/>
                  </a:lnTo>
                  <a:lnTo>
                    <a:pt x="6931" y="98929"/>
                  </a:lnTo>
                  <a:lnTo>
                    <a:pt x="4052" y="104021"/>
                  </a:lnTo>
                  <a:lnTo>
                    <a:pt x="2133" y="108262"/>
                  </a:lnTo>
                  <a:lnTo>
                    <a:pt x="853" y="111937"/>
                  </a:lnTo>
                  <a:lnTo>
                    <a:pt x="0" y="115233"/>
                  </a:lnTo>
                  <a:lnTo>
                    <a:pt x="278" y="118277"/>
                  </a:lnTo>
                  <a:lnTo>
                    <a:pt x="1309" y="121153"/>
                  </a:lnTo>
                  <a:lnTo>
                    <a:pt x="2844" y="123917"/>
                  </a:lnTo>
                  <a:lnTo>
                    <a:pt x="6407" y="126606"/>
                  </a:lnTo>
                  <a:lnTo>
                    <a:pt x="11322" y="129246"/>
                  </a:lnTo>
                  <a:lnTo>
                    <a:pt x="17139" y="131852"/>
                  </a:lnTo>
                  <a:lnTo>
                    <a:pt x="22711" y="133590"/>
                  </a:lnTo>
                  <a:lnTo>
                    <a:pt x="28118" y="134748"/>
                  </a:lnTo>
                  <a:lnTo>
                    <a:pt x="33416" y="135521"/>
                  </a:lnTo>
                  <a:lnTo>
                    <a:pt x="39489" y="135189"/>
                  </a:lnTo>
                  <a:lnTo>
                    <a:pt x="46077" y="134121"/>
                  </a:lnTo>
                  <a:lnTo>
                    <a:pt x="61017" y="130677"/>
                  </a:lnTo>
                  <a:lnTo>
                    <a:pt x="78946" y="126324"/>
                  </a:lnTo>
                  <a:lnTo>
                    <a:pt x="87622" y="123978"/>
                  </a:lnTo>
                  <a:lnTo>
                    <a:pt x="104034" y="119113"/>
                  </a:lnTo>
                  <a:lnTo>
                    <a:pt x="111121" y="115784"/>
                  </a:lnTo>
                  <a:lnTo>
                    <a:pt x="117538" y="111871"/>
                  </a:lnTo>
                  <a:lnTo>
                    <a:pt x="123510" y="107569"/>
                  </a:lnTo>
                  <a:lnTo>
                    <a:pt x="129184" y="102161"/>
                  </a:lnTo>
                  <a:lnTo>
                    <a:pt x="134660" y="96016"/>
                  </a:lnTo>
                  <a:lnTo>
                    <a:pt x="140005" y="89379"/>
                  </a:lnTo>
                  <a:lnTo>
                    <a:pt x="144415" y="83261"/>
                  </a:lnTo>
                  <a:lnTo>
                    <a:pt x="148201" y="77489"/>
                  </a:lnTo>
                  <a:lnTo>
                    <a:pt x="151572" y="71948"/>
                  </a:lnTo>
                  <a:lnTo>
                    <a:pt x="154665" y="66560"/>
                  </a:lnTo>
                  <a:lnTo>
                    <a:pt x="160361" y="56058"/>
                  </a:lnTo>
                  <a:lnTo>
                    <a:pt x="161372" y="50887"/>
                  </a:lnTo>
                  <a:lnTo>
                    <a:pt x="161198" y="45747"/>
                  </a:lnTo>
                  <a:lnTo>
                    <a:pt x="160237" y="40626"/>
                  </a:lnTo>
                  <a:lnTo>
                    <a:pt x="158749" y="36366"/>
                  </a:lnTo>
                  <a:lnTo>
                    <a:pt x="156910" y="32679"/>
                  </a:lnTo>
                  <a:lnTo>
                    <a:pt x="154838" y="29374"/>
                  </a:lnTo>
                  <a:lnTo>
                    <a:pt x="152610" y="27171"/>
                  </a:lnTo>
                  <a:lnTo>
                    <a:pt x="150278" y="25703"/>
                  </a:lnTo>
                  <a:lnTo>
                    <a:pt x="147876" y="24723"/>
                  </a:lnTo>
                  <a:lnTo>
                    <a:pt x="144582" y="24071"/>
                  </a:lnTo>
                  <a:lnTo>
                    <a:pt x="140692" y="23636"/>
                  </a:lnTo>
                  <a:lnTo>
                    <a:pt x="136406" y="23345"/>
                  </a:lnTo>
                  <a:lnTo>
                    <a:pt x="129386" y="23023"/>
                  </a:lnTo>
                  <a:lnTo>
                    <a:pt x="120213" y="227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SMARTInkAnnotation10"/>
            <p:cNvSpPr/>
            <p:nvPr/>
          </p:nvSpPr>
          <p:spPr>
            <a:xfrm>
              <a:off x="3343320" y="2361600"/>
              <a:ext cx="162360" cy="1519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62381" h="151934">
                  <a:moveTo>
                    <a:pt x="71150" y="7620"/>
                  </a:moveTo>
                  <a:lnTo>
                    <a:pt x="67105" y="11666"/>
                  </a:lnTo>
                  <a:lnTo>
                    <a:pt x="64220" y="13704"/>
                  </a:lnTo>
                  <a:lnTo>
                    <a:pt x="60604" y="15909"/>
                  </a:lnTo>
                  <a:lnTo>
                    <a:pt x="56499" y="18226"/>
                  </a:lnTo>
                  <a:lnTo>
                    <a:pt x="53763" y="20617"/>
                  </a:lnTo>
                  <a:lnTo>
                    <a:pt x="51938" y="23058"/>
                  </a:lnTo>
                  <a:lnTo>
                    <a:pt x="50722" y="25532"/>
                  </a:lnTo>
                  <a:lnTo>
                    <a:pt x="47371" y="28875"/>
                  </a:lnTo>
                  <a:lnTo>
                    <a:pt x="42598" y="32797"/>
                  </a:lnTo>
                  <a:lnTo>
                    <a:pt x="36876" y="37105"/>
                  </a:lnTo>
                  <a:lnTo>
                    <a:pt x="32213" y="42516"/>
                  </a:lnTo>
                  <a:lnTo>
                    <a:pt x="28259" y="48664"/>
                  </a:lnTo>
                  <a:lnTo>
                    <a:pt x="24776" y="55303"/>
                  </a:lnTo>
                  <a:lnTo>
                    <a:pt x="20761" y="62268"/>
                  </a:lnTo>
                  <a:lnTo>
                    <a:pt x="16391" y="69452"/>
                  </a:lnTo>
                  <a:lnTo>
                    <a:pt x="11783" y="76782"/>
                  </a:lnTo>
                  <a:lnTo>
                    <a:pt x="7866" y="83361"/>
                  </a:lnTo>
                  <a:lnTo>
                    <a:pt x="4407" y="89441"/>
                  </a:lnTo>
                  <a:lnTo>
                    <a:pt x="1255" y="95187"/>
                  </a:lnTo>
                  <a:lnTo>
                    <a:pt x="0" y="101558"/>
                  </a:lnTo>
                  <a:lnTo>
                    <a:pt x="10" y="108346"/>
                  </a:lnTo>
                  <a:lnTo>
                    <a:pt x="863" y="115410"/>
                  </a:lnTo>
                  <a:lnTo>
                    <a:pt x="3125" y="120967"/>
                  </a:lnTo>
                  <a:lnTo>
                    <a:pt x="6327" y="125518"/>
                  </a:lnTo>
                  <a:lnTo>
                    <a:pt x="10155" y="129399"/>
                  </a:lnTo>
                  <a:lnTo>
                    <a:pt x="14400" y="132832"/>
                  </a:lnTo>
                  <a:lnTo>
                    <a:pt x="18924" y="135968"/>
                  </a:lnTo>
                  <a:lnTo>
                    <a:pt x="23633" y="138905"/>
                  </a:lnTo>
                  <a:lnTo>
                    <a:pt x="30158" y="141711"/>
                  </a:lnTo>
                  <a:lnTo>
                    <a:pt x="37896" y="144427"/>
                  </a:lnTo>
                  <a:lnTo>
                    <a:pt x="46441" y="147085"/>
                  </a:lnTo>
                  <a:lnTo>
                    <a:pt x="54677" y="148857"/>
                  </a:lnTo>
                  <a:lnTo>
                    <a:pt x="62708" y="150038"/>
                  </a:lnTo>
                  <a:lnTo>
                    <a:pt x="70602" y="150825"/>
                  </a:lnTo>
                  <a:lnTo>
                    <a:pt x="78405" y="151350"/>
                  </a:lnTo>
                  <a:lnTo>
                    <a:pt x="86146" y="151700"/>
                  </a:lnTo>
                  <a:lnTo>
                    <a:pt x="93848" y="151933"/>
                  </a:lnTo>
                  <a:lnTo>
                    <a:pt x="101522" y="150396"/>
                  </a:lnTo>
                  <a:lnTo>
                    <a:pt x="109178" y="147677"/>
                  </a:lnTo>
                  <a:lnTo>
                    <a:pt x="116822" y="144171"/>
                  </a:lnTo>
                  <a:lnTo>
                    <a:pt x="124458" y="140141"/>
                  </a:lnTo>
                  <a:lnTo>
                    <a:pt x="132089" y="135761"/>
                  </a:lnTo>
                  <a:lnTo>
                    <a:pt x="139716" y="131147"/>
                  </a:lnTo>
                  <a:lnTo>
                    <a:pt x="145648" y="126378"/>
                  </a:lnTo>
                  <a:lnTo>
                    <a:pt x="150448" y="121505"/>
                  </a:lnTo>
                  <a:lnTo>
                    <a:pt x="154496" y="116564"/>
                  </a:lnTo>
                  <a:lnTo>
                    <a:pt x="157194" y="110729"/>
                  </a:lnTo>
                  <a:lnTo>
                    <a:pt x="158993" y="104299"/>
                  </a:lnTo>
                  <a:lnTo>
                    <a:pt x="160192" y="97473"/>
                  </a:lnTo>
                  <a:lnTo>
                    <a:pt x="160991" y="90382"/>
                  </a:lnTo>
                  <a:lnTo>
                    <a:pt x="161524" y="83115"/>
                  </a:lnTo>
                  <a:lnTo>
                    <a:pt x="161880" y="75730"/>
                  </a:lnTo>
                  <a:lnTo>
                    <a:pt x="162275" y="60751"/>
                  </a:lnTo>
                  <a:lnTo>
                    <a:pt x="162380" y="53201"/>
                  </a:lnTo>
                  <a:lnTo>
                    <a:pt x="159910" y="46474"/>
                  </a:lnTo>
                  <a:lnTo>
                    <a:pt x="155724" y="40296"/>
                  </a:lnTo>
                  <a:lnTo>
                    <a:pt x="145145" y="28916"/>
                  </a:lnTo>
                  <a:lnTo>
                    <a:pt x="134799" y="18214"/>
                  </a:lnTo>
                  <a:lnTo>
                    <a:pt x="129670" y="13836"/>
                  </a:lnTo>
                  <a:lnTo>
                    <a:pt x="124556" y="10071"/>
                  </a:lnTo>
                  <a:lnTo>
                    <a:pt x="119454" y="6714"/>
                  </a:lnTo>
                  <a:lnTo>
                    <a:pt x="112666" y="4476"/>
                  </a:lnTo>
                  <a:lnTo>
                    <a:pt x="104754" y="2984"/>
                  </a:lnTo>
                  <a:lnTo>
                    <a:pt x="96093" y="1989"/>
                  </a:lnTo>
                  <a:lnTo>
                    <a:pt x="86932" y="1326"/>
                  </a:lnTo>
                  <a:lnTo>
                    <a:pt x="77438" y="884"/>
                  </a:lnTo>
                  <a:lnTo>
                    <a:pt x="52411" y="262"/>
                  </a:lnTo>
                  <a:lnTo>
                    <a:pt x="3305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SMARTInkAnnotation11"/>
            <p:cNvSpPr/>
            <p:nvPr/>
          </p:nvSpPr>
          <p:spPr>
            <a:xfrm>
              <a:off x="1448280" y="2811240"/>
              <a:ext cx="22680" cy="228600"/>
            </a:xfrm>
            <a:custGeom>
              <a:avLst/>
              <a:gdLst>
                <a:gd name="textAreaLeft" fmla="*/ 0 w 22680"/>
                <a:gd name="textAreaRight" fmla="*/ 22680 w 2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2861" h="228601">
                  <a:moveTo>
                    <a:pt x="0" y="0"/>
                  </a:moveTo>
                  <a:lnTo>
                    <a:pt x="0" y="11351"/>
                  </a:lnTo>
                  <a:lnTo>
                    <a:pt x="847" y="15187"/>
                  </a:lnTo>
                  <a:lnTo>
                    <a:pt x="2258" y="20285"/>
                  </a:lnTo>
                  <a:lnTo>
                    <a:pt x="4045" y="26223"/>
                  </a:lnTo>
                  <a:lnTo>
                    <a:pt x="5237" y="31875"/>
                  </a:lnTo>
                  <a:lnTo>
                    <a:pt x="6031" y="37337"/>
                  </a:lnTo>
                  <a:lnTo>
                    <a:pt x="6561" y="42672"/>
                  </a:lnTo>
                  <a:lnTo>
                    <a:pt x="6914" y="48767"/>
                  </a:lnTo>
                  <a:lnTo>
                    <a:pt x="7306" y="62315"/>
                  </a:lnTo>
                  <a:lnTo>
                    <a:pt x="8257" y="69483"/>
                  </a:lnTo>
                  <a:lnTo>
                    <a:pt x="9738" y="76802"/>
                  </a:lnTo>
                  <a:lnTo>
                    <a:pt x="11572" y="84221"/>
                  </a:lnTo>
                  <a:lnTo>
                    <a:pt x="12795" y="92554"/>
                  </a:lnTo>
                  <a:lnTo>
                    <a:pt x="13610" y="101496"/>
                  </a:lnTo>
                  <a:lnTo>
                    <a:pt x="14153" y="110844"/>
                  </a:lnTo>
                  <a:lnTo>
                    <a:pt x="14757" y="130262"/>
                  </a:lnTo>
                  <a:lnTo>
                    <a:pt x="15198" y="184532"/>
                  </a:lnTo>
                  <a:lnTo>
                    <a:pt x="15212" y="194141"/>
                  </a:lnTo>
                  <a:lnTo>
                    <a:pt x="16068" y="202241"/>
                  </a:lnTo>
                  <a:lnTo>
                    <a:pt x="17485" y="209334"/>
                  </a:lnTo>
                  <a:lnTo>
                    <a:pt x="22860" y="2286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SMARTInkAnnotation12"/>
            <p:cNvSpPr/>
            <p:nvPr/>
          </p:nvSpPr>
          <p:spPr>
            <a:xfrm>
              <a:off x="1356840" y="2933280"/>
              <a:ext cx="144720" cy="75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44781" h="7621">
                  <a:moveTo>
                    <a:pt x="0" y="7620"/>
                  </a:moveTo>
                  <a:lnTo>
                    <a:pt x="42606" y="7620"/>
                  </a:lnTo>
                  <a:lnTo>
                    <a:pt x="49571" y="6773"/>
                  </a:lnTo>
                  <a:lnTo>
                    <a:pt x="57601" y="5362"/>
                  </a:lnTo>
                  <a:lnTo>
                    <a:pt x="66341" y="3575"/>
                  </a:lnTo>
                  <a:lnTo>
                    <a:pt x="74707" y="2383"/>
                  </a:lnTo>
                  <a:lnTo>
                    <a:pt x="82825" y="1589"/>
                  </a:lnTo>
                  <a:lnTo>
                    <a:pt x="90776" y="1059"/>
                  </a:lnTo>
                  <a:lnTo>
                    <a:pt x="98617" y="706"/>
                  </a:lnTo>
                  <a:lnTo>
                    <a:pt x="114103" y="314"/>
                  </a:lnTo>
                  <a:lnTo>
                    <a:pt x="1447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SMARTInkAnnotation13"/>
            <p:cNvSpPr/>
            <p:nvPr/>
          </p:nvSpPr>
          <p:spPr>
            <a:xfrm>
              <a:off x="1585440" y="2819160"/>
              <a:ext cx="312120" cy="181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312421" h="181268">
                  <a:moveTo>
                    <a:pt x="0" y="37996"/>
                  </a:moveTo>
                  <a:lnTo>
                    <a:pt x="0" y="31435"/>
                  </a:lnTo>
                  <a:lnTo>
                    <a:pt x="847" y="31082"/>
                  </a:lnTo>
                  <a:lnTo>
                    <a:pt x="4045" y="30690"/>
                  </a:lnTo>
                  <a:lnTo>
                    <a:pt x="5237" y="29739"/>
                  </a:lnTo>
                  <a:lnTo>
                    <a:pt x="6031" y="28258"/>
                  </a:lnTo>
                  <a:lnTo>
                    <a:pt x="6561" y="26424"/>
                  </a:lnTo>
                  <a:lnTo>
                    <a:pt x="8607" y="24354"/>
                  </a:lnTo>
                  <a:lnTo>
                    <a:pt x="15396" y="19797"/>
                  </a:lnTo>
                  <a:lnTo>
                    <a:pt x="20424" y="17397"/>
                  </a:lnTo>
                  <a:lnTo>
                    <a:pt x="26316" y="14950"/>
                  </a:lnTo>
                  <a:lnTo>
                    <a:pt x="32784" y="12472"/>
                  </a:lnTo>
                  <a:lnTo>
                    <a:pt x="40483" y="10820"/>
                  </a:lnTo>
                  <a:lnTo>
                    <a:pt x="49002" y="9719"/>
                  </a:lnTo>
                  <a:lnTo>
                    <a:pt x="58068" y="8985"/>
                  </a:lnTo>
                  <a:lnTo>
                    <a:pt x="67499" y="7648"/>
                  </a:lnTo>
                  <a:lnTo>
                    <a:pt x="77172" y="5911"/>
                  </a:lnTo>
                  <a:lnTo>
                    <a:pt x="87008" y="3906"/>
                  </a:lnTo>
                  <a:lnTo>
                    <a:pt x="96952" y="2569"/>
                  </a:lnTo>
                  <a:lnTo>
                    <a:pt x="106968" y="1678"/>
                  </a:lnTo>
                  <a:lnTo>
                    <a:pt x="117032" y="1084"/>
                  </a:lnTo>
                  <a:lnTo>
                    <a:pt x="137245" y="424"/>
                  </a:lnTo>
                  <a:lnTo>
                    <a:pt x="177817" y="0"/>
                  </a:lnTo>
                  <a:lnTo>
                    <a:pt x="185431" y="812"/>
                  </a:lnTo>
                  <a:lnTo>
                    <a:pt x="191354" y="2200"/>
                  </a:lnTo>
                  <a:lnTo>
                    <a:pt x="200193" y="6000"/>
                  </a:lnTo>
                  <a:lnTo>
                    <a:pt x="206944" y="10511"/>
                  </a:lnTo>
                  <a:lnTo>
                    <a:pt x="209082" y="12899"/>
                  </a:lnTo>
                  <a:lnTo>
                    <a:pt x="210508" y="15338"/>
                  </a:lnTo>
                  <a:lnTo>
                    <a:pt x="211459" y="17811"/>
                  </a:lnTo>
                  <a:lnTo>
                    <a:pt x="211246" y="20306"/>
                  </a:lnTo>
                  <a:lnTo>
                    <a:pt x="210257" y="22816"/>
                  </a:lnTo>
                  <a:lnTo>
                    <a:pt x="208752" y="25336"/>
                  </a:lnTo>
                  <a:lnTo>
                    <a:pt x="206054" y="28709"/>
                  </a:lnTo>
                  <a:lnTo>
                    <a:pt x="202563" y="32652"/>
                  </a:lnTo>
                  <a:lnTo>
                    <a:pt x="194168" y="41547"/>
                  </a:lnTo>
                  <a:lnTo>
                    <a:pt x="184792" y="51145"/>
                  </a:lnTo>
                  <a:lnTo>
                    <a:pt x="178228" y="56076"/>
                  </a:lnTo>
                  <a:lnTo>
                    <a:pt x="170465" y="61056"/>
                  </a:lnTo>
                  <a:lnTo>
                    <a:pt x="161904" y="66069"/>
                  </a:lnTo>
                  <a:lnTo>
                    <a:pt x="153656" y="71951"/>
                  </a:lnTo>
                  <a:lnTo>
                    <a:pt x="145617" y="78413"/>
                  </a:lnTo>
                  <a:lnTo>
                    <a:pt x="137718" y="85261"/>
                  </a:lnTo>
                  <a:lnTo>
                    <a:pt x="129912" y="91519"/>
                  </a:lnTo>
                  <a:lnTo>
                    <a:pt x="122168" y="97385"/>
                  </a:lnTo>
                  <a:lnTo>
                    <a:pt x="106790" y="108418"/>
                  </a:lnTo>
                  <a:lnTo>
                    <a:pt x="91489" y="118966"/>
                  </a:lnTo>
                  <a:lnTo>
                    <a:pt x="85546" y="124149"/>
                  </a:lnTo>
                  <a:lnTo>
                    <a:pt x="80737" y="129298"/>
                  </a:lnTo>
                  <a:lnTo>
                    <a:pt x="76685" y="134424"/>
                  </a:lnTo>
                  <a:lnTo>
                    <a:pt x="73983" y="138688"/>
                  </a:lnTo>
                  <a:lnTo>
                    <a:pt x="72182" y="142378"/>
                  </a:lnTo>
                  <a:lnTo>
                    <a:pt x="70982" y="145684"/>
                  </a:lnTo>
                  <a:lnTo>
                    <a:pt x="71875" y="148735"/>
                  </a:lnTo>
                  <a:lnTo>
                    <a:pt x="74163" y="151615"/>
                  </a:lnTo>
                  <a:lnTo>
                    <a:pt x="81221" y="157074"/>
                  </a:lnTo>
                  <a:lnTo>
                    <a:pt x="90003" y="162322"/>
                  </a:lnTo>
                  <a:lnTo>
                    <a:pt x="96408" y="164907"/>
                  </a:lnTo>
                  <a:lnTo>
                    <a:pt x="104066" y="167476"/>
                  </a:lnTo>
                  <a:lnTo>
                    <a:pt x="112557" y="170036"/>
                  </a:lnTo>
                  <a:lnTo>
                    <a:pt x="122451" y="172590"/>
                  </a:lnTo>
                  <a:lnTo>
                    <a:pt x="144734" y="177684"/>
                  </a:lnTo>
                  <a:lnTo>
                    <a:pt x="156602" y="179382"/>
                  </a:lnTo>
                  <a:lnTo>
                    <a:pt x="168748" y="180513"/>
                  </a:lnTo>
                  <a:lnTo>
                    <a:pt x="181079" y="181267"/>
                  </a:lnTo>
                  <a:lnTo>
                    <a:pt x="193532" y="180924"/>
                  </a:lnTo>
                  <a:lnTo>
                    <a:pt x="206068" y="179848"/>
                  </a:lnTo>
                  <a:lnTo>
                    <a:pt x="218659" y="178284"/>
                  </a:lnTo>
                  <a:lnTo>
                    <a:pt x="230439" y="177241"/>
                  </a:lnTo>
                  <a:lnTo>
                    <a:pt x="241679" y="176546"/>
                  </a:lnTo>
                  <a:lnTo>
                    <a:pt x="261506" y="175774"/>
                  </a:lnTo>
                  <a:lnTo>
                    <a:pt x="275963" y="175431"/>
                  </a:lnTo>
                  <a:lnTo>
                    <a:pt x="283035" y="174493"/>
                  </a:lnTo>
                  <a:lnTo>
                    <a:pt x="290290" y="173021"/>
                  </a:lnTo>
                  <a:lnTo>
                    <a:pt x="312420" y="1675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MARTInkAnnotation14"/>
            <p:cNvSpPr/>
            <p:nvPr/>
          </p:nvSpPr>
          <p:spPr>
            <a:xfrm>
              <a:off x="3040920" y="2674080"/>
              <a:ext cx="15120" cy="182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5211" h="182881">
                  <a:moveTo>
                    <a:pt x="0" y="0"/>
                  </a:moveTo>
                  <a:lnTo>
                    <a:pt x="0" y="10606"/>
                  </a:lnTo>
                  <a:lnTo>
                    <a:pt x="846" y="12997"/>
                  </a:lnTo>
                  <a:lnTo>
                    <a:pt x="2258" y="15438"/>
                  </a:lnTo>
                  <a:lnTo>
                    <a:pt x="4045" y="17912"/>
                  </a:lnTo>
                  <a:lnTo>
                    <a:pt x="5237" y="22101"/>
                  </a:lnTo>
                  <a:lnTo>
                    <a:pt x="6031" y="27434"/>
                  </a:lnTo>
                  <a:lnTo>
                    <a:pt x="6561" y="33529"/>
                  </a:lnTo>
                  <a:lnTo>
                    <a:pt x="7760" y="40133"/>
                  </a:lnTo>
                  <a:lnTo>
                    <a:pt x="9407" y="47075"/>
                  </a:lnTo>
                  <a:lnTo>
                    <a:pt x="11351" y="54244"/>
                  </a:lnTo>
                  <a:lnTo>
                    <a:pt x="12647" y="61563"/>
                  </a:lnTo>
                  <a:lnTo>
                    <a:pt x="13512" y="68982"/>
                  </a:lnTo>
                  <a:lnTo>
                    <a:pt x="14088" y="76468"/>
                  </a:lnTo>
                  <a:lnTo>
                    <a:pt x="14472" y="84845"/>
                  </a:lnTo>
                  <a:lnTo>
                    <a:pt x="14898" y="103185"/>
                  </a:lnTo>
                  <a:lnTo>
                    <a:pt x="15210" y="156139"/>
                  </a:lnTo>
                  <a:lnTo>
                    <a:pt x="14373" y="163359"/>
                  </a:lnTo>
                  <a:lnTo>
                    <a:pt x="12968" y="169019"/>
                  </a:lnTo>
                  <a:lnTo>
                    <a:pt x="7620" y="1828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MARTInkAnnotation15"/>
            <p:cNvSpPr/>
            <p:nvPr/>
          </p:nvSpPr>
          <p:spPr>
            <a:xfrm>
              <a:off x="2957040" y="2750400"/>
              <a:ext cx="182880" cy="1512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82881" h="15241">
                  <a:moveTo>
                    <a:pt x="0" y="15240"/>
                  </a:moveTo>
                  <a:lnTo>
                    <a:pt x="4046" y="11195"/>
                  </a:lnTo>
                  <a:lnTo>
                    <a:pt x="6930" y="9156"/>
                  </a:lnTo>
                  <a:lnTo>
                    <a:pt x="10547" y="6951"/>
                  </a:lnTo>
                  <a:lnTo>
                    <a:pt x="14651" y="4634"/>
                  </a:lnTo>
                  <a:lnTo>
                    <a:pt x="19081" y="3936"/>
                  </a:lnTo>
                  <a:lnTo>
                    <a:pt x="23727" y="4318"/>
                  </a:lnTo>
                  <a:lnTo>
                    <a:pt x="28518" y="5419"/>
                  </a:lnTo>
                  <a:lnTo>
                    <a:pt x="35099" y="5306"/>
                  </a:lnTo>
                  <a:lnTo>
                    <a:pt x="42873" y="4384"/>
                  </a:lnTo>
                  <a:lnTo>
                    <a:pt x="51442" y="2923"/>
                  </a:lnTo>
                  <a:lnTo>
                    <a:pt x="60541" y="1949"/>
                  </a:lnTo>
                  <a:lnTo>
                    <a:pt x="69994" y="1299"/>
                  </a:lnTo>
                  <a:lnTo>
                    <a:pt x="79683" y="866"/>
                  </a:lnTo>
                  <a:lnTo>
                    <a:pt x="101737" y="385"/>
                  </a:lnTo>
                  <a:lnTo>
                    <a:pt x="18288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SMARTInkAnnotation16"/>
            <p:cNvSpPr/>
            <p:nvPr/>
          </p:nvSpPr>
          <p:spPr>
            <a:xfrm>
              <a:off x="3330720" y="2628360"/>
              <a:ext cx="220680" cy="22068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20981" h="220886">
                  <a:moveTo>
                    <a:pt x="0" y="15145"/>
                  </a:moveTo>
                  <a:lnTo>
                    <a:pt x="4045" y="15145"/>
                  </a:lnTo>
                  <a:lnTo>
                    <a:pt x="7777" y="14298"/>
                  </a:lnTo>
                  <a:lnTo>
                    <a:pt x="12805" y="12887"/>
                  </a:lnTo>
                  <a:lnTo>
                    <a:pt x="26989" y="8584"/>
                  </a:lnTo>
                  <a:lnTo>
                    <a:pt x="30692" y="8231"/>
                  </a:lnTo>
                  <a:lnTo>
                    <a:pt x="35702" y="7996"/>
                  </a:lnTo>
                  <a:lnTo>
                    <a:pt x="41581" y="7839"/>
                  </a:lnTo>
                  <a:lnTo>
                    <a:pt x="48887" y="6888"/>
                  </a:lnTo>
                  <a:lnTo>
                    <a:pt x="57145" y="5407"/>
                  </a:lnTo>
                  <a:lnTo>
                    <a:pt x="66037" y="3573"/>
                  </a:lnTo>
                  <a:lnTo>
                    <a:pt x="74505" y="2350"/>
                  </a:lnTo>
                  <a:lnTo>
                    <a:pt x="82690" y="1535"/>
                  </a:lnTo>
                  <a:lnTo>
                    <a:pt x="90686" y="992"/>
                  </a:lnTo>
                  <a:lnTo>
                    <a:pt x="99404" y="629"/>
                  </a:lnTo>
                  <a:lnTo>
                    <a:pt x="118122" y="227"/>
                  </a:lnTo>
                  <a:lnTo>
                    <a:pt x="147700" y="0"/>
                  </a:lnTo>
                  <a:lnTo>
                    <a:pt x="156887" y="815"/>
                  </a:lnTo>
                  <a:lnTo>
                    <a:pt x="165551" y="2205"/>
                  </a:lnTo>
                  <a:lnTo>
                    <a:pt x="173868" y="3979"/>
                  </a:lnTo>
                  <a:lnTo>
                    <a:pt x="181105" y="5161"/>
                  </a:lnTo>
                  <a:lnTo>
                    <a:pt x="187623" y="5949"/>
                  </a:lnTo>
                  <a:lnTo>
                    <a:pt x="193662" y="6474"/>
                  </a:lnTo>
                  <a:lnTo>
                    <a:pt x="198535" y="8518"/>
                  </a:lnTo>
                  <a:lnTo>
                    <a:pt x="202630" y="11574"/>
                  </a:lnTo>
                  <a:lnTo>
                    <a:pt x="215285" y="24600"/>
                  </a:lnTo>
                  <a:lnTo>
                    <a:pt x="216337" y="27375"/>
                  </a:lnTo>
                  <a:lnTo>
                    <a:pt x="216192" y="30072"/>
                  </a:lnTo>
                  <a:lnTo>
                    <a:pt x="213772" y="36172"/>
                  </a:lnTo>
                  <a:lnTo>
                    <a:pt x="209874" y="44528"/>
                  </a:lnTo>
                  <a:lnTo>
                    <a:pt x="206803" y="48281"/>
                  </a:lnTo>
                  <a:lnTo>
                    <a:pt x="203063" y="51629"/>
                  </a:lnTo>
                  <a:lnTo>
                    <a:pt x="198875" y="54707"/>
                  </a:lnTo>
                  <a:lnTo>
                    <a:pt x="193543" y="59300"/>
                  </a:lnTo>
                  <a:lnTo>
                    <a:pt x="187449" y="64901"/>
                  </a:lnTo>
                  <a:lnTo>
                    <a:pt x="180846" y="71176"/>
                  </a:lnTo>
                  <a:lnTo>
                    <a:pt x="173904" y="77053"/>
                  </a:lnTo>
                  <a:lnTo>
                    <a:pt x="166736" y="82663"/>
                  </a:lnTo>
                  <a:lnTo>
                    <a:pt x="159418" y="88097"/>
                  </a:lnTo>
                  <a:lnTo>
                    <a:pt x="152845" y="93413"/>
                  </a:lnTo>
                  <a:lnTo>
                    <a:pt x="146770" y="98651"/>
                  </a:lnTo>
                  <a:lnTo>
                    <a:pt x="141026" y="103835"/>
                  </a:lnTo>
                  <a:lnTo>
                    <a:pt x="134658" y="108138"/>
                  </a:lnTo>
                  <a:lnTo>
                    <a:pt x="127872" y="111854"/>
                  </a:lnTo>
                  <a:lnTo>
                    <a:pt x="120808" y="115178"/>
                  </a:lnTo>
                  <a:lnTo>
                    <a:pt x="115252" y="119087"/>
                  </a:lnTo>
                  <a:lnTo>
                    <a:pt x="110701" y="123386"/>
                  </a:lnTo>
                  <a:lnTo>
                    <a:pt x="106821" y="127946"/>
                  </a:lnTo>
                  <a:lnTo>
                    <a:pt x="103387" y="131832"/>
                  </a:lnTo>
                  <a:lnTo>
                    <a:pt x="97315" y="138408"/>
                  </a:lnTo>
                  <a:lnTo>
                    <a:pt x="95356" y="142194"/>
                  </a:lnTo>
                  <a:lnTo>
                    <a:pt x="94051" y="146411"/>
                  </a:lnTo>
                  <a:lnTo>
                    <a:pt x="93181" y="150916"/>
                  </a:lnTo>
                  <a:lnTo>
                    <a:pt x="93447" y="154765"/>
                  </a:lnTo>
                  <a:lnTo>
                    <a:pt x="94471" y="158178"/>
                  </a:lnTo>
                  <a:lnTo>
                    <a:pt x="96001" y="161301"/>
                  </a:lnTo>
                  <a:lnTo>
                    <a:pt x="98714" y="165075"/>
                  </a:lnTo>
                  <a:lnTo>
                    <a:pt x="102216" y="169285"/>
                  </a:lnTo>
                  <a:lnTo>
                    <a:pt x="106244" y="173785"/>
                  </a:lnTo>
                  <a:lnTo>
                    <a:pt x="111470" y="177632"/>
                  </a:lnTo>
                  <a:lnTo>
                    <a:pt x="117493" y="181043"/>
                  </a:lnTo>
                  <a:lnTo>
                    <a:pt x="140364" y="192147"/>
                  </a:lnTo>
                  <a:lnTo>
                    <a:pt x="149456" y="196646"/>
                  </a:lnTo>
                  <a:lnTo>
                    <a:pt x="159751" y="200492"/>
                  </a:lnTo>
                  <a:lnTo>
                    <a:pt x="170847" y="203903"/>
                  </a:lnTo>
                  <a:lnTo>
                    <a:pt x="182478" y="207024"/>
                  </a:lnTo>
                  <a:lnTo>
                    <a:pt x="191926" y="209951"/>
                  </a:lnTo>
                  <a:lnTo>
                    <a:pt x="199917" y="212749"/>
                  </a:lnTo>
                  <a:lnTo>
                    <a:pt x="220980" y="2208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MARTInkAnnotation17"/>
            <p:cNvSpPr/>
            <p:nvPr/>
          </p:nvSpPr>
          <p:spPr>
            <a:xfrm>
              <a:off x="871200" y="3337560"/>
              <a:ext cx="271440" cy="2818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271446" h="281775">
                  <a:moveTo>
                    <a:pt x="135201" y="0"/>
                  </a:moveTo>
                  <a:lnTo>
                    <a:pt x="128640" y="6561"/>
                  </a:lnTo>
                  <a:lnTo>
                    <a:pt x="123536" y="9407"/>
                  </a:lnTo>
                  <a:lnTo>
                    <a:pt x="116470" y="13494"/>
                  </a:lnTo>
                  <a:lnTo>
                    <a:pt x="110507" y="18133"/>
                  </a:lnTo>
                  <a:lnTo>
                    <a:pt x="102777" y="23017"/>
                  </a:lnTo>
                  <a:lnTo>
                    <a:pt x="98345" y="25504"/>
                  </a:lnTo>
                  <a:lnTo>
                    <a:pt x="93697" y="28857"/>
                  </a:lnTo>
                  <a:lnTo>
                    <a:pt x="88905" y="32785"/>
                  </a:lnTo>
                  <a:lnTo>
                    <a:pt x="84017" y="37096"/>
                  </a:lnTo>
                  <a:lnTo>
                    <a:pt x="78218" y="40818"/>
                  </a:lnTo>
                  <a:lnTo>
                    <a:pt x="71812" y="44145"/>
                  </a:lnTo>
                  <a:lnTo>
                    <a:pt x="65002" y="47210"/>
                  </a:lnTo>
                  <a:lnTo>
                    <a:pt x="58768" y="50947"/>
                  </a:lnTo>
                  <a:lnTo>
                    <a:pt x="52919" y="55131"/>
                  </a:lnTo>
                  <a:lnTo>
                    <a:pt x="47326" y="59614"/>
                  </a:lnTo>
                  <a:lnTo>
                    <a:pt x="41905" y="63449"/>
                  </a:lnTo>
                  <a:lnTo>
                    <a:pt x="36597" y="66853"/>
                  </a:lnTo>
                  <a:lnTo>
                    <a:pt x="31365" y="69969"/>
                  </a:lnTo>
                  <a:lnTo>
                    <a:pt x="26183" y="72893"/>
                  </a:lnTo>
                  <a:lnTo>
                    <a:pt x="15911" y="78399"/>
                  </a:lnTo>
                  <a:lnTo>
                    <a:pt x="7959" y="83668"/>
                  </a:lnTo>
                  <a:lnTo>
                    <a:pt x="4653" y="86259"/>
                  </a:lnTo>
                  <a:lnTo>
                    <a:pt x="2449" y="88833"/>
                  </a:lnTo>
                  <a:lnTo>
                    <a:pt x="979" y="91395"/>
                  </a:lnTo>
                  <a:lnTo>
                    <a:pt x="0" y="93950"/>
                  </a:lnTo>
                  <a:lnTo>
                    <a:pt x="194" y="95654"/>
                  </a:lnTo>
                  <a:lnTo>
                    <a:pt x="1169" y="96789"/>
                  </a:lnTo>
                  <a:lnTo>
                    <a:pt x="2667" y="97546"/>
                  </a:lnTo>
                  <a:lnTo>
                    <a:pt x="6588" y="98388"/>
                  </a:lnTo>
                  <a:lnTo>
                    <a:pt x="12846" y="99608"/>
                  </a:lnTo>
                  <a:lnTo>
                    <a:pt x="18071" y="101118"/>
                  </a:lnTo>
                  <a:lnTo>
                    <a:pt x="24094" y="102973"/>
                  </a:lnTo>
                  <a:lnTo>
                    <a:pt x="30650" y="104208"/>
                  </a:lnTo>
                  <a:lnTo>
                    <a:pt x="37560" y="105032"/>
                  </a:lnTo>
                  <a:lnTo>
                    <a:pt x="44707" y="105582"/>
                  </a:lnTo>
                  <a:lnTo>
                    <a:pt x="53705" y="105948"/>
                  </a:lnTo>
                  <a:lnTo>
                    <a:pt x="85748" y="106463"/>
                  </a:lnTo>
                  <a:lnTo>
                    <a:pt x="106731" y="106584"/>
                  </a:lnTo>
                  <a:lnTo>
                    <a:pt x="117914" y="107462"/>
                  </a:lnTo>
                  <a:lnTo>
                    <a:pt x="129603" y="108895"/>
                  </a:lnTo>
                  <a:lnTo>
                    <a:pt x="141629" y="110697"/>
                  </a:lnTo>
                  <a:lnTo>
                    <a:pt x="153033" y="112745"/>
                  </a:lnTo>
                  <a:lnTo>
                    <a:pt x="164022" y="114956"/>
                  </a:lnTo>
                  <a:lnTo>
                    <a:pt x="185264" y="119672"/>
                  </a:lnTo>
                  <a:lnTo>
                    <a:pt x="205994" y="124590"/>
                  </a:lnTo>
                  <a:lnTo>
                    <a:pt x="214569" y="127086"/>
                  </a:lnTo>
                  <a:lnTo>
                    <a:pt x="221980" y="129598"/>
                  </a:lnTo>
                  <a:lnTo>
                    <a:pt x="228614" y="132119"/>
                  </a:lnTo>
                  <a:lnTo>
                    <a:pt x="234729" y="135492"/>
                  </a:lnTo>
                  <a:lnTo>
                    <a:pt x="240500" y="139435"/>
                  </a:lnTo>
                  <a:lnTo>
                    <a:pt x="246040" y="143757"/>
                  </a:lnTo>
                  <a:lnTo>
                    <a:pt x="251427" y="148331"/>
                  </a:lnTo>
                  <a:lnTo>
                    <a:pt x="256712" y="153075"/>
                  </a:lnTo>
                  <a:lnTo>
                    <a:pt x="261928" y="157930"/>
                  </a:lnTo>
                  <a:lnTo>
                    <a:pt x="265406" y="163707"/>
                  </a:lnTo>
                  <a:lnTo>
                    <a:pt x="267724" y="170098"/>
                  </a:lnTo>
                  <a:lnTo>
                    <a:pt x="269270" y="176899"/>
                  </a:lnTo>
                  <a:lnTo>
                    <a:pt x="270300" y="183126"/>
                  </a:lnTo>
                  <a:lnTo>
                    <a:pt x="270987" y="188970"/>
                  </a:lnTo>
                  <a:lnTo>
                    <a:pt x="271445" y="194560"/>
                  </a:lnTo>
                  <a:lnTo>
                    <a:pt x="270904" y="200827"/>
                  </a:lnTo>
                  <a:lnTo>
                    <a:pt x="269696" y="207545"/>
                  </a:lnTo>
                  <a:lnTo>
                    <a:pt x="268045" y="214563"/>
                  </a:lnTo>
                  <a:lnTo>
                    <a:pt x="265250" y="221782"/>
                  </a:lnTo>
                  <a:lnTo>
                    <a:pt x="261694" y="229135"/>
                  </a:lnTo>
                  <a:lnTo>
                    <a:pt x="257629" y="236576"/>
                  </a:lnTo>
                  <a:lnTo>
                    <a:pt x="253227" y="242384"/>
                  </a:lnTo>
                  <a:lnTo>
                    <a:pt x="248598" y="247103"/>
                  </a:lnTo>
                  <a:lnTo>
                    <a:pt x="243819" y="251095"/>
                  </a:lnTo>
                  <a:lnTo>
                    <a:pt x="237247" y="255450"/>
                  </a:lnTo>
                  <a:lnTo>
                    <a:pt x="229478" y="260047"/>
                  </a:lnTo>
                  <a:lnTo>
                    <a:pt x="213508" y="268823"/>
                  </a:lnTo>
                  <a:lnTo>
                    <a:pt x="200767" y="275546"/>
                  </a:lnTo>
                  <a:lnTo>
                    <a:pt x="193305" y="277677"/>
                  </a:lnTo>
                  <a:lnTo>
                    <a:pt x="184943" y="279098"/>
                  </a:lnTo>
                  <a:lnTo>
                    <a:pt x="175983" y="280046"/>
                  </a:lnTo>
                  <a:lnTo>
                    <a:pt x="167469" y="280677"/>
                  </a:lnTo>
                  <a:lnTo>
                    <a:pt x="159253" y="281098"/>
                  </a:lnTo>
                  <a:lnTo>
                    <a:pt x="142504" y="281566"/>
                  </a:lnTo>
                  <a:lnTo>
                    <a:pt x="123771" y="281774"/>
                  </a:lnTo>
                  <a:lnTo>
                    <a:pt x="114881" y="280983"/>
                  </a:lnTo>
                  <a:lnTo>
                    <a:pt x="106414" y="279608"/>
                  </a:lnTo>
                  <a:lnTo>
                    <a:pt x="98230" y="277846"/>
                  </a:lnTo>
                  <a:lnTo>
                    <a:pt x="91080" y="275824"/>
                  </a:lnTo>
                  <a:lnTo>
                    <a:pt x="84620" y="273629"/>
                  </a:lnTo>
                  <a:lnTo>
                    <a:pt x="66621" y="2667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MARTInkAnnotation18"/>
            <p:cNvSpPr/>
            <p:nvPr/>
          </p:nvSpPr>
          <p:spPr>
            <a:xfrm>
              <a:off x="998640" y="3322080"/>
              <a:ext cx="289440" cy="15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9561" h="15241">
                  <a:moveTo>
                    <a:pt x="0" y="15240"/>
                  </a:moveTo>
                  <a:lnTo>
                    <a:pt x="4045" y="15240"/>
                  </a:lnTo>
                  <a:lnTo>
                    <a:pt x="6084" y="14393"/>
                  </a:lnTo>
                  <a:lnTo>
                    <a:pt x="8289" y="12982"/>
                  </a:lnTo>
                  <a:lnTo>
                    <a:pt x="13867" y="8679"/>
                  </a:lnTo>
                  <a:lnTo>
                    <a:pt x="16018" y="8326"/>
                  </a:lnTo>
                  <a:lnTo>
                    <a:pt x="22924" y="7934"/>
                  </a:lnTo>
                  <a:lnTo>
                    <a:pt x="40377" y="7713"/>
                  </a:lnTo>
                  <a:lnTo>
                    <a:pt x="61635" y="7648"/>
                  </a:lnTo>
                  <a:lnTo>
                    <a:pt x="70723" y="6792"/>
                  </a:lnTo>
                  <a:lnTo>
                    <a:pt x="81016" y="5375"/>
                  </a:lnTo>
                  <a:lnTo>
                    <a:pt x="92111" y="3583"/>
                  </a:lnTo>
                  <a:lnTo>
                    <a:pt x="102894" y="2389"/>
                  </a:lnTo>
                  <a:lnTo>
                    <a:pt x="113469" y="1593"/>
                  </a:lnTo>
                  <a:lnTo>
                    <a:pt x="123906" y="1062"/>
                  </a:lnTo>
                  <a:lnTo>
                    <a:pt x="146792" y="472"/>
                  </a:lnTo>
                  <a:lnTo>
                    <a:pt x="2895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MARTInkAnnotation19"/>
            <p:cNvSpPr/>
            <p:nvPr/>
          </p:nvSpPr>
          <p:spPr>
            <a:xfrm>
              <a:off x="1318680" y="3352680"/>
              <a:ext cx="190440" cy="2055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90501" h="205741">
                  <a:moveTo>
                    <a:pt x="190500" y="0"/>
                  </a:moveTo>
                  <a:lnTo>
                    <a:pt x="190500" y="4045"/>
                  </a:lnTo>
                  <a:lnTo>
                    <a:pt x="189654" y="6084"/>
                  </a:lnTo>
                  <a:lnTo>
                    <a:pt x="186455" y="10606"/>
                  </a:lnTo>
                  <a:lnTo>
                    <a:pt x="185263" y="13844"/>
                  </a:lnTo>
                  <a:lnTo>
                    <a:pt x="184469" y="17696"/>
                  </a:lnTo>
                  <a:lnTo>
                    <a:pt x="183939" y="21957"/>
                  </a:lnTo>
                  <a:lnTo>
                    <a:pt x="182740" y="26491"/>
                  </a:lnTo>
                  <a:lnTo>
                    <a:pt x="181093" y="31208"/>
                  </a:lnTo>
                  <a:lnTo>
                    <a:pt x="179149" y="36045"/>
                  </a:lnTo>
                  <a:lnTo>
                    <a:pt x="176159" y="41810"/>
                  </a:lnTo>
                  <a:lnTo>
                    <a:pt x="172473" y="48194"/>
                  </a:lnTo>
                  <a:lnTo>
                    <a:pt x="168322" y="54989"/>
                  </a:lnTo>
                  <a:lnTo>
                    <a:pt x="164708" y="61213"/>
                  </a:lnTo>
                  <a:lnTo>
                    <a:pt x="158435" y="72644"/>
                  </a:lnTo>
                  <a:lnTo>
                    <a:pt x="153883" y="79756"/>
                  </a:lnTo>
                  <a:lnTo>
                    <a:pt x="148309" y="87884"/>
                  </a:lnTo>
                  <a:lnTo>
                    <a:pt x="142053" y="96689"/>
                  </a:lnTo>
                  <a:lnTo>
                    <a:pt x="135342" y="104253"/>
                  </a:lnTo>
                  <a:lnTo>
                    <a:pt x="128328" y="110989"/>
                  </a:lnTo>
                  <a:lnTo>
                    <a:pt x="121112" y="117172"/>
                  </a:lnTo>
                  <a:lnTo>
                    <a:pt x="114608" y="123835"/>
                  </a:lnTo>
                  <a:lnTo>
                    <a:pt x="108579" y="130817"/>
                  </a:lnTo>
                  <a:lnTo>
                    <a:pt x="102866" y="138011"/>
                  </a:lnTo>
                  <a:lnTo>
                    <a:pt x="97364" y="145347"/>
                  </a:lnTo>
                  <a:lnTo>
                    <a:pt x="86735" y="160272"/>
                  </a:lnTo>
                  <a:lnTo>
                    <a:pt x="80683" y="166962"/>
                  </a:lnTo>
                  <a:lnTo>
                    <a:pt x="74109" y="173115"/>
                  </a:lnTo>
                  <a:lnTo>
                    <a:pt x="67186" y="178910"/>
                  </a:lnTo>
                  <a:lnTo>
                    <a:pt x="60877" y="183620"/>
                  </a:lnTo>
                  <a:lnTo>
                    <a:pt x="54978" y="187607"/>
                  </a:lnTo>
                  <a:lnTo>
                    <a:pt x="49352" y="191111"/>
                  </a:lnTo>
                  <a:lnTo>
                    <a:pt x="43908" y="194294"/>
                  </a:lnTo>
                  <a:lnTo>
                    <a:pt x="38585" y="197262"/>
                  </a:lnTo>
                  <a:lnTo>
                    <a:pt x="33344" y="200089"/>
                  </a:lnTo>
                  <a:lnTo>
                    <a:pt x="28156" y="201973"/>
                  </a:lnTo>
                  <a:lnTo>
                    <a:pt x="23004" y="203228"/>
                  </a:lnTo>
                  <a:lnTo>
                    <a:pt x="17876" y="204065"/>
                  </a:lnTo>
                  <a:lnTo>
                    <a:pt x="13611" y="204624"/>
                  </a:lnTo>
                  <a:lnTo>
                    <a:pt x="9920" y="204996"/>
                  </a:lnTo>
                  <a:lnTo>
                    <a:pt x="0" y="2057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SMARTInkAnnotation20"/>
            <p:cNvSpPr/>
            <p:nvPr/>
          </p:nvSpPr>
          <p:spPr>
            <a:xfrm>
              <a:off x="1326600" y="3436560"/>
              <a:ext cx="236160" cy="608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36221" h="60961">
                  <a:moveTo>
                    <a:pt x="0" y="0"/>
                  </a:moveTo>
                  <a:lnTo>
                    <a:pt x="84301" y="0"/>
                  </a:lnTo>
                  <a:lnTo>
                    <a:pt x="91760" y="847"/>
                  </a:lnTo>
                  <a:lnTo>
                    <a:pt x="99274" y="2258"/>
                  </a:lnTo>
                  <a:lnTo>
                    <a:pt x="106823" y="4046"/>
                  </a:lnTo>
                  <a:lnTo>
                    <a:pt x="114395" y="6930"/>
                  </a:lnTo>
                  <a:lnTo>
                    <a:pt x="121983" y="10547"/>
                  </a:lnTo>
                  <a:lnTo>
                    <a:pt x="129582" y="14652"/>
                  </a:lnTo>
                  <a:lnTo>
                    <a:pt x="137188" y="18234"/>
                  </a:lnTo>
                  <a:lnTo>
                    <a:pt x="144799" y="21470"/>
                  </a:lnTo>
                  <a:lnTo>
                    <a:pt x="152413" y="24473"/>
                  </a:lnTo>
                  <a:lnTo>
                    <a:pt x="160028" y="28169"/>
                  </a:lnTo>
                  <a:lnTo>
                    <a:pt x="167646" y="32326"/>
                  </a:lnTo>
                  <a:lnTo>
                    <a:pt x="175264" y="36791"/>
                  </a:lnTo>
                  <a:lnTo>
                    <a:pt x="183729" y="40614"/>
                  </a:lnTo>
                  <a:lnTo>
                    <a:pt x="192760" y="44009"/>
                  </a:lnTo>
                  <a:lnTo>
                    <a:pt x="202166" y="47120"/>
                  </a:lnTo>
                  <a:lnTo>
                    <a:pt x="209284" y="50040"/>
                  </a:lnTo>
                  <a:lnTo>
                    <a:pt x="214876" y="52833"/>
                  </a:lnTo>
                  <a:lnTo>
                    <a:pt x="219451" y="55542"/>
                  </a:lnTo>
                  <a:lnTo>
                    <a:pt x="223347" y="57348"/>
                  </a:lnTo>
                  <a:lnTo>
                    <a:pt x="226791" y="58552"/>
                  </a:lnTo>
                  <a:lnTo>
                    <a:pt x="236220" y="609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MARTInkAnnotation21"/>
            <p:cNvSpPr/>
            <p:nvPr/>
          </p:nvSpPr>
          <p:spPr>
            <a:xfrm>
              <a:off x="1890360" y="3436560"/>
              <a:ext cx="174960" cy="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75261" h="1">
                  <a:moveTo>
                    <a:pt x="0" y="0"/>
                  </a:moveTo>
                  <a:lnTo>
                    <a:pt x="1752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MARTInkAnnotation22"/>
            <p:cNvSpPr/>
            <p:nvPr/>
          </p:nvSpPr>
          <p:spPr>
            <a:xfrm>
              <a:off x="2073240" y="3474720"/>
              <a:ext cx="220680" cy="378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0981" h="38101">
                  <a:moveTo>
                    <a:pt x="0" y="0"/>
                  </a:moveTo>
                  <a:lnTo>
                    <a:pt x="0" y="6561"/>
                  </a:lnTo>
                  <a:lnTo>
                    <a:pt x="847" y="6914"/>
                  </a:lnTo>
                  <a:lnTo>
                    <a:pt x="4046" y="7307"/>
                  </a:lnTo>
                  <a:lnTo>
                    <a:pt x="6084" y="8258"/>
                  </a:lnTo>
                  <a:lnTo>
                    <a:pt x="8289" y="9739"/>
                  </a:lnTo>
                  <a:lnTo>
                    <a:pt x="10606" y="11573"/>
                  </a:lnTo>
                  <a:lnTo>
                    <a:pt x="13844" y="13641"/>
                  </a:lnTo>
                  <a:lnTo>
                    <a:pt x="17696" y="15868"/>
                  </a:lnTo>
                  <a:lnTo>
                    <a:pt x="21958" y="18199"/>
                  </a:lnTo>
                  <a:lnTo>
                    <a:pt x="28185" y="19752"/>
                  </a:lnTo>
                  <a:lnTo>
                    <a:pt x="35724" y="20788"/>
                  </a:lnTo>
                  <a:lnTo>
                    <a:pt x="44136" y="21479"/>
                  </a:lnTo>
                  <a:lnTo>
                    <a:pt x="52284" y="22786"/>
                  </a:lnTo>
                  <a:lnTo>
                    <a:pt x="60256" y="24504"/>
                  </a:lnTo>
                  <a:lnTo>
                    <a:pt x="68111" y="26496"/>
                  </a:lnTo>
                  <a:lnTo>
                    <a:pt x="78428" y="27824"/>
                  </a:lnTo>
                  <a:lnTo>
                    <a:pt x="90385" y="28710"/>
                  </a:lnTo>
                  <a:lnTo>
                    <a:pt x="103437" y="29300"/>
                  </a:lnTo>
                  <a:lnTo>
                    <a:pt x="129227" y="29956"/>
                  </a:lnTo>
                  <a:lnTo>
                    <a:pt x="180278" y="30377"/>
                  </a:lnTo>
                  <a:lnTo>
                    <a:pt x="190459" y="31258"/>
                  </a:lnTo>
                  <a:lnTo>
                    <a:pt x="198939" y="32692"/>
                  </a:lnTo>
                  <a:lnTo>
                    <a:pt x="220980" y="38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SMARTInkAnnotation23"/>
            <p:cNvSpPr/>
            <p:nvPr/>
          </p:nvSpPr>
          <p:spPr>
            <a:xfrm>
              <a:off x="2606760" y="3253680"/>
              <a:ext cx="213120" cy="28944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213177" h="289522">
                  <a:moveTo>
                    <a:pt x="7620" y="60921"/>
                  </a:moveTo>
                  <a:lnTo>
                    <a:pt x="7620" y="56876"/>
                  </a:lnTo>
                  <a:lnTo>
                    <a:pt x="8467" y="55684"/>
                  </a:lnTo>
                  <a:lnTo>
                    <a:pt x="9878" y="54890"/>
                  </a:lnTo>
                  <a:lnTo>
                    <a:pt x="11665" y="54361"/>
                  </a:lnTo>
                  <a:lnTo>
                    <a:pt x="15909" y="51514"/>
                  </a:lnTo>
                  <a:lnTo>
                    <a:pt x="18226" y="49570"/>
                  </a:lnTo>
                  <a:lnTo>
                    <a:pt x="21465" y="48274"/>
                  </a:lnTo>
                  <a:lnTo>
                    <a:pt x="25316" y="47409"/>
                  </a:lnTo>
                  <a:lnTo>
                    <a:pt x="29578" y="46833"/>
                  </a:lnTo>
                  <a:lnTo>
                    <a:pt x="34959" y="45603"/>
                  </a:lnTo>
                  <a:lnTo>
                    <a:pt x="41086" y="43936"/>
                  </a:lnTo>
                  <a:lnTo>
                    <a:pt x="54667" y="39825"/>
                  </a:lnTo>
                  <a:lnTo>
                    <a:pt x="69170" y="35176"/>
                  </a:lnTo>
                  <a:lnTo>
                    <a:pt x="77440" y="32751"/>
                  </a:lnTo>
                  <a:lnTo>
                    <a:pt x="95660" y="27799"/>
                  </a:lnTo>
                  <a:lnTo>
                    <a:pt x="124958" y="20251"/>
                  </a:lnTo>
                  <a:lnTo>
                    <a:pt x="134105" y="17721"/>
                  </a:lnTo>
                  <a:lnTo>
                    <a:pt x="151043" y="12652"/>
                  </a:lnTo>
                  <a:lnTo>
                    <a:pt x="174858" y="5038"/>
                  </a:lnTo>
                  <a:lnTo>
                    <a:pt x="181765" y="3346"/>
                  </a:lnTo>
                  <a:lnTo>
                    <a:pt x="188063" y="2218"/>
                  </a:lnTo>
                  <a:lnTo>
                    <a:pt x="193956" y="1466"/>
                  </a:lnTo>
                  <a:lnTo>
                    <a:pt x="198730" y="964"/>
                  </a:lnTo>
                  <a:lnTo>
                    <a:pt x="202760" y="630"/>
                  </a:lnTo>
                  <a:lnTo>
                    <a:pt x="212739" y="0"/>
                  </a:lnTo>
                  <a:lnTo>
                    <a:pt x="213084" y="2236"/>
                  </a:lnTo>
                  <a:lnTo>
                    <a:pt x="213176" y="4018"/>
                  </a:lnTo>
                  <a:lnTo>
                    <a:pt x="212391" y="5205"/>
                  </a:lnTo>
                  <a:lnTo>
                    <a:pt x="211021" y="5998"/>
                  </a:lnTo>
                  <a:lnTo>
                    <a:pt x="209260" y="6525"/>
                  </a:lnTo>
                  <a:lnTo>
                    <a:pt x="202789" y="13885"/>
                  </a:lnTo>
                  <a:lnTo>
                    <a:pt x="198693" y="19404"/>
                  </a:lnTo>
                  <a:lnTo>
                    <a:pt x="193422" y="24776"/>
                  </a:lnTo>
                  <a:lnTo>
                    <a:pt x="187368" y="30052"/>
                  </a:lnTo>
                  <a:lnTo>
                    <a:pt x="180792" y="35261"/>
                  </a:lnTo>
                  <a:lnTo>
                    <a:pt x="174715" y="41275"/>
                  </a:lnTo>
                  <a:lnTo>
                    <a:pt x="168970" y="47823"/>
                  </a:lnTo>
                  <a:lnTo>
                    <a:pt x="163447" y="54730"/>
                  </a:lnTo>
                  <a:lnTo>
                    <a:pt x="156378" y="62720"/>
                  </a:lnTo>
                  <a:lnTo>
                    <a:pt x="139492" y="80629"/>
                  </a:lnTo>
                  <a:lnTo>
                    <a:pt x="110946" y="109753"/>
                  </a:lnTo>
                  <a:lnTo>
                    <a:pt x="102750" y="119722"/>
                  </a:lnTo>
                  <a:lnTo>
                    <a:pt x="95594" y="129755"/>
                  </a:lnTo>
                  <a:lnTo>
                    <a:pt x="89129" y="139830"/>
                  </a:lnTo>
                  <a:lnTo>
                    <a:pt x="81433" y="149087"/>
                  </a:lnTo>
                  <a:lnTo>
                    <a:pt x="72915" y="157798"/>
                  </a:lnTo>
                  <a:lnTo>
                    <a:pt x="63850" y="166146"/>
                  </a:lnTo>
                  <a:lnTo>
                    <a:pt x="56114" y="175097"/>
                  </a:lnTo>
                  <a:lnTo>
                    <a:pt x="49262" y="184452"/>
                  </a:lnTo>
                  <a:lnTo>
                    <a:pt x="43002" y="194075"/>
                  </a:lnTo>
                  <a:lnTo>
                    <a:pt x="37981" y="203031"/>
                  </a:lnTo>
                  <a:lnTo>
                    <a:pt x="33788" y="211541"/>
                  </a:lnTo>
                  <a:lnTo>
                    <a:pt x="30145" y="219754"/>
                  </a:lnTo>
                  <a:lnTo>
                    <a:pt x="26024" y="226923"/>
                  </a:lnTo>
                  <a:lnTo>
                    <a:pt x="21582" y="233396"/>
                  </a:lnTo>
                  <a:lnTo>
                    <a:pt x="16928" y="239405"/>
                  </a:lnTo>
                  <a:lnTo>
                    <a:pt x="13826" y="245103"/>
                  </a:lnTo>
                  <a:lnTo>
                    <a:pt x="11757" y="250596"/>
                  </a:lnTo>
                  <a:lnTo>
                    <a:pt x="10378" y="255951"/>
                  </a:lnTo>
                  <a:lnTo>
                    <a:pt x="6589" y="264159"/>
                  </a:lnTo>
                  <a:lnTo>
                    <a:pt x="2928" y="270629"/>
                  </a:lnTo>
                  <a:lnTo>
                    <a:pt x="1302" y="276327"/>
                  </a:lnTo>
                  <a:lnTo>
                    <a:pt x="386" y="284295"/>
                  </a:lnTo>
                  <a:lnTo>
                    <a:pt x="0" y="2895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MARTInkAnnotation24"/>
            <p:cNvSpPr/>
            <p:nvPr/>
          </p:nvSpPr>
          <p:spPr>
            <a:xfrm>
              <a:off x="2545560" y="3405960"/>
              <a:ext cx="258840" cy="226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59081" h="22825">
                  <a:moveTo>
                    <a:pt x="0" y="0"/>
                  </a:moveTo>
                  <a:lnTo>
                    <a:pt x="40090" y="0"/>
                  </a:lnTo>
                  <a:lnTo>
                    <a:pt x="47894" y="847"/>
                  </a:lnTo>
                  <a:lnTo>
                    <a:pt x="56482" y="2258"/>
                  </a:lnTo>
                  <a:lnTo>
                    <a:pt x="65595" y="4045"/>
                  </a:lnTo>
                  <a:lnTo>
                    <a:pt x="74210" y="5237"/>
                  </a:lnTo>
                  <a:lnTo>
                    <a:pt x="82493" y="6031"/>
                  </a:lnTo>
                  <a:lnTo>
                    <a:pt x="90556" y="6561"/>
                  </a:lnTo>
                  <a:lnTo>
                    <a:pt x="98470" y="7761"/>
                  </a:lnTo>
                  <a:lnTo>
                    <a:pt x="106287" y="9407"/>
                  </a:lnTo>
                  <a:lnTo>
                    <a:pt x="141128" y="18133"/>
                  </a:lnTo>
                  <a:lnTo>
                    <a:pt x="150812" y="19709"/>
                  </a:lnTo>
                  <a:lnTo>
                    <a:pt x="160655" y="20759"/>
                  </a:lnTo>
                  <a:lnTo>
                    <a:pt x="170603" y="21460"/>
                  </a:lnTo>
                  <a:lnTo>
                    <a:pt x="180622" y="21927"/>
                  </a:lnTo>
                  <a:lnTo>
                    <a:pt x="200785" y="22445"/>
                  </a:lnTo>
                  <a:lnTo>
                    <a:pt x="240419" y="22824"/>
                  </a:lnTo>
                  <a:lnTo>
                    <a:pt x="244946" y="21990"/>
                  </a:lnTo>
                  <a:lnTo>
                    <a:pt x="248811" y="20586"/>
                  </a:lnTo>
                  <a:lnTo>
                    <a:pt x="259080" y="15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MARTInkAnnotation25"/>
            <p:cNvSpPr/>
            <p:nvPr/>
          </p:nvSpPr>
          <p:spPr>
            <a:xfrm>
              <a:off x="2835360" y="3246120"/>
              <a:ext cx="214560" cy="235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14673" h="235596">
                  <a:moveTo>
                    <a:pt x="152400" y="7612"/>
                  </a:moveTo>
                  <a:lnTo>
                    <a:pt x="152400" y="1051"/>
                  </a:lnTo>
                  <a:lnTo>
                    <a:pt x="153247" y="698"/>
                  </a:lnTo>
                  <a:lnTo>
                    <a:pt x="158961" y="85"/>
                  </a:lnTo>
                  <a:lnTo>
                    <a:pt x="152881" y="10"/>
                  </a:lnTo>
                  <a:lnTo>
                    <a:pt x="145276" y="0"/>
                  </a:lnTo>
                  <a:lnTo>
                    <a:pt x="140877" y="844"/>
                  </a:lnTo>
                  <a:lnTo>
                    <a:pt x="136252" y="2253"/>
                  </a:lnTo>
                  <a:lnTo>
                    <a:pt x="131475" y="4040"/>
                  </a:lnTo>
                  <a:lnTo>
                    <a:pt x="125750" y="6924"/>
                  </a:lnTo>
                  <a:lnTo>
                    <a:pt x="119393" y="10540"/>
                  </a:lnTo>
                  <a:lnTo>
                    <a:pt x="112615" y="14644"/>
                  </a:lnTo>
                  <a:lnTo>
                    <a:pt x="105557" y="19920"/>
                  </a:lnTo>
                  <a:lnTo>
                    <a:pt x="98312" y="25977"/>
                  </a:lnTo>
                  <a:lnTo>
                    <a:pt x="90941" y="32555"/>
                  </a:lnTo>
                  <a:lnTo>
                    <a:pt x="82641" y="39481"/>
                  </a:lnTo>
                  <a:lnTo>
                    <a:pt x="64388" y="53949"/>
                  </a:lnTo>
                  <a:lnTo>
                    <a:pt x="55625" y="62210"/>
                  </a:lnTo>
                  <a:lnTo>
                    <a:pt x="47243" y="71104"/>
                  </a:lnTo>
                  <a:lnTo>
                    <a:pt x="39116" y="80420"/>
                  </a:lnTo>
                  <a:lnTo>
                    <a:pt x="32004" y="89171"/>
                  </a:lnTo>
                  <a:lnTo>
                    <a:pt x="25570" y="97544"/>
                  </a:lnTo>
                  <a:lnTo>
                    <a:pt x="19586" y="105667"/>
                  </a:lnTo>
                  <a:lnTo>
                    <a:pt x="14751" y="113622"/>
                  </a:lnTo>
                  <a:lnTo>
                    <a:pt x="10681" y="121466"/>
                  </a:lnTo>
                  <a:lnTo>
                    <a:pt x="7120" y="129234"/>
                  </a:lnTo>
                  <a:lnTo>
                    <a:pt x="5594" y="136953"/>
                  </a:lnTo>
                  <a:lnTo>
                    <a:pt x="5423" y="144640"/>
                  </a:lnTo>
                  <a:lnTo>
                    <a:pt x="6155" y="152304"/>
                  </a:lnTo>
                  <a:lnTo>
                    <a:pt x="9184" y="159953"/>
                  </a:lnTo>
                  <a:lnTo>
                    <a:pt x="13742" y="167593"/>
                  </a:lnTo>
                  <a:lnTo>
                    <a:pt x="19322" y="175226"/>
                  </a:lnTo>
                  <a:lnTo>
                    <a:pt x="25581" y="182855"/>
                  </a:lnTo>
                  <a:lnTo>
                    <a:pt x="32295" y="190480"/>
                  </a:lnTo>
                  <a:lnTo>
                    <a:pt x="39310" y="198104"/>
                  </a:lnTo>
                  <a:lnTo>
                    <a:pt x="47373" y="204880"/>
                  </a:lnTo>
                  <a:lnTo>
                    <a:pt x="56135" y="211091"/>
                  </a:lnTo>
                  <a:lnTo>
                    <a:pt x="65364" y="216925"/>
                  </a:lnTo>
                  <a:lnTo>
                    <a:pt x="75749" y="221660"/>
                  </a:lnTo>
                  <a:lnTo>
                    <a:pt x="86906" y="225664"/>
                  </a:lnTo>
                  <a:lnTo>
                    <a:pt x="98578" y="229180"/>
                  </a:lnTo>
                  <a:lnTo>
                    <a:pt x="108899" y="231524"/>
                  </a:lnTo>
                  <a:lnTo>
                    <a:pt x="118319" y="233087"/>
                  </a:lnTo>
                  <a:lnTo>
                    <a:pt x="127139" y="234129"/>
                  </a:lnTo>
                  <a:lnTo>
                    <a:pt x="137253" y="234823"/>
                  </a:lnTo>
                  <a:lnTo>
                    <a:pt x="148229" y="235286"/>
                  </a:lnTo>
                  <a:lnTo>
                    <a:pt x="159779" y="235595"/>
                  </a:lnTo>
                  <a:lnTo>
                    <a:pt x="169173" y="234107"/>
                  </a:lnTo>
                  <a:lnTo>
                    <a:pt x="177129" y="231423"/>
                  </a:lnTo>
                  <a:lnTo>
                    <a:pt x="184126" y="227939"/>
                  </a:lnTo>
                  <a:lnTo>
                    <a:pt x="190484" y="223077"/>
                  </a:lnTo>
                  <a:lnTo>
                    <a:pt x="196416" y="217295"/>
                  </a:lnTo>
                  <a:lnTo>
                    <a:pt x="202064" y="210901"/>
                  </a:lnTo>
                  <a:lnTo>
                    <a:pt x="206676" y="204098"/>
                  </a:lnTo>
                  <a:lnTo>
                    <a:pt x="210598" y="197023"/>
                  </a:lnTo>
                  <a:lnTo>
                    <a:pt x="214058" y="189766"/>
                  </a:lnTo>
                  <a:lnTo>
                    <a:pt x="214672" y="182388"/>
                  </a:lnTo>
                  <a:lnTo>
                    <a:pt x="213388" y="174929"/>
                  </a:lnTo>
                  <a:lnTo>
                    <a:pt x="210839" y="167417"/>
                  </a:lnTo>
                  <a:lnTo>
                    <a:pt x="208293" y="159022"/>
                  </a:lnTo>
                  <a:lnTo>
                    <a:pt x="203206" y="140663"/>
                  </a:lnTo>
                  <a:lnTo>
                    <a:pt x="198971" y="131873"/>
                  </a:lnTo>
                  <a:lnTo>
                    <a:pt x="193607" y="123473"/>
                  </a:lnTo>
                  <a:lnTo>
                    <a:pt x="187492" y="115332"/>
                  </a:lnTo>
                  <a:lnTo>
                    <a:pt x="180028" y="107365"/>
                  </a:lnTo>
                  <a:lnTo>
                    <a:pt x="171665" y="99514"/>
                  </a:lnTo>
                  <a:lnTo>
                    <a:pt x="162703" y="91740"/>
                  </a:lnTo>
                  <a:lnTo>
                    <a:pt x="153343" y="84018"/>
                  </a:lnTo>
                  <a:lnTo>
                    <a:pt x="133910" y="68663"/>
                  </a:lnTo>
                  <a:lnTo>
                    <a:pt x="123140" y="61860"/>
                  </a:lnTo>
                  <a:lnTo>
                    <a:pt x="111727" y="55631"/>
                  </a:lnTo>
                  <a:lnTo>
                    <a:pt x="99885" y="49784"/>
                  </a:lnTo>
                  <a:lnTo>
                    <a:pt x="88603" y="45040"/>
                  </a:lnTo>
                  <a:lnTo>
                    <a:pt x="77696" y="41031"/>
                  </a:lnTo>
                  <a:lnTo>
                    <a:pt x="39901" y="28512"/>
                  </a:lnTo>
                  <a:lnTo>
                    <a:pt x="31681" y="26626"/>
                  </a:lnTo>
                  <a:lnTo>
                    <a:pt x="23661" y="25368"/>
                  </a:lnTo>
                  <a:lnTo>
                    <a:pt x="0" y="228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MARTInkAnnotation26"/>
            <p:cNvSpPr/>
            <p:nvPr/>
          </p:nvSpPr>
          <p:spPr>
            <a:xfrm>
              <a:off x="846720" y="3710880"/>
              <a:ext cx="662400" cy="30240"/>
            </a:xfrm>
            <a:custGeom>
              <a:avLst/>
              <a:gdLst>
                <a:gd name="textAreaLeft" fmla="*/ 0 w 662400"/>
                <a:gd name="textAreaRight" fmla="*/ 662760 w 662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662627" h="30480">
                  <a:moveTo>
                    <a:pt x="7306" y="22860"/>
                  </a:moveTo>
                  <a:lnTo>
                    <a:pt x="0" y="22860"/>
                  </a:lnTo>
                  <a:lnTo>
                    <a:pt x="742" y="23707"/>
                  </a:lnTo>
                  <a:lnTo>
                    <a:pt x="3824" y="26905"/>
                  </a:lnTo>
                  <a:lnTo>
                    <a:pt x="6678" y="28097"/>
                  </a:lnTo>
                  <a:lnTo>
                    <a:pt x="10274" y="28892"/>
                  </a:lnTo>
                  <a:lnTo>
                    <a:pt x="20479" y="29774"/>
                  </a:lnTo>
                  <a:lnTo>
                    <a:pt x="36303" y="30166"/>
                  </a:lnTo>
                  <a:lnTo>
                    <a:pt x="272038" y="30479"/>
                  </a:lnTo>
                  <a:lnTo>
                    <a:pt x="293014" y="29633"/>
                  </a:lnTo>
                  <a:lnTo>
                    <a:pt x="314618" y="28222"/>
                  </a:lnTo>
                  <a:lnTo>
                    <a:pt x="336641" y="26435"/>
                  </a:lnTo>
                  <a:lnTo>
                    <a:pt x="358096" y="25243"/>
                  </a:lnTo>
                  <a:lnTo>
                    <a:pt x="399997" y="23920"/>
                  </a:lnTo>
                  <a:lnTo>
                    <a:pt x="420654" y="22720"/>
                  </a:lnTo>
                  <a:lnTo>
                    <a:pt x="441198" y="21073"/>
                  </a:lnTo>
                  <a:lnTo>
                    <a:pt x="461667" y="19129"/>
                  </a:lnTo>
                  <a:lnTo>
                    <a:pt x="481240" y="17832"/>
                  </a:lnTo>
                  <a:lnTo>
                    <a:pt x="500216" y="16968"/>
                  </a:lnTo>
                  <a:lnTo>
                    <a:pt x="518792" y="16392"/>
                  </a:lnTo>
                  <a:lnTo>
                    <a:pt x="536257" y="15162"/>
                  </a:lnTo>
                  <a:lnTo>
                    <a:pt x="552980" y="13494"/>
                  </a:lnTo>
                  <a:lnTo>
                    <a:pt x="569209" y="11536"/>
                  </a:lnTo>
                  <a:lnTo>
                    <a:pt x="584261" y="9384"/>
                  </a:lnTo>
                  <a:lnTo>
                    <a:pt x="612275" y="4735"/>
                  </a:lnTo>
                  <a:lnTo>
                    <a:pt x="623979" y="3157"/>
                  </a:lnTo>
                  <a:lnTo>
                    <a:pt x="634321" y="2105"/>
                  </a:lnTo>
                  <a:lnTo>
                    <a:pt x="66262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SMARTInkAnnotation27"/>
            <p:cNvSpPr/>
            <p:nvPr/>
          </p:nvSpPr>
          <p:spPr>
            <a:xfrm>
              <a:off x="2347560" y="3604320"/>
              <a:ext cx="845640" cy="151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845821" h="15211">
                  <a:moveTo>
                    <a:pt x="0" y="0"/>
                  </a:moveTo>
                  <a:lnTo>
                    <a:pt x="360270" y="0"/>
                  </a:lnTo>
                  <a:lnTo>
                    <a:pt x="382420" y="847"/>
                  </a:lnTo>
                  <a:lnTo>
                    <a:pt x="404806" y="2258"/>
                  </a:lnTo>
                  <a:lnTo>
                    <a:pt x="427351" y="4045"/>
                  </a:lnTo>
                  <a:lnTo>
                    <a:pt x="450001" y="5237"/>
                  </a:lnTo>
                  <a:lnTo>
                    <a:pt x="495487" y="6561"/>
                  </a:lnTo>
                  <a:lnTo>
                    <a:pt x="518285" y="7761"/>
                  </a:lnTo>
                  <a:lnTo>
                    <a:pt x="563936" y="11351"/>
                  </a:lnTo>
                  <a:lnTo>
                    <a:pt x="586777" y="12648"/>
                  </a:lnTo>
                  <a:lnTo>
                    <a:pt x="632477" y="14088"/>
                  </a:lnTo>
                  <a:lnTo>
                    <a:pt x="727927" y="15088"/>
                  </a:lnTo>
                  <a:lnTo>
                    <a:pt x="795816" y="15210"/>
                  </a:lnTo>
                  <a:lnTo>
                    <a:pt x="809097" y="14373"/>
                  </a:lnTo>
                  <a:lnTo>
                    <a:pt x="819644" y="12969"/>
                  </a:lnTo>
                  <a:lnTo>
                    <a:pt x="845820" y="76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SMARTInkAnnotation28"/>
            <p:cNvSpPr/>
            <p:nvPr/>
          </p:nvSpPr>
          <p:spPr>
            <a:xfrm>
              <a:off x="1045080" y="3894120"/>
              <a:ext cx="257760" cy="21276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8002" h="212781">
                  <a:moveTo>
                    <a:pt x="68132" y="0"/>
                  </a:moveTo>
                  <a:lnTo>
                    <a:pt x="68132" y="10606"/>
                  </a:lnTo>
                  <a:lnTo>
                    <a:pt x="67285" y="12997"/>
                  </a:lnTo>
                  <a:lnTo>
                    <a:pt x="64087" y="17912"/>
                  </a:lnTo>
                  <a:lnTo>
                    <a:pt x="62101" y="22919"/>
                  </a:lnTo>
                  <a:lnTo>
                    <a:pt x="60372" y="28813"/>
                  </a:lnTo>
                  <a:lnTo>
                    <a:pt x="58725" y="32755"/>
                  </a:lnTo>
                  <a:lnTo>
                    <a:pt x="56781" y="37077"/>
                  </a:lnTo>
                  <a:lnTo>
                    <a:pt x="54638" y="40805"/>
                  </a:lnTo>
                  <a:lnTo>
                    <a:pt x="49999" y="47204"/>
                  </a:lnTo>
                  <a:lnTo>
                    <a:pt x="46730" y="50943"/>
                  </a:lnTo>
                  <a:lnTo>
                    <a:pt x="42858" y="55128"/>
                  </a:lnTo>
                  <a:lnTo>
                    <a:pt x="38583" y="59612"/>
                  </a:lnTo>
                  <a:lnTo>
                    <a:pt x="34886" y="64295"/>
                  </a:lnTo>
                  <a:lnTo>
                    <a:pt x="31575" y="69110"/>
                  </a:lnTo>
                  <a:lnTo>
                    <a:pt x="28520" y="74013"/>
                  </a:lnTo>
                  <a:lnTo>
                    <a:pt x="25638" y="78976"/>
                  </a:lnTo>
                  <a:lnTo>
                    <a:pt x="20177" y="89005"/>
                  </a:lnTo>
                  <a:lnTo>
                    <a:pt x="12342" y="104171"/>
                  </a:lnTo>
                  <a:lnTo>
                    <a:pt x="9772" y="107547"/>
                  </a:lnTo>
                  <a:lnTo>
                    <a:pt x="7212" y="109798"/>
                  </a:lnTo>
                  <a:lnTo>
                    <a:pt x="4659" y="111299"/>
                  </a:lnTo>
                  <a:lnTo>
                    <a:pt x="2956" y="113146"/>
                  </a:lnTo>
                  <a:lnTo>
                    <a:pt x="1822" y="115224"/>
                  </a:lnTo>
                  <a:lnTo>
                    <a:pt x="1065" y="117456"/>
                  </a:lnTo>
                  <a:lnTo>
                    <a:pt x="561" y="118098"/>
                  </a:lnTo>
                  <a:lnTo>
                    <a:pt x="225" y="117679"/>
                  </a:lnTo>
                  <a:lnTo>
                    <a:pt x="0" y="116553"/>
                  </a:lnTo>
                  <a:lnTo>
                    <a:pt x="698" y="115802"/>
                  </a:lnTo>
                  <a:lnTo>
                    <a:pt x="2009" y="115301"/>
                  </a:lnTo>
                  <a:lnTo>
                    <a:pt x="3730" y="114967"/>
                  </a:lnTo>
                  <a:lnTo>
                    <a:pt x="10158" y="112339"/>
                  </a:lnTo>
                  <a:lnTo>
                    <a:pt x="14242" y="110453"/>
                  </a:lnTo>
                  <a:lnTo>
                    <a:pt x="20352" y="108349"/>
                  </a:lnTo>
                  <a:lnTo>
                    <a:pt x="27812" y="106099"/>
                  </a:lnTo>
                  <a:lnTo>
                    <a:pt x="36172" y="103752"/>
                  </a:lnTo>
                  <a:lnTo>
                    <a:pt x="44285" y="100495"/>
                  </a:lnTo>
                  <a:lnTo>
                    <a:pt x="52235" y="96630"/>
                  </a:lnTo>
                  <a:lnTo>
                    <a:pt x="60074" y="92360"/>
                  </a:lnTo>
                  <a:lnTo>
                    <a:pt x="69533" y="89513"/>
                  </a:lnTo>
                  <a:lnTo>
                    <a:pt x="80073" y="87616"/>
                  </a:lnTo>
                  <a:lnTo>
                    <a:pt x="91332" y="86351"/>
                  </a:lnTo>
                  <a:lnTo>
                    <a:pt x="102226" y="84660"/>
                  </a:lnTo>
                  <a:lnTo>
                    <a:pt x="112874" y="82687"/>
                  </a:lnTo>
                  <a:lnTo>
                    <a:pt x="123360" y="80525"/>
                  </a:lnTo>
                  <a:lnTo>
                    <a:pt x="134584" y="79083"/>
                  </a:lnTo>
                  <a:lnTo>
                    <a:pt x="146300" y="78122"/>
                  </a:lnTo>
                  <a:lnTo>
                    <a:pt x="158344" y="77481"/>
                  </a:lnTo>
                  <a:lnTo>
                    <a:pt x="169760" y="77901"/>
                  </a:lnTo>
                  <a:lnTo>
                    <a:pt x="180757" y="79027"/>
                  </a:lnTo>
                  <a:lnTo>
                    <a:pt x="191476" y="80625"/>
                  </a:lnTo>
                  <a:lnTo>
                    <a:pt x="201161" y="83383"/>
                  </a:lnTo>
                  <a:lnTo>
                    <a:pt x="210158" y="86916"/>
                  </a:lnTo>
                  <a:lnTo>
                    <a:pt x="238803" y="100707"/>
                  </a:lnTo>
                  <a:lnTo>
                    <a:pt x="243719" y="104391"/>
                  </a:lnTo>
                  <a:lnTo>
                    <a:pt x="247843" y="108540"/>
                  </a:lnTo>
                  <a:lnTo>
                    <a:pt x="251440" y="113000"/>
                  </a:lnTo>
                  <a:lnTo>
                    <a:pt x="253837" y="117667"/>
                  </a:lnTo>
                  <a:lnTo>
                    <a:pt x="255435" y="122471"/>
                  </a:lnTo>
                  <a:lnTo>
                    <a:pt x="256501" y="127367"/>
                  </a:lnTo>
                  <a:lnTo>
                    <a:pt x="257211" y="133171"/>
                  </a:lnTo>
                  <a:lnTo>
                    <a:pt x="257685" y="139581"/>
                  </a:lnTo>
                  <a:lnTo>
                    <a:pt x="258001" y="146394"/>
                  </a:lnTo>
                  <a:lnTo>
                    <a:pt x="256518" y="152630"/>
                  </a:lnTo>
                  <a:lnTo>
                    <a:pt x="253836" y="158480"/>
                  </a:lnTo>
                  <a:lnTo>
                    <a:pt x="250355" y="164073"/>
                  </a:lnTo>
                  <a:lnTo>
                    <a:pt x="246341" y="169495"/>
                  </a:lnTo>
                  <a:lnTo>
                    <a:pt x="241971" y="174804"/>
                  </a:lnTo>
                  <a:lnTo>
                    <a:pt x="237365" y="180036"/>
                  </a:lnTo>
                  <a:lnTo>
                    <a:pt x="232600" y="185217"/>
                  </a:lnTo>
                  <a:lnTo>
                    <a:pt x="222792" y="195490"/>
                  </a:lnTo>
                  <a:lnTo>
                    <a:pt x="216958" y="199753"/>
                  </a:lnTo>
                  <a:lnTo>
                    <a:pt x="210529" y="203443"/>
                  </a:lnTo>
                  <a:lnTo>
                    <a:pt x="203704" y="206748"/>
                  </a:lnTo>
                  <a:lnTo>
                    <a:pt x="196613" y="208952"/>
                  </a:lnTo>
                  <a:lnTo>
                    <a:pt x="189346" y="210422"/>
                  </a:lnTo>
                  <a:lnTo>
                    <a:pt x="181961" y="211401"/>
                  </a:lnTo>
                  <a:lnTo>
                    <a:pt x="174498" y="212054"/>
                  </a:lnTo>
                  <a:lnTo>
                    <a:pt x="166983" y="212489"/>
                  </a:lnTo>
                  <a:lnTo>
                    <a:pt x="159433" y="212780"/>
                  </a:lnTo>
                  <a:lnTo>
                    <a:pt x="151012" y="212127"/>
                  </a:lnTo>
                  <a:lnTo>
                    <a:pt x="142012" y="210845"/>
                  </a:lnTo>
                  <a:lnTo>
                    <a:pt x="132626" y="209143"/>
                  </a:lnTo>
                  <a:lnTo>
                    <a:pt x="125521" y="208009"/>
                  </a:lnTo>
                  <a:lnTo>
                    <a:pt x="119938" y="207253"/>
                  </a:lnTo>
                  <a:lnTo>
                    <a:pt x="115370" y="206748"/>
                  </a:lnTo>
                  <a:lnTo>
                    <a:pt x="110630" y="205566"/>
                  </a:lnTo>
                  <a:lnTo>
                    <a:pt x="105777" y="203930"/>
                  </a:lnTo>
                  <a:lnTo>
                    <a:pt x="90992" y="198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SMARTInkAnnotation29"/>
            <p:cNvSpPr/>
            <p:nvPr/>
          </p:nvSpPr>
          <p:spPr>
            <a:xfrm>
              <a:off x="1105560" y="3848400"/>
              <a:ext cx="213120" cy="22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13361" h="22834">
                  <a:moveTo>
                    <a:pt x="0" y="15240"/>
                  </a:moveTo>
                  <a:lnTo>
                    <a:pt x="4045" y="19285"/>
                  </a:lnTo>
                  <a:lnTo>
                    <a:pt x="6930" y="20477"/>
                  </a:lnTo>
                  <a:lnTo>
                    <a:pt x="10547" y="21272"/>
                  </a:lnTo>
                  <a:lnTo>
                    <a:pt x="14651" y="21801"/>
                  </a:lnTo>
                  <a:lnTo>
                    <a:pt x="19081" y="22154"/>
                  </a:lnTo>
                  <a:lnTo>
                    <a:pt x="23727" y="22389"/>
                  </a:lnTo>
                  <a:lnTo>
                    <a:pt x="28518" y="22546"/>
                  </a:lnTo>
                  <a:lnTo>
                    <a:pt x="47397" y="22768"/>
                  </a:lnTo>
                  <a:lnTo>
                    <a:pt x="73122" y="22833"/>
                  </a:lnTo>
                  <a:lnTo>
                    <a:pt x="84308" y="21995"/>
                  </a:lnTo>
                  <a:lnTo>
                    <a:pt x="96845" y="20590"/>
                  </a:lnTo>
                  <a:lnTo>
                    <a:pt x="110284" y="18807"/>
                  </a:lnTo>
                  <a:lnTo>
                    <a:pt x="122629" y="16771"/>
                  </a:lnTo>
                  <a:lnTo>
                    <a:pt x="134246" y="14568"/>
                  </a:lnTo>
                  <a:lnTo>
                    <a:pt x="145378" y="12252"/>
                  </a:lnTo>
                  <a:lnTo>
                    <a:pt x="155338" y="10708"/>
                  </a:lnTo>
                  <a:lnTo>
                    <a:pt x="164519" y="9678"/>
                  </a:lnTo>
                  <a:lnTo>
                    <a:pt x="173179" y="8992"/>
                  </a:lnTo>
                  <a:lnTo>
                    <a:pt x="181493" y="7688"/>
                  </a:lnTo>
                  <a:lnTo>
                    <a:pt x="189575" y="5972"/>
                  </a:lnTo>
                  <a:lnTo>
                    <a:pt x="2133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SMARTInkAnnotation30"/>
            <p:cNvSpPr/>
            <p:nvPr/>
          </p:nvSpPr>
          <p:spPr>
            <a:xfrm>
              <a:off x="2606760" y="3764520"/>
              <a:ext cx="318600" cy="330840"/>
            </a:xfrm>
            <a:custGeom>
              <a:avLst/>
              <a:gdLst>
                <a:gd name="textAreaLeft" fmla="*/ 0 w 318600"/>
                <a:gd name="textAreaRight" fmla="*/ 318960 w 31860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18864" h="330934">
                  <a:moveTo>
                    <a:pt x="68447" y="0"/>
                  </a:moveTo>
                  <a:lnTo>
                    <a:pt x="68447" y="29484"/>
                  </a:lnTo>
                  <a:lnTo>
                    <a:pt x="66189" y="38786"/>
                  </a:lnTo>
                  <a:lnTo>
                    <a:pt x="64402" y="43638"/>
                  </a:lnTo>
                  <a:lnTo>
                    <a:pt x="61517" y="49412"/>
                  </a:lnTo>
                  <a:lnTo>
                    <a:pt x="57901" y="55801"/>
                  </a:lnTo>
                  <a:lnTo>
                    <a:pt x="53796" y="62600"/>
                  </a:lnTo>
                  <a:lnTo>
                    <a:pt x="50213" y="69674"/>
                  </a:lnTo>
                  <a:lnTo>
                    <a:pt x="46978" y="76929"/>
                  </a:lnTo>
                  <a:lnTo>
                    <a:pt x="43974" y="84306"/>
                  </a:lnTo>
                  <a:lnTo>
                    <a:pt x="41125" y="91764"/>
                  </a:lnTo>
                  <a:lnTo>
                    <a:pt x="35702" y="106824"/>
                  </a:lnTo>
                  <a:lnTo>
                    <a:pt x="27889" y="129583"/>
                  </a:lnTo>
                  <a:lnTo>
                    <a:pt x="25322" y="136342"/>
                  </a:lnTo>
                  <a:lnTo>
                    <a:pt x="22763" y="142542"/>
                  </a:lnTo>
                  <a:lnTo>
                    <a:pt x="20211" y="148368"/>
                  </a:lnTo>
                  <a:lnTo>
                    <a:pt x="15118" y="159357"/>
                  </a:lnTo>
                  <a:lnTo>
                    <a:pt x="10032" y="169038"/>
                  </a:lnTo>
                  <a:lnTo>
                    <a:pt x="3256" y="179249"/>
                  </a:lnTo>
                  <a:lnTo>
                    <a:pt x="165" y="189401"/>
                  </a:lnTo>
                  <a:lnTo>
                    <a:pt x="0" y="190011"/>
                  </a:lnTo>
                  <a:lnTo>
                    <a:pt x="8173" y="182147"/>
                  </a:lnTo>
                  <a:lnTo>
                    <a:pt x="10485" y="179851"/>
                  </a:lnTo>
                  <a:lnTo>
                    <a:pt x="17568" y="175042"/>
                  </a:lnTo>
                  <a:lnTo>
                    <a:pt x="27208" y="169237"/>
                  </a:lnTo>
                  <a:lnTo>
                    <a:pt x="39959" y="161012"/>
                  </a:lnTo>
                  <a:lnTo>
                    <a:pt x="47762" y="157295"/>
                  </a:lnTo>
                  <a:lnTo>
                    <a:pt x="56350" y="153970"/>
                  </a:lnTo>
                  <a:lnTo>
                    <a:pt x="65462" y="150907"/>
                  </a:lnTo>
                  <a:lnTo>
                    <a:pt x="86876" y="142988"/>
                  </a:lnTo>
                  <a:lnTo>
                    <a:pt x="98513" y="138505"/>
                  </a:lnTo>
                  <a:lnTo>
                    <a:pt x="110504" y="135516"/>
                  </a:lnTo>
                  <a:lnTo>
                    <a:pt x="122732" y="133524"/>
                  </a:lnTo>
                  <a:lnTo>
                    <a:pt x="135117" y="132197"/>
                  </a:lnTo>
                  <a:lnTo>
                    <a:pt x="146760" y="131311"/>
                  </a:lnTo>
                  <a:lnTo>
                    <a:pt x="157909" y="130721"/>
                  </a:lnTo>
                  <a:lnTo>
                    <a:pt x="168729" y="130327"/>
                  </a:lnTo>
                  <a:lnTo>
                    <a:pt x="179328" y="130911"/>
                  </a:lnTo>
                  <a:lnTo>
                    <a:pt x="189781" y="132148"/>
                  </a:lnTo>
                  <a:lnTo>
                    <a:pt x="200137" y="133819"/>
                  </a:lnTo>
                  <a:lnTo>
                    <a:pt x="211273" y="136626"/>
                  </a:lnTo>
                  <a:lnTo>
                    <a:pt x="222931" y="140191"/>
                  </a:lnTo>
                  <a:lnTo>
                    <a:pt x="234936" y="144260"/>
                  </a:lnTo>
                  <a:lnTo>
                    <a:pt x="245480" y="148667"/>
                  </a:lnTo>
                  <a:lnTo>
                    <a:pt x="255049" y="153298"/>
                  </a:lnTo>
                  <a:lnTo>
                    <a:pt x="263968" y="158079"/>
                  </a:lnTo>
                  <a:lnTo>
                    <a:pt x="272455" y="162959"/>
                  </a:lnTo>
                  <a:lnTo>
                    <a:pt x="280652" y="167906"/>
                  </a:lnTo>
                  <a:lnTo>
                    <a:pt x="288657" y="172898"/>
                  </a:lnTo>
                  <a:lnTo>
                    <a:pt x="295687" y="178765"/>
                  </a:lnTo>
                  <a:lnTo>
                    <a:pt x="302067" y="185217"/>
                  </a:lnTo>
                  <a:lnTo>
                    <a:pt x="308014" y="192058"/>
                  </a:lnTo>
                  <a:lnTo>
                    <a:pt x="311978" y="199159"/>
                  </a:lnTo>
                  <a:lnTo>
                    <a:pt x="314621" y="206433"/>
                  </a:lnTo>
                  <a:lnTo>
                    <a:pt x="316383" y="213822"/>
                  </a:lnTo>
                  <a:lnTo>
                    <a:pt x="317558" y="221288"/>
                  </a:lnTo>
                  <a:lnTo>
                    <a:pt x="318341" y="228805"/>
                  </a:lnTo>
                  <a:lnTo>
                    <a:pt x="318863" y="236357"/>
                  </a:lnTo>
                  <a:lnTo>
                    <a:pt x="318364" y="243931"/>
                  </a:lnTo>
                  <a:lnTo>
                    <a:pt x="317185" y="251521"/>
                  </a:lnTo>
                  <a:lnTo>
                    <a:pt x="315552" y="259121"/>
                  </a:lnTo>
                  <a:lnTo>
                    <a:pt x="312771" y="266727"/>
                  </a:lnTo>
                  <a:lnTo>
                    <a:pt x="309223" y="274338"/>
                  </a:lnTo>
                  <a:lnTo>
                    <a:pt x="305164" y="281952"/>
                  </a:lnTo>
                  <a:lnTo>
                    <a:pt x="300765" y="288721"/>
                  </a:lnTo>
                  <a:lnTo>
                    <a:pt x="296139" y="294928"/>
                  </a:lnTo>
                  <a:lnTo>
                    <a:pt x="291362" y="300759"/>
                  </a:lnTo>
                  <a:lnTo>
                    <a:pt x="281538" y="309495"/>
                  </a:lnTo>
                  <a:lnTo>
                    <a:pt x="276548" y="313010"/>
                  </a:lnTo>
                  <a:lnTo>
                    <a:pt x="269834" y="316200"/>
                  </a:lnTo>
                  <a:lnTo>
                    <a:pt x="261972" y="319173"/>
                  </a:lnTo>
                  <a:lnTo>
                    <a:pt x="229065" y="330029"/>
                  </a:lnTo>
                  <a:lnTo>
                    <a:pt x="221246" y="330933"/>
                  </a:lnTo>
                  <a:lnTo>
                    <a:pt x="213492" y="330689"/>
                  </a:lnTo>
                  <a:lnTo>
                    <a:pt x="205784" y="329679"/>
                  </a:lnTo>
                  <a:lnTo>
                    <a:pt x="198105" y="328159"/>
                  </a:lnTo>
                  <a:lnTo>
                    <a:pt x="190446" y="326300"/>
                  </a:lnTo>
                  <a:lnTo>
                    <a:pt x="182799" y="324213"/>
                  </a:lnTo>
                  <a:lnTo>
                    <a:pt x="175162" y="321129"/>
                  </a:lnTo>
                  <a:lnTo>
                    <a:pt x="167531" y="317380"/>
                  </a:lnTo>
                  <a:lnTo>
                    <a:pt x="159902" y="313186"/>
                  </a:lnTo>
                  <a:lnTo>
                    <a:pt x="153971" y="309544"/>
                  </a:lnTo>
                  <a:lnTo>
                    <a:pt x="149169" y="306269"/>
                  </a:lnTo>
                  <a:lnTo>
                    <a:pt x="137027" y="297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SMARTInkAnnotation31"/>
            <p:cNvSpPr/>
            <p:nvPr/>
          </p:nvSpPr>
          <p:spPr>
            <a:xfrm>
              <a:off x="2713320" y="3750120"/>
              <a:ext cx="357840" cy="216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21600"/>
                <a:gd name="textAreaBottom" fmla="*/ 21600 h 21600"/>
              </a:gdLst>
              <a:ahLst/>
              <a:rect l="textAreaLeft" t="textAreaTop" r="textAreaRight" b="textAreaBottom"/>
              <a:pathLst>
                <a:path w="358141" h="21772">
                  <a:moveTo>
                    <a:pt x="0" y="21771"/>
                  </a:moveTo>
                  <a:lnTo>
                    <a:pt x="8091" y="21771"/>
                  </a:lnTo>
                  <a:lnTo>
                    <a:pt x="11321" y="20925"/>
                  </a:lnTo>
                  <a:lnTo>
                    <a:pt x="14320" y="19514"/>
                  </a:lnTo>
                  <a:lnTo>
                    <a:pt x="17167" y="17726"/>
                  </a:lnTo>
                  <a:lnTo>
                    <a:pt x="21605" y="16534"/>
                  </a:lnTo>
                  <a:lnTo>
                    <a:pt x="27103" y="15740"/>
                  </a:lnTo>
                  <a:lnTo>
                    <a:pt x="33309" y="15211"/>
                  </a:lnTo>
                  <a:lnTo>
                    <a:pt x="40833" y="14011"/>
                  </a:lnTo>
                  <a:lnTo>
                    <a:pt x="49235" y="12364"/>
                  </a:lnTo>
                  <a:lnTo>
                    <a:pt x="58223" y="10420"/>
                  </a:lnTo>
                  <a:lnTo>
                    <a:pt x="68449" y="9124"/>
                  </a:lnTo>
                  <a:lnTo>
                    <a:pt x="79499" y="8259"/>
                  </a:lnTo>
                  <a:lnTo>
                    <a:pt x="91100" y="7683"/>
                  </a:lnTo>
                  <a:lnTo>
                    <a:pt x="117536" y="7044"/>
                  </a:lnTo>
                  <a:lnTo>
                    <a:pt x="131697" y="6872"/>
                  </a:lnTo>
                  <a:lnTo>
                    <a:pt x="146218" y="5912"/>
                  </a:lnTo>
                  <a:lnTo>
                    <a:pt x="160979" y="4425"/>
                  </a:lnTo>
                  <a:lnTo>
                    <a:pt x="175899" y="2587"/>
                  </a:lnTo>
                  <a:lnTo>
                    <a:pt x="190926" y="1362"/>
                  </a:lnTo>
                  <a:lnTo>
                    <a:pt x="206024" y="545"/>
                  </a:lnTo>
                  <a:lnTo>
                    <a:pt x="221170" y="0"/>
                  </a:lnTo>
                  <a:lnTo>
                    <a:pt x="236347" y="484"/>
                  </a:lnTo>
                  <a:lnTo>
                    <a:pt x="251545" y="1653"/>
                  </a:lnTo>
                  <a:lnTo>
                    <a:pt x="266756" y="3279"/>
                  </a:lnTo>
                  <a:lnTo>
                    <a:pt x="281131" y="4363"/>
                  </a:lnTo>
                  <a:lnTo>
                    <a:pt x="294947" y="5086"/>
                  </a:lnTo>
                  <a:lnTo>
                    <a:pt x="319895" y="5889"/>
                  </a:lnTo>
                  <a:lnTo>
                    <a:pt x="358140" y="65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MARTInkAnnotation32"/>
            <p:cNvSpPr/>
            <p:nvPr/>
          </p:nvSpPr>
          <p:spPr>
            <a:xfrm>
              <a:off x="1067400" y="4420080"/>
              <a:ext cx="297000" cy="2361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97181" h="236221">
                  <a:moveTo>
                    <a:pt x="297180" y="0"/>
                  </a:moveTo>
                  <a:lnTo>
                    <a:pt x="293135" y="4045"/>
                  </a:lnTo>
                  <a:lnTo>
                    <a:pt x="291943" y="6083"/>
                  </a:lnTo>
                  <a:lnTo>
                    <a:pt x="289420" y="12997"/>
                  </a:lnTo>
                  <a:lnTo>
                    <a:pt x="285829" y="17912"/>
                  </a:lnTo>
                  <a:lnTo>
                    <a:pt x="281411" y="25176"/>
                  </a:lnTo>
                  <a:lnTo>
                    <a:pt x="279047" y="29484"/>
                  </a:lnTo>
                  <a:lnTo>
                    <a:pt x="275778" y="34049"/>
                  </a:lnTo>
                  <a:lnTo>
                    <a:pt x="271906" y="38786"/>
                  </a:lnTo>
                  <a:lnTo>
                    <a:pt x="267631" y="43637"/>
                  </a:lnTo>
                  <a:lnTo>
                    <a:pt x="263087" y="49412"/>
                  </a:lnTo>
                  <a:lnTo>
                    <a:pt x="258365" y="55801"/>
                  </a:lnTo>
                  <a:lnTo>
                    <a:pt x="253523" y="62601"/>
                  </a:lnTo>
                  <a:lnTo>
                    <a:pt x="248602" y="68827"/>
                  </a:lnTo>
                  <a:lnTo>
                    <a:pt x="243628" y="74672"/>
                  </a:lnTo>
                  <a:lnTo>
                    <a:pt x="238619" y="80261"/>
                  </a:lnTo>
                  <a:lnTo>
                    <a:pt x="232739" y="87375"/>
                  </a:lnTo>
                  <a:lnTo>
                    <a:pt x="219433" y="104309"/>
                  </a:lnTo>
                  <a:lnTo>
                    <a:pt x="211482" y="112719"/>
                  </a:lnTo>
                  <a:lnTo>
                    <a:pt x="202795" y="120866"/>
                  </a:lnTo>
                  <a:lnTo>
                    <a:pt x="193616" y="128837"/>
                  </a:lnTo>
                  <a:lnTo>
                    <a:pt x="184111" y="136692"/>
                  </a:lnTo>
                  <a:lnTo>
                    <a:pt x="164518" y="152192"/>
                  </a:lnTo>
                  <a:lnTo>
                    <a:pt x="104089" y="198102"/>
                  </a:lnTo>
                  <a:lnTo>
                    <a:pt x="93946" y="204881"/>
                  </a:lnTo>
                  <a:lnTo>
                    <a:pt x="83797" y="211094"/>
                  </a:lnTo>
                  <a:lnTo>
                    <a:pt x="73645" y="216930"/>
                  </a:lnTo>
                  <a:lnTo>
                    <a:pt x="64337" y="221667"/>
                  </a:lnTo>
                  <a:lnTo>
                    <a:pt x="55591" y="225671"/>
                  </a:lnTo>
                  <a:lnTo>
                    <a:pt x="47221" y="229188"/>
                  </a:lnTo>
                  <a:lnTo>
                    <a:pt x="39947" y="231532"/>
                  </a:lnTo>
                  <a:lnTo>
                    <a:pt x="33405" y="233095"/>
                  </a:lnTo>
                  <a:lnTo>
                    <a:pt x="27350" y="234136"/>
                  </a:lnTo>
                  <a:lnTo>
                    <a:pt x="21620" y="234831"/>
                  </a:lnTo>
                  <a:lnTo>
                    <a:pt x="16106" y="235295"/>
                  </a:lnTo>
                  <a:lnTo>
                    <a:pt x="0" y="2362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MARTInkAnnotation33"/>
            <p:cNvSpPr/>
            <p:nvPr/>
          </p:nvSpPr>
          <p:spPr>
            <a:xfrm>
              <a:off x="1097640" y="4420080"/>
              <a:ext cx="266400" cy="12168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66701" h="121921">
                  <a:moveTo>
                    <a:pt x="0" y="0"/>
                  </a:moveTo>
                  <a:lnTo>
                    <a:pt x="4046" y="0"/>
                  </a:lnTo>
                  <a:lnTo>
                    <a:pt x="5237" y="846"/>
                  </a:lnTo>
                  <a:lnTo>
                    <a:pt x="6031" y="2258"/>
                  </a:lnTo>
                  <a:lnTo>
                    <a:pt x="6561" y="4045"/>
                  </a:lnTo>
                  <a:lnTo>
                    <a:pt x="7761" y="5237"/>
                  </a:lnTo>
                  <a:lnTo>
                    <a:pt x="9407" y="6031"/>
                  </a:lnTo>
                  <a:lnTo>
                    <a:pt x="11352" y="6561"/>
                  </a:lnTo>
                  <a:lnTo>
                    <a:pt x="15769" y="9408"/>
                  </a:lnTo>
                  <a:lnTo>
                    <a:pt x="18133" y="11352"/>
                  </a:lnTo>
                  <a:lnTo>
                    <a:pt x="21402" y="13495"/>
                  </a:lnTo>
                  <a:lnTo>
                    <a:pt x="25275" y="15770"/>
                  </a:lnTo>
                  <a:lnTo>
                    <a:pt x="29550" y="18133"/>
                  </a:lnTo>
                  <a:lnTo>
                    <a:pt x="34093" y="21402"/>
                  </a:lnTo>
                  <a:lnTo>
                    <a:pt x="38815" y="25275"/>
                  </a:lnTo>
                  <a:lnTo>
                    <a:pt x="43657" y="29550"/>
                  </a:lnTo>
                  <a:lnTo>
                    <a:pt x="49425" y="33247"/>
                  </a:lnTo>
                  <a:lnTo>
                    <a:pt x="55810" y="36558"/>
                  </a:lnTo>
                  <a:lnTo>
                    <a:pt x="62607" y="39612"/>
                  </a:lnTo>
                  <a:lnTo>
                    <a:pt x="69678" y="43342"/>
                  </a:lnTo>
                  <a:lnTo>
                    <a:pt x="76932" y="47521"/>
                  </a:lnTo>
                  <a:lnTo>
                    <a:pt x="84308" y="52001"/>
                  </a:lnTo>
                  <a:lnTo>
                    <a:pt x="99277" y="61494"/>
                  </a:lnTo>
                  <a:lnTo>
                    <a:pt x="106825" y="66396"/>
                  </a:lnTo>
                  <a:lnTo>
                    <a:pt x="115243" y="71357"/>
                  </a:lnTo>
                  <a:lnTo>
                    <a:pt x="124242" y="76358"/>
                  </a:lnTo>
                  <a:lnTo>
                    <a:pt x="133628" y="81386"/>
                  </a:lnTo>
                  <a:lnTo>
                    <a:pt x="144119" y="86431"/>
                  </a:lnTo>
                  <a:lnTo>
                    <a:pt x="155346" y="91487"/>
                  </a:lnTo>
                  <a:lnTo>
                    <a:pt x="167064" y="96552"/>
                  </a:lnTo>
                  <a:lnTo>
                    <a:pt x="179110" y="100775"/>
                  </a:lnTo>
                  <a:lnTo>
                    <a:pt x="191373" y="104436"/>
                  </a:lnTo>
                  <a:lnTo>
                    <a:pt x="203782" y="107724"/>
                  </a:lnTo>
                  <a:lnTo>
                    <a:pt x="213748" y="109917"/>
                  </a:lnTo>
                  <a:lnTo>
                    <a:pt x="222085" y="111378"/>
                  </a:lnTo>
                  <a:lnTo>
                    <a:pt x="229337" y="112351"/>
                  </a:lnTo>
                  <a:lnTo>
                    <a:pt x="236711" y="113848"/>
                  </a:lnTo>
                  <a:lnTo>
                    <a:pt x="244168" y="115693"/>
                  </a:lnTo>
                  <a:lnTo>
                    <a:pt x="266700" y="1219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MARTInkAnnotation34"/>
            <p:cNvSpPr/>
            <p:nvPr/>
          </p:nvSpPr>
          <p:spPr>
            <a:xfrm>
              <a:off x="1486440" y="4465800"/>
              <a:ext cx="251280" cy="15120"/>
            </a:xfrm>
            <a:custGeom>
              <a:avLst/>
              <a:gdLst>
                <a:gd name="textAreaLeft" fmla="*/ 0 w 251280"/>
                <a:gd name="textAreaRight" fmla="*/ 251640 w 2512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51461" h="15241">
                  <a:moveTo>
                    <a:pt x="0" y="15240"/>
                  </a:moveTo>
                  <a:lnTo>
                    <a:pt x="25257" y="15240"/>
                  </a:lnTo>
                  <a:lnTo>
                    <a:pt x="30385" y="14394"/>
                  </a:lnTo>
                  <a:lnTo>
                    <a:pt x="34650" y="12983"/>
                  </a:lnTo>
                  <a:lnTo>
                    <a:pt x="38340" y="11195"/>
                  </a:lnTo>
                  <a:lnTo>
                    <a:pt x="44187" y="10003"/>
                  </a:lnTo>
                  <a:lnTo>
                    <a:pt x="51471" y="9209"/>
                  </a:lnTo>
                  <a:lnTo>
                    <a:pt x="59714" y="8679"/>
                  </a:lnTo>
                  <a:lnTo>
                    <a:pt x="69443" y="8326"/>
                  </a:lnTo>
                  <a:lnTo>
                    <a:pt x="103361" y="7829"/>
                  </a:lnTo>
                  <a:lnTo>
                    <a:pt x="127783" y="7713"/>
                  </a:lnTo>
                  <a:lnTo>
                    <a:pt x="139375" y="6836"/>
                  </a:lnTo>
                  <a:lnTo>
                    <a:pt x="150490" y="5404"/>
                  </a:lnTo>
                  <a:lnTo>
                    <a:pt x="161287" y="3603"/>
                  </a:lnTo>
                  <a:lnTo>
                    <a:pt x="172718" y="2402"/>
                  </a:lnTo>
                  <a:lnTo>
                    <a:pt x="184572" y="1602"/>
                  </a:lnTo>
                  <a:lnTo>
                    <a:pt x="206492" y="712"/>
                  </a:lnTo>
                  <a:lnTo>
                    <a:pt x="228353" y="212"/>
                  </a:lnTo>
                  <a:lnTo>
                    <a:pt x="25146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MARTInkAnnotation35"/>
            <p:cNvSpPr/>
            <p:nvPr/>
          </p:nvSpPr>
          <p:spPr>
            <a:xfrm>
              <a:off x="1593000" y="4537800"/>
              <a:ext cx="236160" cy="86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36221" h="8777">
                  <a:moveTo>
                    <a:pt x="0" y="4386"/>
                  </a:moveTo>
                  <a:lnTo>
                    <a:pt x="15397" y="4386"/>
                  </a:lnTo>
                  <a:lnTo>
                    <a:pt x="19578" y="5233"/>
                  </a:lnTo>
                  <a:lnTo>
                    <a:pt x="24059" y="6644"/>
                  </a:lnTo>
                  <a:lnTo>
                    <a:pt x="28739" y="8431"/>
                  </a:lnTo>
                  <a:lnTo>
                    <a:pt x="35246" y="8776"/>
                  </a:lnTo>
                  <a:lnTo>
                    <a:pt x="42971" y="8159"/>
                  </a:lnTo>
                  <a:lnTo>
                    <a:pt x="51507" y="6902"/>
                  </a:lnTo>
                  <a:lnTo>
                    <a:pt x="60585" y="6063"/>
                  </a:lnTo>
                  <a:lnTo>
                    <a:pt x="70023" y="5504"/>
                  </a:lnTo>
                  <a:lnTo>
                    <a:pt x="89542" y="4883"/>
                  </a:lnTo>
                  <a:lnTo>
                    <a:pt x="139785" y="4451"/>
                  </a:lnTo>
                  <a:lnTo>
                    <a:pt x="174250" y="4405"/>
                  </a:lnTo>
                  <a:lnTo>
                    <a:pt x="183900" y="3552"/>
                  </a:lnTo>
                  <a:lnTo>
                    <a:pt x="192027" y="2137"/>
                  </a:lnTo>
                  <a:lnTo>
                    <a:pt x="199138" y="346"/>
                  </a:lnTo>
                  <a:lnTo>
                    <a:pt x="206419" y="0"/>
                  </a:lnTo>
                  <a:lnTo>
                    <a:pt x="213812" y="615"/>
                  </a:lnTo>
                  <a:lnTo>
                    <a:pt x="236220" y="43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MARTInkAnnotation36"/>
            <p:cNvSpPr/>
            <p:nvPr/>
          </p:nvSpPr>
          <p:spPr>
            <a:xfrm>
              <a:off x="2042640" y="4290480"/>
              <a:ext cx="15120" cy="3430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5213" h="342901">
                  <a:moveTo>
                    <a:pt x="15212" y="0"/>
                  </a:moveTo>
                  <a:lnTo>
                    <a:pt x="15212" y="29484"/>
                  </a:lnTo>
                  <a:lnTo>
                    <a:pt x="14366" y="33203"/>
                  </a:lnTo>
                  <a:lnTo>
                    <a:pt x="12954" y="36529"/>
                  </a:lnTo>
                  <a:lnTo>
                    <a:pt x="11167" y="39593"/>
                  </a:lnTo>
                  <a:lnTo>
                    <a:pt x="9975" y="43328"/>
                  </a:lnTo>
                  <a:lnTo>
                    <a:pt x="9181" y="47512"/>
                  </a:lnTo>
                  <a:lnTo>
                    <a:pt x="8651" y="51995"/>
                  </a:lnTo>
                  <a:lnTo>
                    <a:pt x="8298" y="56677"/>
                  </a:lnTo>
                  <a:lnTo>
                    <a:pt x="7906" y="66394"/>
                  </a:lnTo>
                  <a:lnTo>
                    <a:pt x="7685" y="77340"/>
                  </a:lnTo>
                  <a:lnTo>
                    <a:pt x="7592" y="233720"/>
                  </a:lnTo>
                  <a:lnTo>
                    <a:pt x="6745" y="238787"/>
                  </a:lnTo>
                  <a:lnTo>
                    <a:pt x="5334" y="243857"/>
                  </a:lnTo>
                  <a:lnTo>
                    <a:pt x="3547" y="248932"/>
                  </a:lnTo>
                  <a:lnTo>
                    <a:pt x="2355" y="254854"/>
                  </a:lnTo>
                  <a:lnTo>
                    <a:pt x="1561" y="261344"/>
                  </a:lnTo>
                  <a:lnTo>
                    <a:pt x="1031" y="268209"/>
                  </a:lnTo>
                  <a:lnTo>
                    <a:pt x="678" y="274479"/>
                  </a:lnTo>
                  <a:lnTo>
                    <a:pt x="286" y="285962"/>
                  </a:lnTo>
                  <a:lnTo>
                    <a:pt x="13" y="310023"/>
                  </a:lnTo>
                  <a:lnTo>
                    <a:pt x="0" y="313362"/>
                  </a:lnTo>
                  <a:lnTo>
                    <a:pt x="837" y="317282"/>
                  </a:lnTo>
                  <a:lnTo>
                    <a:pt x="2242" y="321588"/>
                  </a:lnTo>
                  <a:lnTo>
                    <a:pt x="4025" y="326152"/>
                  </a:lnTo>
                  <a:lnTo>
                    <a:pt x="5214" y="330042"/>
                  </a:lnTo>
                  <a:lnTo>
                    <a:pt x="6007" y="333481"/>
                  </a:lnTo>
                  <a:lnTo>
                    <a:pt x="7592" y="3429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MARTInkAnnotation37"/>
            <p:cNvSpPr/>
            <p:nvPr/>
          </p:nvSpPr>
          <p:spPr>
            <a:xfrm>
              <a:off x="2202840" y="4282920"/>
              <a:ext cx="182520" cy="1062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82853" h="106356">
                  <a:moveTo>
                    <a:pt x="15212" y="0"/>
                  </a:moveTo>
                  <a:lnTo>
                    <a:pt x="15212" y="17912"/>
                  </a:lnTo>
                  <a:lnTo>
                    <a:pt x="14365" y="20408"/>
                  </a:lnTo>
                  <a:lnTo>
                    <a:pt x="12954" y="22919"/>
                  </a:lnTo>
                  <a:lnTo>
                    <a:pt x="11167" y="25439"/>
                  </a:lnTo>
                  <a:lnTo>
                    <a:pt x="9975" y="27967"/>
                  </a:lnTo>
                  <a:lnTo>
                    <a:pt x="9181" y="30497"/>
                  </a:lnTo>
                  <a:lnTo>
                    <a:pt x="8651" y="33031"/>
                  </a:lnTo>
                  <a:lnTo>
                    <a:pt x="8298" y="36415"/>
                  </a:lnTo>
                  <a:lnTo>
                    <a:pt x="8063" y="40364"/>
                  </a:lnTo>
                  <a:lnTo>
                    <a:pt x="7801" y="48419"/>
                  </a:lnTo>
                  <a:lnTo>
                    <a:pt x="7685" y="54822"/>
                  </a:lnTo>
                  <a:lnTo>
                    <a:pt x="6807" y="57715"/>
                  </a:lnTo>
                  <a:lnTo>
                    <a:pt x="5376" y="60490"/>
                  </a:lnTo>
                  <a:lnTo>
                    <a:pt x="3574" y="63187"/>
                  </a:lnTo>
                  <a:lnTo>
                    <a:pt x="2374" y="65831"/>
                  </a:lnTo>
                  <a:lnTo>
                    <a:pt x="1573" y="68441"/>
                  </a:lnTo>
                  <a:lnTo>
                    <a:pt x="1040" y="71028"/>
                  </a:lnTo>
                  <a:lnTo>
                    <a:pt x="684" y="73599"/>
                  </a:lnTo>
                  <a:lnTo>
                    <a:pt x="447" y="76159"/>
                  </a:lnTo>
                  <a:lnTo>
                    <a:pt x="289" y="78712"/>
                  </a:lnTo>
                  <a:lnTo>
                    <a:pt x="112" y="83807"/>
                  </a:lnTo>
                  <a:lnTo>
                    <a:pt x="0" y="93978"/>
                  </a:lnTo>
                  <a:lnTo>
                    <a:pt x="837" y="95672"/>
                  </a:lnTo>
                  <a:lnTo>
                    <a:pt x="2242" y="96802"/>
                  </a:lnTo>
                  <a:lnTo>
                    <a:pt x="6535" y="98614"/>
                  </a:lnTo>
                  <a:lnTo>
                    <a:pt x="15369" y="102974"/>
                  </a:lnTo>
                  <a:lnTo>
                    <a:pt x="19550" y="104209"/>
                  </a:lnTo>
                  <a:lnTo>
                    <a:pt x="24031" y="105033"/>
                  </a:lnTo>
                  <a:lnTo>
                    <a:pt x="28711" y="105582"/>
                  </a:lnTo>
                  <a:lnTo>
                    <a:pt x="33525" y="105948"/>
                  </a:lnTo>
                  <a:lnTo>
                    <a:pt x="38427" y="106192"/>
                  </a:lnTo>
                  <a:lnTo>
                    <a:pt x="43389" y="106355"/>
                  </a:lnTo>
                  <a:lnTo>
                    <a:pt x="48390" y="105617"/>
                  </a:lnTo>
                  <a:lnTo>
                    <a:pt x="53417" y="104278"/>
                  </a:lnTo>
                  <a:lnTo>
                    <a:pt x="58462" y="102539"/>
                  </a:lnTo>
                  <a:lnTo>
                    <a:pt x="64366" y="101379"/>
                  </a:lnTo>
                  <a:lnTo>
                    <a:pt x="70841" y="100606"/>
                  </a:lnTo>
                  <a:lnTo>
                    <a:pt x="77698" y="100091"/>
                  </a:lnTo>
                  <a:lnTo>
                    <a:pt x="84810" y="99748"/>
                  </a:lnTo>
                  <a:lnTo>
                    <a:pt x="99484" y="99366"/>
                  </a:lnTo>
                  <a:lnTo>
                    <a:pt x="106107" y="98417"/>
                  </a:lnTo>
                  <a:lnTo>
                    <a:pt x="112215" y="96938"/>
                  </a:lnTo>
                  <a:lnTo>
                    <a:pt x="117981" y="95106"/>
                  </a:lnTo>
                  <a:lnTo>
                    <a:pt x="124365" y="93884"/>
                  </a:lnTo>
                  <a:lnTo>
                    <a:pt x="131160" y="93069"/>
                  </a:lnTo>
                  <a:lnTo>
                    <a:pt x="143791" y="92165"/>
                  </a:lnTo>
                  <a:lnTo>
                    <a:pt x="152227" y="91762"/>
                  </a:lnTo>
                  <a:lnTo>
                    <a:pt x="156509" y="90808"/>
                  </a:lnTo>
                  <a:lnTo>
                    <a:pt x="161057" y="89325"/>
                  </a:lnTo>
                  <a:lnTo>
                    <a:pt x="172432" y="84907"/>
                  </a:lnTo>
                  <a:lnTo>
                    <a:pt x="176245" y="84304"/>
                  </a:lnTo>
                  <a:lnTo>
                    <a:pt x="182852" y="838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MARTInkAnnotation38"/>
            <p:cNvSpPr/>
            <p:nvPr/>
          </p:nvSpPr>
          <p:spPr>
            <a:xfrm>
              <a:off x="2416320" y="4259880"/>
              <a:ext cx="15120" cy="380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148" h="381001">
                  <a:moveTo>
                    <a:pt x="15147" y="0"/>
                  </a:moveTo>
                  <a:lnTo>
                    <a:pt x="15147" y="10606"/>
                  </a:lnTo>
                  <a:lnTo>
                    <a:pt x="14300" y="12997"/>
                  </a:lnTo>
                  <a:lnTo>
                    <a:pt x="12889" y="15438"/>
                  </a:lnTo>
                  <a:lnTo>
                    <a:pt x="11102" y="17912"/>
                  </a:lnTo>
                  <a:lnTo>
                    <a:pt x="9910" y="21254"/>
                  </a:lnTo>
                  <a:lnTo>
                    <a:pt x="9116" y="25176"/>
                  </a:lnTo>
                  <a:lnTo>
                    <a:pt x="8586" y="29484"/>
                  </a:lnTo>
                  <a:lnTo>
                    <a:pt x="8233" y="34049"/>
                  </a:lnTo>
                  <a:lnTo>
                    <a:pt x="7841" y="43637"/>
                  </a:lnTo>
                  <a:lnTo>
                    <a:pt x="7589" y="69674"/>
                  </a:lnTo>
                  <a:lnTo>
                    <a:pt x="7535" y="106824"/>
                  </a:lnTo>
                  <a:lnTo>
                    <a:pt x="6686" y="113549"/>
                  </a:lnTo>
                  <a:lnTo>
                    <a:pt x="5273" y="119727"/>
                  </a:lnTo>
                  <a:lnTo>
                    <a:pt x="3484" y="125538"/>
                  </a:lnTo>
                  <a:lnTo>
                    <a:pt x="2292" y="131952"/>
                  </a:lnTo>
                  <a:lnTo>
                    <a:pt x="1497" y="138768"/>
                  </a:lnTo>
                  <a:lnTo>
                    <a:pt x="967" y="145852"/>
                  </a:lnTo>
                  <a:lnTo>
                    <a:pt x="614" y="153961"/>
                  </a:lnTo>
                  <a:lnTo>
                    <a:pt x="222" y="172003"/>
                  </a:lnTo>
                  <a:lnTo>
                    <a:pt x="0" y="197155"/>
                  </a:lnTo>
                  <a:lnTo>
                    <a:pt x="816" y="205096"/>
                  </a:lnTo>
                  <a:lnTo>
                    <a:pt x="2207" y="212931"/>
                  </a:lnTo>
                  <a:lnTo>
                    <a:pt x="3980" y="220694"/>
                  </a:lnTo>
                  <a:lnTo>
                    <a:pt x="5162" y="229256"/>
                  </a:lnTo>
                  <a:lnTo>
                    <a:pt x="5951" y="238350"/>
                  </a:lnTo>
                  <a:lnTo>
                    <a:pt x="6476" y="247801"/>
                  </a:lnTo>
                  <a:lnTo>
                    <a:pt x="7060" y="265074"/>
                  </a:lnTo>
                  <a:lnTo>
                    <a:pt x="7435" y="296859"/>
                  </a:lnTo>
                  <a:lnTo>
                    <a:pt x="7527" y="3810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-8280" y="0"/>
            <a:ext cx="57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3.1: Solving Two Step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52280" y="609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g. 122 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#5 – 11, 14-18, 22, 44, 48, 49,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20:30:03Z</dcterms:created>
  <dc:creator>Pfeifer</dc:creator>
  <dc:description/>
  <dc:language>en-US</dc:language>
  <cp:lastModifiedBy>m</cp:lastModifiedBy>
  <dcterms:modified xsi:type="dcterms:W3CDTF">2012-01-20T21:37:41Z</dcterms:modified>
  <cp:revision>43</cp:revision>
  <dc:subject/>
  <dc:title>Slide 1</dc:title>
</cp:coreProperties>
</file>